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wmf" ContentType="image/x-wmf"/>
  <Override PartName="/ppt/media/image11.jpeg" ContentType="image/jpeg"/>
  <Override PartName="/ppt/media/image7.wmf" ContentType="image/x-wmf"/>
  <Override PartName="/ppt/media/image20.png" ContentType="image/png"/>
  <Override PartName="/ppt/media/image2.jpeg" ContentType="image/jpeg"/>
  <Override PartName="/ppt/media/image19.jpeg" ContentType="image/jpeg"/>
  <Override PartName="/ppt/media/image18.wmf" ContentType="image/x-wmf"/>
  <Override PartName="/ppt/media/image1.png" ContentType="image/png"/>
  <Override PartName="/ppt/media/image3.jpeg" ContentType="image/jpeg"/>
  <Override PartName="/ppt/media/image17.png" ContentType="image/png"/>
  <Override PartName="/ppt/media/image16.wmf" ContentType="image/x-wmf"/>
  <Override PartName="/ppt/media/image15.wmf" ContentType="image/x-wmf"/>
  <Override PartName="/ppt/media/image4.jpeg" ContentType="image/jpeg"/>
  <Override PartName="/ppt/media/image10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B16F54-253A-4A04-835F-F616DBCB0E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05C4-21D1-4B71-9C4B-2FB14F5466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6CFBF-F9E9-4907-8C84-B8B6F4B12B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638AE-1ED9-442B-B4DB-736247B666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43A5C-664F-402B-AF77-BBFD0E137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7C8C87-5B06-4661-8FAF-B89788E8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A9358-1A1D-466A-8399-4FF8EDBBB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3605210-636A-4CA5-9F19-B86CCF69D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6C64114-E382-4C9C-AF46-181DD6E07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F5957C-3FE3-4416-A1CC-5B964E5FE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0FBB3-5ECA-41F1-9568-3DB009896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17B2A2-8E15-4870-956D-8ADD3A3A10F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270FD5-5AF7-48D0-AC19-AA0EEBC5D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569CBE-B2C3-4196-A402-97853C81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A723A4-B172-4B53-865B-49A2FC932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F5C656-F3F0-4154-B361-D536A8936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2766A4-A74F-478C-8F71-6E9C81413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900461-0303-411C-AE4B-7128086CAFD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B00CF-8326-4E1B-969F-758088812C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96040-1273-4C59-8165-2D6427D4BB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001E4-EE85-460B-A112-7DBEB2C6BC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EBB41-7419-41D4-AFA0-1FD8CBD7DEB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30422-713C-47BA-B472-F54B8ACACB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E097B-EED3-4871-9A64-7A708307B1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75000"/>
              <a:buFont typeface="CommonBullets" charset="2"/>
              <a:buChar char="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CommonBullets" charset="2"/>
              <a:buChar char="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480060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69CD3-469E-4014-8EAA-07B10E0A47C0}" type="slidenum">
              <a:rPr b="1" lang="en-US" sz="1400" spc="-1" strike="noStrike">
                <a:solidFill>
                  <a:srgbClr val="ffff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6019920" y="5702400"/>
            <a:ext cx="2938320" cy="115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Click to edit the title text format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7F0A7-3E24-4C59-B41C-045A935CC1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367240" y="556272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00"/>
              </a:buClr>
              <a:buFont typeface="CommonBullets" charset="2"/>
              <a:buChar char="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00"/>
              </a:buClr>
              <a:buSzPct val="50000"/>
              <a:buFont typeface="CommonBullets" charset="2"/>
              <a:buChar char="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CommonBullets" charset="2"/>
              <a:buChar char="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267080" y="6267600"/>
            <a:ext cx="487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</a:rPr>
              <a:t>Copyright </a:t>
            </a: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© 2003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General Conference Corporation SDAs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Produced by the General Conference Health Ministries Department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All rights reserved</a:t>
            </a:r>
            <a:endParaRPr b="0" lang="en-US" sz="8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7C4649-E20D-4DEC-B611-BEFB33360D91}" type="slidenum">
              <a:t>1</a:t>
            </a:fld>
          </a:p>
        </p:txBody>
      </p:sp>
    </p:spTree>
  </p:cSld>
  <p:transition>
    <p:split dir="in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762120"/>
            <a:ext cx="9144000" cy="405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Фиктивные лечебные травяные с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Бесполезные минеральные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добавки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Специальные диет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Магнитные или электрические целительные приборы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Пустые чёрные ящики и т.д.</a:t>
            </a: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00"/>
              </a:buClr>
              <a:buSzPct val="75000"/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ecff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Л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-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–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400"/>
            </a:b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фактор легковерия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715000" y="6391440"/>
            <a:ext cx="3352680" cy="457200"/>
            <a:chOff x="5715000" y="6391440"/>
            <a:chExt cx="3352680" cy="457200"/>
          </a:xfrm>
        </p:grpSpPr>
        <p:sp>
          <p:nvSpPr>
            <p:cNvPr id="143" name=""/>
            <p:cNvSpPr/>
            <p:nvPr/>
          </p:nvSpPr>
          <p:spPr>
            <a:xfrm>
              <a:off x="571500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16256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9AF19814-0688-483F-BE4B-DE74A4A96E56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4191120"/>
            <a:ext cx="2590560" cy="24606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1992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3546E-B881-4C8E-84CC-F03DF700E53A}" type="slidenum">
              <a:t>10</a:t>
            </a:fld>
          </a:p>
        </p:txBody>
      </p:sp>
    </p:spTree>
  </p:cSld>
  <p:transition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1295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Одновременно просвещенное </a:t>
            </a:r>
            <a:br>
              <a:rPr sz="4000"/>
            </a:br>
            <a:r>
              <a:rPr b="0" lang="ru-RU" sz="4000" spc="-1" strike="noStrike">
                <a:solidFill>
                  <a:srgbClr val="ccecff"/>
                </a:solidFill>
                <a:latin typeface="Tahoma"/>
              </a:rPr>
              <a:t>и легковерное поколение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5715000" y="6400800"/>
            <a:ext cx="3352680" cy="457200"/>
            <a:chOff x="5715000" y="6400800"/>
            <a:chExt cx="3352680" cy="457200"/>
          </a:xfrm>
        </p:grpSpPr>
        <p:sp>
          <p:nvSpPr>
            <p:cNvPr id="149" name=""/>
            <p:cNvSpPr/>
            <p:nvPr/>
          </p:nvSpPr>
          <p:spPr>
            <a:xfrm>
              <a:off x="571500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16256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98BBB7A-78FB-4C85-A1DE-4022FC0EBB91}" type="slidenum">
                <a:rPr b="1" lang="en-US" sz="1400" spc="-1" strike="noStrike">
                  <a:solidFill>
                    <a:srgbClr val="ffffff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990720" y="19051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… </a:t>
            </a: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мы тратим большие деньги на косметику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которая не делает нас моложе,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cecff"/>
                </a:solidFill>
                <a:latin typeface="Times New Roman"/>
              </a:rPr>
              <a:t>на лекарства, от которых нет никаких результатов, мы лечимся у докторов, которые не имеют медицинского диплома…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52D7BA-BC0E-47DC-A7D4-BAB15470B200}" type="slidenum">
              <a:t>11</a:t>
            </a:fld>
          </a:p>
        </p:txBody>
      </p:sp>
    </p:spTree>
  </p:cSld>
  <p:transition>
    <p:split dir="in" orient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>
            <a:lum bright="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2176560" y="990720"/>
            <a:ext cx="1839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4419720"/>
            <a:ext cx="9448920" cy="1556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Вера в Бога – </a:t>
            </a:r>
            <a:br>
              <a:rPr sz="4800"/>
            </a:br>
            <a:r>
              <a:rPr b="1" lang="ru-RU" sz="4800" spc="-1" strike="noStrike">
                <a:solidFill>
                  <a:srgbClr val="ffff00"/>
                </a:solidFill>
                <a:latin typeface="Arial"/>
              </a:rPr>
              <a:t>укрепляет наше здоровье</a:t>
            </a:r>
            <a:endParaRPr b="0" lang="en-US" sz="4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562720" y="64008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6129360" y="585468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852CC3-5EC8-449C-9CDA-A8ED467884B6}" type="slidenum">
              <a:t>12</a:t>
            </a:fld>
          </a:p>
        </p:txBody>
      </p:sp>
    </p:spTree>
  </p:cSld>
  <p:transition>
    <p:split dir="in" orient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922320" y="969840"/>
            <a:ext cx="7407360" cy="51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cc"/>
                </a:solidFill>
                <a:latin typeface="Times New Roman"/>
              </a:rPr>
              <a:t>    </a:t>
            </a: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За тридцать лет я пролечил немало пациентов. Все мои пациенты заболели, потому что они потеряли то, что живые религии каждой эпохи давали своим последователям, и никто из них            по-настоящему не выздоровел                до тех пор, пока вновь не обрели свое религиозное мировоззрение.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Карл Гюстав Юнг,  швейцарский психиатр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0ADB-E959-444E-9B0C-BC1E3239C82C}" type="slidenum">
              <a:t>13</a:t>
            </a:fld>
          </a:p>
        </p:txBody>
      </p:sp>
    </p:spTree>
  </p:cSld>
  <p:transition>
    <p:split dir="in" orient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3449520" y="4573440"/>
            <a:ext cx="1771920" cy="1812960"/>
          </a:xfrm>
          <a:prstGeom prst="rect">
            <a:avLst/>
          </a:prstGeom>
          <a:ln w="0">
            <a:noFill/>
          </a:ln>
        </p:spPr>
      </p:pic>
      <p:grpSp>
        <p:nvGrpSpPr>
          <p:cNvPr id="160" name=""/>
          <p:cNvGrpSpPr/>
          <p:nvPr/>
        </p:nvGrpSpPr>
        <p:grpSpPr>
          <a:xfrm>
            <a:off x="6019920" y="2971800"/>
            <a:ext cx="2133360" cy="2627280"/>
            <a:chOff x="6019920" y="2971800"/>
            <a:chExt cx="2133360" cy="2627280"/>
          </a:xfrm>
        </p:grpSpPr>
        <p:sp>
          <p:nvSpPr>
            <p:cNvPr id="161" name=""/>
            <p:cNvSpPr/>
            <p:nvPr/>
          </p:nvSpPr>
          <p:spPr>
            <a:xfrm flipH="1">
              <a:off x="6059520" y="4694400"/>
              <a:ext cx="1603440" cy="89064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6059520" y="4870440"/>
              <a:ext cx="91296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6781680" y="506880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6581880" y="507204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366960" y="507852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172200" y="5081760"/>
              <a:ext cx="8424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6972120" y="4975200"/>
              <a:ext cx="453960" cy="60984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flipV="1">
              <a:off x="6970680" y="4935600"/>
              <a:ext cx="1800" cy="649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6059520" y="539604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6059160" y="4981680"/>
              <a:ext cx="1771560" cy="60336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7277040" y="4573800"/>
              <a:ext cx="642960" cy="35532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7277040" y="4573800"/>
              <a:ext cx="287280" cy="35532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7562880" y="457380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7276680" y="4611600"/>
              <a:ext cx="14940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6019920" y="472284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 flipV="1">
              <a:off x="6958080" y="4913280"/>
              <a:ext cx="144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021360" y="4942080"/>
              <a:ext cx="75744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6021360" y="4694400"/>
              <a:ext cx="142416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6019920" y="468000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6571800" y="4716360"/>
              <a:ext cx="80820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7228080" y="479268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7227720" y="4967280"/>
              <a:ext cx="23940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7227720" y="496728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466040" y="494352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7226280" y="543420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7197840" y="4762440"/>
              <a:ext cx="95544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7200720" y="4746600"/>
              <a:ext cx="95076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7201080" y="489096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7199280" y="4950000"/>
              <a:ext cx="180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 flipV="1">
              <a:off x="7453440" y="4923000"/>
              <a:ext cx="144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7197840" y="474660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7381440" y="4757760"/>
              <a:ext cx="430200" cy="17640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7237440" y="455760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7523280" y="517356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7974000" y="5165640"/>
              <a:ext cx="9216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7689960" y="5248440"/>
              <a:ext cx="241200" cy="33660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7807320" y="524664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7790040" y="5419800"/>
              <a:ext cx="144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7827840" y="541836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7685280" y="497700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7870680" y="497376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7772040" y="493236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7435440" y="3178080"/>
              <a:ext cx="28908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7588080" y="3178080"/>
              <a:ext cx="3636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 flipH="1">
              <a:off x="7435800" y="317808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7484760" y="317340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7435440" y="317808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7435440" y="386892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7459560" y="389736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7632720" y="389736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7459200" y="389880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7496280" y="3900600"/>
              <a:ext cx="144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7459560" y="3897360"/>
              <a:ext cx="16848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>
              <a:off x="7486200" y="3787920"/>
              <a:ext cx="19548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>
              <a:off x="7376760" y="396252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763596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7376760" y="3962520"/>
              <a:ext cx="14292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7375320" y="3994200"/>
              <a:ext cx="42516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7493040" y="396252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7405560" y="4019760"/>
              <a:ext cx="176400" cy="24588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505640" y="4021200"/>
              <a:ext cx="180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7405200" y="4019760"/>
              <a:ext cx="366840" cy="24588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7621560" y="4022640"/>
              <a:ext cx="180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7546680" y="4046760"/>
              <a:ext cx="34920" cy="15552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7434000" y="406080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7672320" y="4062600"/>
              <a:ext cx="5256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7316640" y="422604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623720" y="4226040"/>
              <a:ext cx="2988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7316640" y="4226040"/>
              <a:ext cx="30672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7464600" y="422604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315200" y="422604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315200" y="428796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7277040" y="4338720"/>
              <a:ext cx="61776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7276680" y="434016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7277040" y="4348080"/>
              <a:ext cx="6840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7494120" y="434016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7545240" y="433548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flipH="1">
              <a:off x="7546680" y="436392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7237440" y="455148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7238880" y="4551480"/>
              <a:ext cx="33048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 flipV="1">
              <a:off x="7567560" y="4551120"/>
              <a:ext cx="180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7685280" y="437040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7707240" y="443232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7746480" y="4432320"/>
              <a:ext cx="3204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7364160" y="4376880"/>
              <a:ext cx="106200" cy="12708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7378200" y="443376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7415280" y="4435560"/>
              <a:ext cx="33120" cy="4140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 flipH="1">
              <a:off x="7689600" y="5538960"/>
              <a:ext cx="81000" cy="5400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 flipH="1">
              <a:off x="7689960" y="5527800"/>
              <a:ext cx="31248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 flipV="1">
              <a:off x="7764840" y="5558040"/>
              <a:ext cx="237960" cy="108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734600" y="5551560"/>
              <a:ext cx="23508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V="1">
              <a:off x="7734240" y="5532120"/>
              <a:ext cx="23040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523280" y="297180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532280" y="2973600"/>
              <a:ext cx="96840" cy="18864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540200" y="3143160"/>
              <a:ext cx="8748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567560" y="3154320"/>
              <a:ext cx="52560" cy="3996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377120" y="396252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37440" y="4551480"/>
              <a:ext cx="33192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261" name=""/>
          <p:cNvSpPr/>
          <p:nvPr/>
        </p:nvSpPr>
        <p:spPr>
          <a:xfrm>
            <a:off x="1143000" y="903240"/>
            <a:ext cx="657864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сследование с целью выяснить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как религиозные обыча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ли отсутствие таковых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влияют на здоровье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Доктор Кеннет Ф. Ферраро,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врач – социолог, </a:t>
            </a:r>
            <a:br>
              <a:rPr sz="2000"/>
            </a:b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Университет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Purdue</a:t>
            </a: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4E86F-C42B-4A5C-8703-E8D6852A1D81}" type="slidenum">
              <a:t>14</a:t>
            </a:fld>
          </a:p>
        </p:txBody>
      </p:sp>
    </p:spTree>
  </p:cSld>
  <p:transition>
    <p:randomBa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4191120" y="5045040"/>
            <a:ext cx="1771560" cy="1812960"/>
          </a:xfrm>
          <a:prstGeom prst="rect">
            <a:avLst/>
          </a:prstGeom>
          <a:ln w="0">
            <a:noFill/>
          </a:ln>
        </p:spPr>
      </p:pic>
      <p:grpSp>
        <p:nvGrpSpPr>
          <p:cNvPr id="263" name=""/>
          <p:cNvGrpSpPr/>
          <p:nvPr/>
        </p:nvGrpSpPr>
        <p:grpSpPr>
          <a:xfrm>
            <a:off x="6324120" y="3124080"/>
            <a:ext cx="2133720" cy="2627280"/>
            <a:chOff x="6324120" y="3124080"/>
            <a:chExt cx="2133720" cy="2627280"/>
          </a:xfrm>
        </p:grpSpPr>
        <p:sp>
          <p:nvSpPr>
            <p:cNvPr id="264" name=""/>
            <p:cNvSpPr/>
            <p:nvPr/>
          </p:nvSpPr>
          <p:spPr>
            <a:xfrm flipH="1">
              <a:off x="6363720" y="4846680"/>
              <a:ext cx="1603080" cy="890280"/>
            </a:xfrm>
            <a:custGeom>
              <a:avLst/>
              <a:gdLst/>
              <a:ahLst/>
              <a:rect l="l" t="t" r="r" b="b"/>
              <a:pathLst>
                <a:path w="3030" h="1684">
                  <a:moveTo>
                    <a:pt x="3030" y="543"/>
                  </a:moveTo>
                  <a:lnTo>
                    <a:pt x="3030" y="1470"/>
                  </a:lnTo>
                  <a:lnTo>
                    <a:pt x="1310" y="1684"/>
                  </a:lnTo>
                  <a:lnTo>
                    <a:pt x="510" y="1636"/>
                  </a:lnTo>
                  <a:lnTo>
                    <a:pt x="0" y="0"/>
                  </a:lnTo>
                  <a:lnTo>
                    <a:pt x="3030" y="54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63720" y="5022720"/>
              <a:ext cx="912600" cy="658800"/>
            </a:xfrm>
            <a:custGeom>
              <a:avLst/>
              <a:gdLst/>
              <a:ahLst/>
              <a:rect l="l" t="t" r="r" b="b"/>
              <a:pathLst>
                <a:path w="1726" h="1245">
                  <a:moveTo>
                    <a:pt x="1726" y="211"/>
                  </a:moveTo>
                  <a:lnTo>
                    <a:pt x="1726" y="1138"/>
                  </a:lnTo>
                  <a:lnTo>
                    <a:pt x="868" y="1245"/>
                  </a:lnTo>
                  <a:lnTo>
                    <a:pt x="674" y="1162"/>
                  </a:lnTo>
                  <a:lnTo>
                    <a:pt x="588" y="1108"/>
                  </a:lnTo>
                  <a:lnTo>
                    <a:pt x="507" y="1048"/>
                  </a:lnTo>
                  <a:lnTo>
                    <a:pt x="434" y="980"/>
                  </a:lnTo>
                  <a:lnTo>
                    <a:pt x="350" y="887"/>
                  </a:lnTo>
                  <a:lnTo>
                    <a:pt x="110" y="546"/>
                  </a:lnTo>
                  <a:lnTo>
                    <a:pt x="80" y="508"/>
                  </a:lnTo>
                  <a:lnTo>
                    <a:pt x="48" y="468"/>
                  </a:lnTo>
                  <a:lnTo>
                    <a:pt x="0" y="429"/>
                  </a:lnTo>
                  <a:lnTo>
                    <a:pt x="5" y="0"/>
                  </a:lnTo>
                  <a:lnTo>
                    <a:pt x="1726" y="211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086240" y="5221080"/>
              <a:ext cx="100080" cy="319320"/>
            </a:xfrm>
            <a:custGeom>
              <a:avLst/>
              <a:gdLst/>
              <a:ahLst/>
              <a:rect l="l" t="t" r="r" b="b"/>
              <a:pathLst>
                <a:path w="189" h="603">
                  <a:moveTo>
                    <a:pt x="189" y="593"/>
                  </a:moveTo>
                  <a:lnTo>
                    <a:pt x="0" y="603"/>
                  </a:lnTo>
                  <a:lnTo>
                    <a:pt x="0" y="91"/>
                  </a:lnTo>
                  <a:lnTo>
                    <a:pt x="1" y="74"/>
                  </a:lnTo>
                  <a:lnTo>
                    <a:pt x="4" y="61"/>
                  </a:lnTo>
                  <a:lnTo>
                    <a:pt x="7" y="46"/>
                  </a:lnTo>
                  <a:lnTo>
                    <a:pt x="13" y="35"/>
                  </a:lnTo>
                  <a:lnTo>
                    <a:pt x="28" y="21"/>
                  </a:lnTo>
                  <a:lnTo>
                    <a:pt x="37" y="12"/>
                  </a:lnTo>
                  <a:lnTo>
                    <a:pt x="54" y="5"/>
                  </a:lnTo>
                  <a:lnTo>
                    <a:pt x="72" y="2"/>
                  </a:lnTo>
                  <a:lnTo>
                    <a:pt x="89" y="0"/>
                  </a:lnTo>
                  <a:lnTo>
                    <a:pt x="109" y="2"/>
                  </a:lnTo>
                  <a:lnTo>
                    <a:pt x="128" y="4"/>
                  </a:lnTo>
                  <a:lnTo>
                    <a:pt x="142" y="8"/>
                  </a:lnTo>
                  <a:lnTo>
                    <a:pt x="158" y="15"/>
                  </a:lnTo>
                  <a:lnTo>
                    <a:pt x="170" y="25"/>
                  </a:lnTo>
                  <a:lnTo>
                    <a:pt x="180" y="42"/>
                  </a:lnTo>
                  <a:lnTo>
                    <a:pt x="186" y="58"/>
                  </a:lnTo>
                  <a:lnTo>
                    <a:pt x="188" y="76"/>
                  </a:lnTo>
                  <a:lnTo>
                    <a:pt x="189" y="92"/>
                  </a:lnTo>
                  <a:lnTo>
                    <a:pt x="189" y="593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6886080" y="5224320"/>
              <a:ext cx="92160" cy="306360"/>
            </a:xfrm>
            <a:custGeom>
              <a:avLst/>
              <a:gdLst/>
              <a:ahLst/>
              <a:rect l="l" t="t" r="r" b="b"/>
              <a:pathLst>
                <a:path w="174" h="579">
                  <a:moveTo>
                    <a:pt x="174" y="571"/>
                  </a:moveTo>
                  <a:lnTo>
                    <a:pt x="0" y="579"/>
                  </a:lnTo>
                  <a:lnTo>
                    <a:pt x="0" y="90"/>
                  </a:lnTo>
                  <a:lnTo>
                    <a:pt x="4" y="61"/>
                  </a:lnTo>
                  <a:lnTo>
                    <a:pt x="12" y="37"/>
                  </a:lnTo>
                  <a:lnTo>
                    <a:pt x="29" y="17"/>
                  </a:lnTo>
                  <a:lnTo>
                    <a:pt x="48" y="6"/>
                  </a:lnTo>
                  <a:lnTo>
                    <a:pt x="72" y="2"/>
                  </a:lnTo>
                  <a:lnTo>
                    <a:pt x="97" y="0"/>
                  </a:lnTo>
                  <a:lnTo>
                    <a:pt x="119" y="5"/>
                  </a:lnTo>
                  <a:lnTo>
                    <a:pt x="140" y="15"/>
                  </a:lnTo>
                  <a:lnTo>
                    <a:pt x="156" y="29"/>
                  </a:lnTo>
                  <a:lnTo>
                    <a:pt x="165" y="47"/>
                  </a:lnTo>
                  <a:lnTo>
                    <a:pt x="171" y="72"/>
                  </a:lnTo>
                  <a:lnTo>
                    <a:pt x="174" y="91"/>
                  </a:lnTo>
                  <a:lnTo>
                    <a:pt x="174" y="57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6671520" y="5230800"/>
              <a:ext cx="87480" cy="290520"/>
            </a:xfrm>
            <a:custGeom>
              <a:avLst/>
              <a:gdLst/>
              <a:ahLst/>
              <a:rect l="l" t="t" r="r" b="b"/>
              <a:pathLst>
                <a:path w="165" h="551">
                  <a:moveTo>
                    <a:pt x="165" y="545"/>
                  </a:moveTo>
                  <a:lnTo>
                    <a:pt x="1" y="551"/>
                  </a:lnTo>
                  <a:lnTo>
                    <a:pt x="0" y="78"/>
                  </a:lnTo>
                  <a:lnTo>
                    <a:pt x="1" y="61"/>
                  </a:lnTo>
                  <a:lnTo>
                    <a:pt x="11" y="37"/>
                  </a:lnTo>
                  <a:lnTo>
                    <a:pt x="25" y="19"/>
                  </a:lnTo>
                  <a:lnTo>
                    <a:pt x="43" y="7"/>
                  </a:lnTo>
                  <a:lnTo>
                    <a:pt x="65" y="2"/>
                  </a:lnTo>
                  <a:lnTo>
                    <a:pt x="94" y="0"/>
                  </a:lnTo>
                  <a:lnTo>
                    <a:pt x="117" y="5"/>
                  </a:lnTo>
                  <a:lnTo>
                    <a:pt x="139" y="14"/>
                  </a:lnTo>
                  <a:lnTo>
                    <a:pt x="152" y="32"/>
                  </a:lnTo>
                  <a:lnTo>
                    <a:pt x="163" y="54"/>
                  </a:lnTo>
                  <a:lnTo>
                    <a:pt x="165" y="69"/>
                  </a:lnTo>
                  <a:lnTo>
                    <a:pt x="165" y="54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6476400" y="5234040"/>
              <a:ext cx="83880" cy="277560"/>
            </a:xfrm>
            <a:custGeom>
              <a:avLst/>
              <a:gdLst/>
              <a:ahLst/>
              <a:rect l="l" t="t" r="r" b="b"/>
              <a:pathLst>
                <a:path w="157" h="525">
                  <a:moveTo>
                    <a:pt x="157" y="519"/>
                  </a:moveTo>
                  <a:lnTo>
                    <a:pt x="0" y="525"/>
                  </a:lnTo>
                  <a:lnTo>
                    <a:pt x="0" y="74"/>
                  </a:lnTo>
                  <a:lnTo>
                    <a:pt x="3" y="54"/>
                  </a:lnTo>
                  <a:lnTo>
                    <a:pt x="11" y="34"/>
                  </a:lnTo>
                  <a:lnTo>
                    <a:pt x="18" y="23"/>
                  </a:lnTo>
                  <a:lnTo>
                    <a:pt x="30" y="11"/>
                  </a:lnTo>
                  <a:lnTo>
                    <a:pt x="51" y="4"/>
                  </a:lnTo>
                  <a:lnTo>
                    <a:pt x="70" y="0"/>
                  </a:lnTo>
                  <a:lnTo>
                    <a:pt x="97" y="0"/>
                  </a:lnTo>
                  <a:lnTo>
                    <a:pt x="120" y="6"/>
                  </a:lnTo>
                  <a:lnTo>
                    <a:pt x="135" y="19"/>
                  </a:lnTo>
                  <a:lnTo>
                    <a:pt x="150" y="39"/>
                  </a:lnTo>
                  <a:lnTo>
                    <a:pt x="153" y="54"/>
                  </a:lnTo>
                  <a:lnTo>
                    <a:pt x="157" y="73"/>
                  </a:lnTo>
                  <a:lnTo>
                    <a:pt x="157" y="51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276320" y="5127480"/>
              <a:ext cx="453960" cy="609480"/>
            </a:xfrm>
            <a:custGeom>
              <a:avLst/>
              <a:gdLst/>
              <a:ahLst/>
              <a:rect l="l" t="t" r="r" b="b"/>
              <a:pathLst>
                <a:path w="856" h="1154">
                  <a:moveTo>
                    <a:pt x="356" y="0"/>
                  </a:moveTo>
                  <a:lnTo>
                    <a:pt x="856" y="898"/>
                  </a:lnTo>
                  <a:lnTo>
                    <a:pt x="856" y="1154"/>
                  </a:lnTo>
                  <a:lnTo>
                    <a:pt x="0" y="1102"/>
                  </a:lnTo>
                  <a:lnTo>
                    <a:pt x="35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 flipV="1">
              <a:off x="7275240" y="5087520"/>
              <a:ext cx="1440" cy="649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6364080" y="5548320"/>
              <a:ext cx="1434960" cy="68040"/>
            </a:xfrm>
            <a:custGeom>
              <a:avLst/>
              <a:gdLst/>
              <a:ahLst/>
              <a:rect l="l" t="t" r="r" b="b"/>
              <a:pathLst>
                <a:path w="2712" h="129">
                  <a:moveTo>
                    <a:pt x="2712" y="0"/>
                  </a:moveTo>
                  <a:lnTo>
                    <a:pt x="992" y="129"/>
                  </a:lnTo>
                  <a:lnTo>
                    <a:pt x="0" y="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363720" y="5133960"/>
              <a:ext cx="1771560" cy="603000"/>
            </a:xfrm>
            <a:custGeom>
              <a:avLst/>
              <a:gdLst/>
              <a:ahLst/>
              <a:rect l="l" t="t" r="r" b="b"/>
              <a:pathLst>
                <a:path w="3347" h="1141">
                  <a:moveTo>
                    <a:pt x="3347" y="0"/>
                  </a:moveTo>
                  <a:lnTo>
                    <a:pt x="3347" y="927"/>
                  </a:lnTo>
                  <a:lnTo>
                    <a:pt x="1627" y="1141"/>
                  </a:lnTo>
                  <a:lnTo>
                    <a:pt x="0" y="104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7581600" y="4725720"/>
              <a:ext cx="642960" cy="355680"/>
            </a:xfrm>
            <a:custGeom>
              <a:avLst/>
              <a:gdLst/>
              <a:ahLst/>
              <a:rect l="l" t="t" r="r" b="b"/>
              <a:pathLst>
                <a:path w="1217" h="672">
                  <a:moveTo>
                    <a:pt x="1217" y="72"/>
                  </a:moveTo>
                  <a:lnTo>
                    <a:pt x="1217" y="286"/>
                  </a:lnTo>
                  <a:lnTo>
                    <a:pt x="935" y="286"/>
                  </a:lnTo>
                  <a:lnTo>
                    <a:pt x="935" y="672"/>
                  </a:lnTo>
                  <a:lnTo>
                    <a:pt x="0" y="499"/>
                  </a:lnTo>
                  <a:lnTo>
                    <a:pt x="0" y="44"/>
                  </a:lnTo>
                  <a:lnTo>
                    <a:pt x="673" y="0"/>
                  </a:lnTo>
                  <a:lnTo>
                    <a:pt x="1217" y="7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H="1">
              <a:off x="7581600" y="4725720"/>
              <a:ext cx="287280" cy="355680"/>
            </a:xfrm>
            <a:custGeom>
              <a:avLst/>
              <a:gdLst/>
              <a:ahLst/>
              <a:rect l="l" t="t" r="r" b="b"/>
              <a:pathLst>
                <a:path w="544" h="672">
                  <a:moveTo>
                    <a:pt x="544" y="72"/>
                  </a:moveTo>
                  <a:lnTo>
                    <a:pt x="544" y="286"/>
                  </a:lnTo>
                  <a:lnTo>
                    <a:pt x="262" y="286"/>
                  </a:lnTo>
                  <a:lnTo>
                    <a:pt x="262" y="672"/>
                  </a:lnTo>
                  <a:lnTo>
                    <a:pt x="65" y="380"/>
                  </a:lnTo>
                  <a:lnTo>
                    <a:pt x="25" y="318"/>
                  </a:lnTo>
                  <a:lnTo>
                    <a:pt x="10" y="280"/>
                  </a:lnTo>
                  <a:lnTo>
                    <a:pt x="0" y="243"/>
                  </a:lnTo>
                  <a:lnTo>
                    <a:pt x="0" y="0"/>
                  </a:lnTo>
                  <a:lnTo>
                    <a:pt x="544" y="72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867440" y="4725720"/>
              <a:ext cx="1440" cy="3304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581600" y="4763880"/>
              <a:ext cx="149040" cy="317520"/>
            </a:xfrm>
            <a:custGeom>
              <a:avLst/>
              <a:gdLst/>
              <a:ahLst/>
              <a:rect l="l" t="t" r="r" b="b"/>
              <a:pathLst>
                <a:path w="282" h="600">
                  <a:moveTo>
                    <a:pt x="282" y="0"/>
                  </a:moveTo>
                  <a:lnTo>
                    <a:pt x="282" y="214"/>
                  </a:lnTo>
                  <a:lnTo>
                    <a:pt x="0" y="214"/>
                  </a:lnTo>
                  <a:lnTo>
                    <a:pt x="0" y="6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6324120" y="487512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0">
                  <a:moveTo>
                    <a:pt x="0" y="0"/>
                  </a:moveTo>
                  <a:lnTo>
                    <a:pt x="38" y="60"/>
                  </a:lnTo>
                  <a:lnTo>
                    <a:pt x="898" y="504"/>
                  </a:lnTo>
                  <a:lnTo>
                    <a:pt x="2625" y="560"/>
                  </a:lnTo>
                  <a:lnTo>
                    <a:pt x="2695" y="5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9">
                  <a:moveTo>
                    <a:pt x="2691" y="589"/>
                  </a:moveTo>
                  <a:lnTo>
                    <a:pt x="918" y="516"/>
                  </a:lnTo>
                  <a:lnTo>
                    <a:pt x="0" y="58"/>
                  </a:lnTo>
                  <a:lnTo>
                    <a:pt x="0" y="0"/>
                  </a:lnTo>
                  <a:lnTo>
                    <a:pt x="2691" y="534"/>
                  </a:lnTo>
                  <a:lnTo>
                    <a:pt x="2691" y="589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7262280" y="5065560"/>
              <a:ext cx="1800" cy="540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6325560" y="5094360"/>
              <a:ext cx="757080" cy="63360"/>
            </a:xfrm>
            <a:custGeom>
              <a:avLst/>
              <a:gdLst/>
              <a:ahLst/>
              <a:rect l="l" t="t" r="r" b="b"/>
              <a:pathLst>
                <a:path w="1432" h="120">
                  <a:moveTo>
                    <a:pt x="1432" y="65"/>
                  </a:moveTo>
                  <a:lnTo>
                    <a:pt x="1432" y="120"/>
                  </a:lnTo>
                  <a:lnTo>
                    <a:pt x="57" y="62"/>
                  </a:lnTo>
                  <a:lnTo>
                    <a:pt x="37" y="34"/>
                  </a:lnTo>
                  <a:lnTo>
                    <a:pt x="0" y="0"/>
                  </a:lnTo>
                  <a:lnTo>
                    <a:pt x="1432" y="6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6325560" y="4846680"/>
              <a:ext cx="1423800" cy="311040"/>
            </a:xfrm>
            <a:custGeom>
              <a:avLst/>
              <a:gdLst/>
              <a:ahLst/>
              <a:rect l="l" t="t" r="r" b="b"/>
              <a:pathLst>
                <a:path w="2691" h="588">
                  <a:moveTo>
                    <a:pt x="2691" y="588"/>
                  </a:moveTo>
                  <a:lnTo>
                    <a:pt x="918" y="517"/>
                  </a:lnTo>
                  <a:lnTo>
                    <a:pt x="0" y="59"/>
                  </a:lnTo>
                  <a:lnTo>
                    <a:pt x="0" y="0"/>
                  </a:lnTo>
                  <a:lnTo>
                    <a:pt x="2691" y="535"/>
                  </a:lnTo>
                  <a:lnTo>
                    <a:pt x="2691" y="588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6324120" y="4832280"/>
              <a:ext cx="1425600" cy="297000"/>
            </a:xfrm>
            <a:custGeom>
              <a:avLst/>
              <a:gdLst/>
              <a:ahLst/>
              <a:rect l="l" t="t" r="r" b="b"/>
              <a:pathLst>
                <a:path w="2695" h="562">
                  <a:moveTo>
                    <a:pt x="320" y="0"/>
                  </a:moveTo>
                  <a:lnTo>
                    <a:pt x="1873" y="170"/>
                  </a:lnTo>
                  <a:lnTo>
                    <a:pt x="2695" y="562"/>
                  </a:lnTo>
                  <a:lnTo>
                    <a:pt x="918" y="477"/>
                  </a:lnTo>
                  <a:lnTo>
                    <a:pt x="0" y="26"/>
                  </a:lnTo>
                  <a:lnTo>
                    <a:pt x="320" y="35"/>
                  </a:lnTo>
                  <a:lnTo>
                    <a:pt x="32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>
              <a:off x="6876720" y="4868640"/>
              <a:ext cx="807840" cy="228600"/>
            </a:xfrm>
            <a:custGeom>
              <a:avLst/>
              <a:gdLst/>
              <a:ahLst/>
              <a:rect l="l" t="t" r="r" b="b"/>
              <a:pathLst>
                <a:path w="1527" h="432">
                  <a:moveTo>
                    <a:pt x="0" y="0"/>
                  </a:moveTo>
                  <a:lnTo>
                    <a:pt x="797" y="393"/>
                  </a:lnTo>
                  <a:lnTo>
                    <a:pt x="1527" y="432"/>
                  </a:lnTo>
                  <a:lnTo>
                    <a:pt x="1393" y="366"/>
                  </a:lnTo>
                  <a:lnTo>
                    <a:pt x="1333" y="334"/>
                  </a:lnTo>
                  <a:lnTo>
                    <a:pt x="1265" y="317"/>
                  </a:lnTo>
                  <a:lnTo>
                    <a:pt x="1200" y="304"/>
                  </a:lnTo>
                  <a:lnTo>
                    <a:pt x="1129" y="293"/>
                  </a:lnTo>
                  <a:lnTo>
                    <a:pt x="940" y="271"/>
                  </a:lnTo>
                  <a:lnTo>
                    <a:pt x="819" y="259"/>
                  </a:lnTo>
                  <a:lnTo>
                    <a:pt x="726" y="240"/>
                  </a:lnTo>
                  <a:lnTo>
                    <a:pt x="629" y="207"/>
                  </a:lnTo>
                  <a:lnTo>
                    <a:pt x="575" y="188"/>
                  </a:lnTo>
                  <a:lnTo>
                    <a:pt x="243" y="53"/>
                  </a:lnTo>
                  <a:lnTo>
                    <a:pt x="174" y="28"/>
                  </a:lnTo>
                  <a:lnTo>
                    <a:pt x="96" y="12"/>
                  </a:lnTo>
                  <a:lnTo>
                    <a:pt x="43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>
              <a:off x="7532280" y="4944960"/>
              <a:ext cx="892080" cy="806400"/>
            </a:xfrm>
            <a:custGeom>
              <a:avLst/>
              <a:gdLst/>
              <a:ahLst/>
              <a:rect l="l" t="t" r="r" b="b"/>
              <a:pathLst>
                <a:path w="1686" h="1525">
                  <a:moveTo>
                    <a:pt x="1686" y="330"/>
                  </a:moveTo>
                  <a:lnTo>
                    <a:pt x="1686" y="1469"/>
                  </a:lnTo>
                  <a:lnTo>
                    <a:pt x="1238" y="1525"/>
                  </a:lnTo>
                  <a:lnTo>
                    <a:pt x="0" y="1449"/>
                  </a:lnTo>
                  <a:lnTo>
                    <a:pt x="2" y="344"/>
                  </a:lnTo>
                  <a:lnTo>
                    <a:pt x="563" y="0"/>
                  </a:lnTo>
                  <a:lnTo>
                    <a:pt x="1330" y="301"/>
                  </a:lnTo>
                  <a:lnTo>
                    <a:pt x="1686" y="3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7532280" y="5119560"/>
              <a:ext cx="239760" cy="609480"/>
            </a:xfrm>
            <a:custGeom>
              <a:avLst/>
              <a:gdLst/>
              <a:ahLst/>
              <a:rect l="l" t="t" r="r" b="b"/>
              <a:pathLst>
                <a:path w="454" h="1152">
                  <a:moveTo>
                    <a:pt x="454" y="0"/>
                  </a:moveTo>
                  <a:lnTo>
                    <a:pt x="454" y="1139"/>
                  </a:lnTo>
                  <a:lnTo>
                    <a:pt x="341" y="1152"/>
                  </a:lnTo>
                  <a:lnTo>
                    <a:pt x="303" y="1070"/>
                  </a:lnTo>
                  <a:lnTo>
                    <a:pt x="282" y="997"/>
                  </a:lnTo>
                  <a:lnTo>
                    <a:pt x="282" y="914"/>
                  </a:lnTo>
                  <a:lnTo>
                    <a:pt x="61" y="514"/>
                  </a:lnTo>
                  <a:lnTo>
                    <a:pt x="27" y="464"/>
                  </a:lnTo>
                  <a:lnTo>
                    <a:pt x="5" y="413"/>
                  </a:lnTo>
                  <a:lnTo>
                    <a:pt x="0" y="364"/>
                  </a:lnTo>
                  <a:lnTo>
                    <a:pt x="0" y="25"/>
                  </a:lnTo>
                  <a:lnTo>
                    <a:pt x="45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7531920" y="5119560"/>
              <a:ext cx="236520" cy="631800"/>
            </a:xfrm>
            <a:custGeom>
              <a:avLst/>
              <a:gdLst/>
              <a:ahLst/>
              <a:rect l="l" t="t" r="r" b="b"/>
              <a:pathLst>
                <a:path w="448" h="1195">
                  <a:moveTo>
                    <a:pt x="448" y="0"/>
                  </a:moveTo>
                  <a:lnTo>
                    <a:pt x="448" y="1139"/>
                  </a:lnTo>
                  <a:lnTo>
                    <a:pt x="0" y="119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7770600" y="5095800"/>
              <a:ext cx="1440" cy="6555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7530840" y="5586480"/>
              <a:ext cx="892080" cy="31680"/>
            </a:xfrm>
            <a:custGeom>
              <a:avLst/>
              <a:gdLst/>
              <a:ahLst/>
              <a:rect l="l" t="t" r="r" b="b"/>
              <a:pathLst>
                <a:path w="1687" h="60">
                  <a:moveTo>
                    <a:pt x="1687" y="30"/>
                  </a:moveTo>
                  <a:lnTo>
                    <a:pt x="1225" y="60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7501680" y="4914720"/>
              <a:ext cx="955800" cy="225360"/>
            </a:xfrm>
            <a:custGeom>
              <a:avLst/>
              <a:gdLst/>
              <a:ahLst/>
              <a:rect l="l" t="t" r="r" b="b"/>
              <a:pathLst>
                <a:path w="1806" h="426">
                  <a:moveTo>
                    <a:pt x="1806" y="401"/>
                  </a:moveTo>
                  <a:lnTo>
                    <a:pt x="1755" y="426"/>
                  </a:lnTo>
                  <a:lnTo>
                    <a:pt x="1296" y="414"/>
                  </a:lnTo>
                  <a:lnTo>
                    <a:pt x="599" y="93"/>
                  </a:lnTo>
                  <a:lnTo>
                    <a:pt x="66" y="401"/>
                  </a:lnTo>
                  <a:lnTo>
                    <a:pt x="0" y="381"/>
                  </a:lnTo>
                  <a:lnTo>
                    <a:pt x="29" y="340"/>
                  </a:lnTo>
                  <a:lnTo>
                    <a:pt x="591" y="0"/>
                  </a:lnTo>
                  <a:lnTo>
                    <a:pt x="1282" y="230"/>
                  </a:lnTo>
                  <a:lnTo>
                    <a:pt x="1806" y="40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7505280" y="4898880"/>
              <a:ext cx="951120" cy="227160"/>
            </a:xfrm>
            <a:custGeom>
              <a:avLst/>
              <a:gdLst/>
              <a:ahLst/>
              <a:rect l="l" t="t" r="r" b="b"/>
              <a:pathLst>
                <a:path w="1799" h="429">
                  <a:moveTo>
                    <a:pt x="1799" y="383"/>
                  </a:moveTo>
                  <a:lnTo>
                    <a:pt x="1799" y="429"/>
                  </a:lnTo>
                  <a:lnTo>
                    <a:pt x="1322" y="410"/>
                  </a:lnTo>
                  <a:lnTo>
                    <a:pt x="588" y="71"/>
                  </a:lnTo>
                  <a:lnTo>
                    <a:pt x="0" y="408"/>
                  </a:lnTo>
                  <a:lnTo>
                    <a:pt x="0" y="356"/>
                  </a:lnTo>
                  <a:lnTo>
                    <a:pt x="591" y="0"/>
                  </a:lnTo>
                  <a:lnTo>
                    <a:pt x="1799" y="38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7505280" y="5043240"/>
              <a:ext cx="225360" cy="82800"/>
            </a:xfrm>
            <a:custGeom>
              <a:avLst/>
              <a:gdLst/>
              <a:ahLst/>
              <a:rect l="l" t="t" r="r" b="b"/>
              <a:pathLst>
                <a:path w="426" h="156">
                  <a:moveTo>
                    <a:pt x="426" y="110"/>
                  </a:moveTo>
                  <a:lnTo>
                    <a:pt x="426" y="156"/>
                  </a:lnTo>
                  <a:lnTo>
                    <a:pt x="185" y="147"/>
                  </a:lnTo>
                  <a:lnTo>
                    <a:pt x="22" y="78"/>
                  </a:lnTo>
                  <a:lnTo>
                    <a:pt x="0" y="0"/>
                  </a:lnTo>
                  <a:lnTo>
                    <a:pt x="426" y="11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7503840" y="5102280"/>
              <a:ext cx="1440" cy="23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 flipV="1">
              <a:off x="7757640" y="5075280"/>
              <a:ext cx="1800" cy="3960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7502040" y="4898880"/>
              <a:ext cx="642960" cy="204840"/>
            </a:xfrm>
            <a:custGeom>
              <a:avLst/>
              <a:gdLst/>
              <a:ahLst/>
              <a:rect l="l" t="t" r="r" b="b"/>
              <a:pathLst>
                <a:path w="1215" h="387">
                  <a:moveTo>
                    <a:pt x="0" y="0"/>
                  </a:moveTo>
                  <a:lnTo>
                    <a:pt x="730" y="356"/>
                  </a:lnTo>
                  <a:lnTo>
                    <a:pt x="1215" y="387"/>
                  </a:lnTo>
                  <a:lnTo>
                    <a:pt x="777" y="147"/>
                  </a:lnTo>
                  <a:lnTo>
                    <a:pt x="523" y="129"/>
                  </a:lnTo>
                  <a:lnTo>
                    <a:pt x="23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7686000" y="4910040"/>
              <a:ext cx="430200" cy="176040"/>
            </a:xfrm>
            <a:custGeom>
              <a:avLst/>
              <a:gdLst/>
              <a:ahLst/>
              <a:rect l="l" t="t" r="r" b="b"/>
              <a:pathLst>
                <a:path w="813" h="331">
                  <a:moveTo>
                    <a:pt x="0" y="0"/>
                  </a:moveTo>
                  <a:lnTo>
                    <a:pt x="679" y="327"/>
                  </a:lnTo>
                  <a:lnTo>
                    <a:pt x="813" y="331"/>
                  </a:lnTo>
                  <a:lnTo>
                    <a:pt x="711" y="283"/>
                  </a:lnTo>
                  <a:lnTo>
                    <a:pt x="644" y="256"/>
                  </a:lnTo>
                  <a:lnTo>
                    <a:pt x="586" y="236"/>
                  </a:lnTo>
                  <a:lnTo>
                    <a:pt x="384" y="165"/>
                  </a:lnTo>
                  <a:lnTo>
                    <a:pt x="48" y="1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7542000" y="4709880"/>
              <a:ext cx="722160" cy="76320"/>
            </a:xfrm>
            <a:custGeom>
              <a:avLst/>
              <a:gdLst/>
              <a:ahLst/>
              <a:rect l="l" t="t" r="r" b="b"/>
              <a:pathLst>
                <a:path w="1365" h="143">
                  <a:moveTo>
                    <a:pt x="1294" y="143"/>
                  </a:moveTo>
                  <a:lnTo>
                    <a:pt x="739" y="86"/>
                  </a:lnTo>
                  <a:lnTo>
                    <a:pt x="73" y="116"/>
                  </a:lnTo>
                  <a:lnTo>
                    <a:pt x="0" y="58"/>
                  </a:lnTo>
                  <a:lnTo>
                    <a:pt x="747" y="0"/>
                  </a:lnTo>
                  <a:lnTo>
                    <a:pt x="1365" y="101"/>
                  </a:lnTo>
                  <a:lnTo>
                    <a:pt x="1294" y="143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7827480" y="5325840"/>
              <a:ext cx="100080" cy="289080"/>
            </a:xfrm>
            <a:custGeom>
              <a:avLst/>
              <a:gdLst/>
              <a:ahLst/>
              <a:rect l="l" t="t" r="r" b="b"/>
              <a:pathLst>
                <a:path w="188" h="547">
                  <a:moveTo>
                    <a:pt x="188" y="547"/>
                  </a:moveTo>
                  <a:lnTo>
                    <a:pt x="187" y="95"/>
                  </a:lnTo>
                  <a:lnTo>
                    <a:pt x="184" y="69"/>
                  </a:lnTo>
                  <a:lnTo>
                    <a:pt x="175" y="41"/>
                  </a:lnTo>
                  <a:lnTo>
                    <a:pt x="163" y="24"/>
                  </a:lnTo>
                  <a:lnTo>
                    <a:pt x="144" y="11"/>
                  </a:lnTo>
                  <a:lnTo>
                    <a:pt x="125" y="3"/>
                  </a:lnTo>
                  <a:lnTo>
                    <a:pt x="93" y="0"/>
                  </a:lnTo>
                  <a:lnTo>
                    <a:pt x="65" y="3"/>
                  </a:lnTo>
                  <a:lnTo>
                    <a:pt x="35" y="14"/>
                  </a:lnTo>
                  <a:lnTo>
                    <a:pt x="21" y="26"/>
                  </a:lnTo>
                  <a:lnTo>
                    <a:pt x="7" y="49"/>
                  </a:lnTo>
                  <a:lnTo>
                    <a:pt x="1" y="73"/>
                  </a:lnTo>
                  <a:lnTo>
                    <a:pt x="1" y="95"/>
                  </a:lnTo>
                  <a:lnTo>
                    <a:pt x="0" y="536"/>
                  </a:lnTo>
                  <a:lnTo>
                    <a:pt x="188" y="547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278200" y="5317920"/>
              <a:ext cx="91800" cy="274680"/>
            </a:xfrm>
            <a:custGeom>
              <a:avLst/>
              <a:gdLst/>
              <a:ahLst/>
              <a:rect l="l" t="t" r="r" b="b"/>
              <a:pathLst>
                <a:path w="175" h="520">
                  <a:moveTo>
                    <a:pt x="175" y="520"/>
                  </a:moveTo>
                  <a:lnTo>
                    <a:pt x="175" y="90"/>
                  </a:lnTo>
                  <a:lnTo>
                    <a:pt x="171" y="66"/>
                  </a:lnTo>
                  <a:lnTo>
                    <a:pt x="165" y="43"/>
                  </a:lnTo>
                  <a:lnTo>
                    <a:pt x="152" y="23"/>
                  </a:lnTo>
                  <a:lnTo>
                    <a:pt x="138" y="11"/>
                  </a:lnTo>
                  <a:lnTo>
                    <a:pt x="116" y="2"/>
                  </a:lnTo>
                  <a:lnTo>
                    <a:pt x="90" y="0"/>
                  </a:lnTo>
                  <a:lnTo>
                    <a:pt x="64" y="3"/>
                  </a:lnTo>
                  <a:lnTo>
                    <a:pt x="39" y="11"/>
                  </a:lnTo>
                  <a:lnTo>
                    <a:pt x="23" y="23"/>
                  </a:lnTo>
                  <a:lnTo>
                    <a:pt x="10" y="39"/>
                  </a:lnTo>
                  <a:lnTo>
                    <a:pt x="2" y="69"/>
                  </a:lnTo>
                  <a:lnTo>
                    <a:pt x="0" y="90"/>
                  </a:lnTo>
                  <a:lnTo>
                    <a:pt x="0" y="512"/>
                  </a:lnTo>
                  <a:lnTo>
                    <a:pt x="175" y="52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7993800" y="5400720"/>
              <a:ext cx="241560" cy="336240"/>
            </a:xfrm>
            <a:custGeom>
              <a:avLst/>
              <a:gdLst/>
              <a:ahLst/>
              <a:rect l="l" t="t" r="r" b="b"/>
              <a:pathLst>
                <a:path w="458" h="638">
                  <a:moveTo>
                    <a:pt x="458" y="638"/>
                  </a:moveTo>
                  <a:lnTo>
                    <a:pt x="458" y="206"/>
                  </a:lnTo>
                  <a:lnTo>
                    <a:pt x="453" y="168"/>
                  </a:lnTo>
                  <a:lnTo>
                    <a:pt x="446" y="131"/>
                  </a:lnTo>
                  <a:lnTo>
                    <a:pt x="430" y="94"/>
                  </a:lnTo>
                  <a:lnTo>
                    <a:pt x="409" y="65"/>
                  </a:lnTo>
                  <a:lnTo>
                    <a:pt x="376" y="39"/>
                  </a:lnTo>
                  <a:lnTo>
                    <a:pt x="339" y="21"/>
                  </a:lnTo>
                  <a:lnTo>
                    <a:pt x="301" y="9"/>
                  </a:lnTo>
                  <a:lnTo>
                    <a:pt x="258" y="0"/>
                  </a:lnTo>
                  <a:lnTo>
                    <a:pt x="206" y="0"/>
                  </a:lnTo>
                  <a:lnTo>
                    <a:pt x="168" y="4"/>
                  </a:lnTo>
                  <a:lnTo>
                    <a:pt x="135" y="11"/>
                  </a:lnTo>
                  <a:lnTo>
                    <a:pt x="99" y="26"/>
                  </a:lnTo>
                  <a:lnTo>
                    <a:pt x="66" y="45"/>
                  </a:lnTo>
                  <a:lnTo>
                    <a:pt x="43" y="67"/>
                  </a:lnTo>
                  <a:lnTo>
                    <a:pt x="27" y="93"/>
                  </a:lnTo>
                  <a:lnTo>
                    <a:pt x="14" y="116"/>
                  </a:lnTo>
                  <a:lnTo>
                    <a:pt x="7" y="145"/>
                  </a:lnTo>
                  <a:lnTo>
                    <a:pt x="4" y="187"/>
                  </a:lnTo>
                  <a:lnTo>
                    <a:pt x="0" y="223"/>
                  </a:lnTo>
                  <a:lnTo>
                    <a:pt x="0" y="610"/>
                  </a:lnTo>
                  <a:lnTo>
                    <a:pt x="458" y="638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111880" y="5398920"/>
              <a:ext cx="1440" cy="3301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094240" y="5572080"/>
              <a:ext cx="1800" cy="302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132400" y="5570280"/>
              <a:ext cx="1440" cy="32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7989480" y="5129280"/>
              <a:ext cx="69840" cy="190440"/>
            </a:xfrm>
            <a:custGeom>
              <a:avLst/>
              <a:gdLst/>
              <a:ahLst/>
              <a:rect l="l" t="t" r="r" b="b"/>
              <a:pathLst>
                <a:path w="130" h="360">
                  <a:moveTo>
                    <a:pt x="130" y="360"/>
                  </a:moveTo>
                  <a:lnTo>
                    <a:pt x="130" y="52"/>
                  </a:lnTo>
                  <a:lnTo>
                    <a:pt x="126" y="33"/>
                  </a:lnTo>
                  <a:lnTo>
                    <a:pt x="116" y="18"/>
                  </a:lnTo>
                  <a:lnTo>
                    <a:pt x="96" y="6"/>
                  </a:lnTo>
                  <a:lnTo>
                    <a:pt x="81" y="2"/>
                  </a:lnTo>
                  <a:lnTo>
                    <a:pt x="53" y="0"/>
                  </a:lnTo>
                  <a:lnTo>
                    <a:pt x="33" y="6"/>
                  </a:lnTo>
                  <a:lnTo>
                    <a:pt x="16" y="13"/>
                  </a:lnTo>
                  <a:lnTo>
                    <a:pt x="4" y="24"/>
                  </a:lnTo>
                  <a:lnTo>
                    <a:pt x="1" y="38"/>
                  </a:lnTo>
                  <a:lnTo>
                    <a:pt x="0" y="51"/>
                  </a:lnTo>
                  <a:lnTo>
                    <a:pt x="0" y="356"/>
                  </a:lnTo>
                  <a:lnTo>
                    <a:pt x="13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175240" y="5126040"/>
              <a:ext cx="69840" cy="190440"/>
            </a:xfrm>
            <a:custGeom>
              <a:avLst/>
              <a:gdLst/>
              <a:ahLst/>
              <a:rect l="l" t="t" r="r" b="b"/>
              <a:pathLst>
                <a:path w="133" h="358">
                  <a:moveTo>
                    <a:pt x="133" y="358"/>
                  </a:moveTo>
                  <a:lnTo>
                    <a:pt x="133" y="50"/>
                  </a:lnTo>
                  <a:lnTo>
                    <a:pt x="127" y="31"/>
                  </a:lnTo>
                  <a:lnTo>
                    <a:pt x="115" y="15"/>
                  </a:lnTo>
                  <a:lnTo>
                    <a:pt x="97" y="2"/>
                  </a:lnTo>
                  <a:lnTo>
                    <a:pt x="78" y="0"/>
                  </a:lnTo>
                  <a:lnTo>
                    <a:pt x="48" y="1"/>
                  </a:lnTo>
                  <a:lnTo>
                    <a:pt x="28" y="6"/>
                  </a:lnTo>
                  <a:lnTo>
                    <a:pt x="16" y="17"/>
                  </a:lnTo>
                  <a:lnTo>
                    <a:pt x="7" y="31"/>
                  </a:lnTo>
                  <a:lnTo>
                    <a:pt x="0" y="49"/>
                  </a:lnTo>
                  <a:lnTo>
                    <a:pt x="0" y="356"/>
                  </a:lnTo>
                  <a:lnTo>
                    <a:pt x="133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076600" y="5084640"/>
              <a:ext cx="82440" cy="233280"/>
            </a:xfrm>
            <a:custGeom>
              <a:avLst/>
              <a:gdLst/>
              <a:ahLst/>
              <a:rect l="l" t="t" r="r" b="b"/>
              <a:pathLst>
                <a:path w="156" h="441">
                  <a:moveTo>
                    <a:pt x="156" y="441"/>
                  </a:moveTo>
                  <a:lnTo>
                    <a:pt x="156" y="63"/>
                  </a:lnTo>
                  <a:lnTo>
                    <a:pt x="150" y="43"/>
                  </a:lnTo>
                  <a:lnTo>
                    <a:pt x="144" y="26"/>
                  </a:lnTo>
                  <a:lnTo>
                    <a:pt x="132" y="14"/>
                  </a:lnTo>
                  <a:lnTo>
                    <a:pt x="113" y="4"/>
                  </a:lnTo>
                  <a:lnTo>
                    <a:pt x="89" y="0"/>
                  </a:lnTo>
                  <a:lnTo>
                    <a:pt x="70" y="0"/>
                  </a:lnTo>
                  <a:lnTo>
                    <a:pt x="43" y="4"/>
                  </a:lnTo>
                  <a:lnTo>
                    <a:pt x="21" y="14"/>
                  </a:lnTo>
                  <a:lnTo>
                    <a:pt x="8" y="25"/>
                  </a:lnTo>
                  <a:lnTo>
                    <a:pt x="3" y="38"/>
                  </a:lnTo>
                  <a:lnTo>
                    <a:pt x="0" y="59"/>
                  </a:lnTo>
                  <a:lnTo>
                    <a:pt x="0" y="439"/>
                  </a:lnTo>
                  <a:lnTo>
                    <a:pt x="156" y="441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7740360" y="3330360"/>
              <a:ext cx="288720" cy="698760"/>
            </a:xfrm>
            <a:custGeom>
              <a:avLst/>
              <a:gdLst/>
              <a:ahLst/>
              <a:rect l="l" t="t" r="r" b="b"/>
              <a:pathLst>
                <a:path w="547" h="1321">
                  <a:moveTo>
                    <a:pt x="286" y="0"/>
                  </a:moveTo>
                  <a:lnTo>
                    <a:pt x="453" y="1168"/>
                  </a:lnTo>
                  <a:lnTo>
                    <a:pt x="547" y="1321"/>
                  </a:lnTo>
                  <a:lnTo>
                    <a:pt x="0" y="1321"/>
                  </a:lnTo>
                  <a:lnTo>
                    <a:pt x="81" y="1168"/>
                  </a:lnTo>
                  <a:lnTo>
                    <a:pt x="247" y="0"/>
                  </a:lnTo>
                  <a:lnTo>
                    <a:pt x="286" y="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7892640" y="3330360"/>
              <a:ext cx="36720" cy="700200"/>
            </a:xfrm>
            <a:custGeom>
              <a:avLst/>
              <a:gdLst/>
              <a:ahLst/>
              <a:rect l="l" t="t" r="r" b="b"/>
              <a:pathLst>
                <a:path w="69" h="1324">
                  <a:moveTo>
                    <a:pt x="69" y="0"/>
                  </a:moveTo>
                  <a:lnTo>
                    <a:pt x="32" y="1152"/>
                  </a:lnTo>
                  <a:lnTo>
                    <a:pt x="0" y="13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 flipH="1">
              <a:off x="7740360" y="3330360"/>
              <a:ext cx="154080" cy="719280"/>
            </a:xfrm>
            <a:custGeom>
              <a:avLst/>
              <a:gdLst/>
              <a:ahLst/>
              <a:rect l="l" t="t" r="r" b="b"/>
              <a:pathLst>
                <a:path w="292" h="1359">
                  <a:moveTo>
                    <a:pt x="31" y="0"/>
                  </a:moveTo>
                  <a:lnTo>
                    <a:pt x="198" y="1168"/>
                  </a:lnTo>
                  <a:lnTo>
                    <a:pt x="292" y="1321"/>
                  </a:lnTo>
                  <a:lnTo>
                    <a:pt x="218" y="1359"/>
                  </a:lnTo>
                  <a:lnTo>
                    <a:pt x="129" y="1171"/>
                  </a:lnTo>
                  <a:lnTo>
                    <a:pt x="5" y="301"/>
                  </a:lnTo>
                  <a:lnTo>
                    <a:pt x="0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7788960" y="3325680"/>
              <a:ext cx="96840" cy="701640"/>
            </a:xfrm>
            <a:custGeom>
              <a:avLst/>
              <a:gdLst/>
              <a:ahLst/>
              <a:rect l="l" t="t" r="r" b="b"/>
              <a:pathLst>
                <a:path w="183" h="1326">
                  <a:moveTo>
                    <a:pt x="0" y="0"/>
                  </a:moveTo>
                  <a:lnTo>
                    <a:pt x="111" y="1168"/>
                  </a:lnTo>
                  <a:lnTo>
                    <a:pt x="183" y="132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7740000" y="3330360"/>
              <a:ext cx="236520" cy="755640"/>
            </a:xfrm>
            <a:custGeom>
              <a:avLst/>
              <a:gdLst/>
              <a:ahLst/>
              <a:rect l="l" t="t" r="r" b="b"/>
              <a:pathLst>
                <a:path w="446" h="1427">
                  <a:moveTo>
                    <a:pt x="185" y="0"/>
                  </a:moveTo>
                  <a:lnTo>
                    <a:pt x="352" y="1168"/>
                  </a:lnTo>
                  <a:lnTo>
                    <a:pt x="446" y="1321"/>
                  </a:lnTo>
                  <a:lnTo>
                    <a:pt x="354" y="1427"/>
                  </a:lnTo>
                  <a:lnTo>
                    <a:pt x="0" y="14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7740000" y="4021200"/>
              <a:ext cx="290520" cy="64800"/>
            </a:xfrm>
            <a:custGeom>
              <a:avLst/>
              <a:gdLst/>
              <a:ahLst/>
              <a:rect l="l" t="t" r="r" b="b"/>
              <a:pathLst>
                <a:path w="550" h="122">
                  <a:moveTo>
                    <a:pt x="550" y="15"/>
                  </a:moveTo>
                  <a:lnTo>
                    <a:pt x="451" y="7"/>
                  </a:lnTo>
                  <a:lnTo>
                    <a:pt x="198" y="0"/>
                  </a:lnTo>
                  <a:lnTo>
                    <a:pt x="0" y="15"/>
                  </a:lnTo>
                  <a:lnTo>
                    <a:pt x="102" y="111"/>
                  </a:lnTo>
                  <a:lnTo>
                    <a:pt x="457" y="122"/>
                  </a:lnTo>
                  <a:lnTo>
                    <a:pt x="55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7764120" y="4049640"/>
              <a:ext cx="239760" cy="88920"/>
            </a:xfrm>
            <a:custGeom>
              <a:avLst/>
              <a:gdLst/>
              <a:ahLst/>
              <a:rect l="l" t="t" r="r" b="b"/>
              <a:pathLst>
                <a:path w="453" h="169">
                  <a:moveTo>
                    <a:pt x="453" y="152"/>
                  </a:moveTo>
                  <a:lnTo>
                    <a:pt x="453" y="11"/>
                  </a:lnTo>
                  <a:lnTo>
                    <a:pt x="373" y="2"/>
                  </a:lnTo>
                  <a:lnTo>
                    <a:pt x="136" y="0"/>
                  </a:lnTo>
                  <a:lnTo>
                    <a:pt x="0" y="8"/>
                  </a:lnTo>
                  <a:lnTo>
                    <a:pt x="0" y="169"/>
                  </a:lnTo>
                  <a:lnTo>
                    <a:pt x="453" y="152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7937280" y="4049640"/>
              <a:ext cx="1440" cy="1033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7763760" y="4051080"/>
              <a:ext cx="120600" cy="79560"/>
            </a:xfrm>
            <a:custGeom>
              <a:avLst/>
              <a:gdLst/>
              <a:ahLst/>
              <a:rect l="l" t="t" r="r" b="b"/>
              <a:pathLst>
                <a:path w="228" h="150">
                  <a:moveTo>
                    <a:pt x="228" y="150"/>
                  </a:moveTo>
                  <a:lnTo>
                    <a:pt x="228" y="9"/>
                  </a:lnTo>
                  <a:lnTo>
                    <a:pt x="153" y="2"/>
                  </a:lnTo>
                  <a:lnTo>
                    <a:pt x="0" y="0"/>
                  </a:lnTo>
                  <a:lnTo>
                    <a:pt x="67" y="48"/>
                  </a:lnTo>
                  <a:lnTo>
                    <a:pt x="95" y="74"/>
                  </a:lnTo>
                  <a:lnTo>
                    <a:pt x="130" y="138"/>
                  </a:lnTo>
                  <a:lnTo>
                    <a:pt x="228" y="15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7800480" y="4052880"/>
              <a:ext cx="1800" cy="100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7763760" y="4049640"/>
              <a:ext cx="168120" cy="81000"/>
            </a:xfrm>
            <a:custGeom>
              <a:avLst/>
              <a:gdLst/>
              <a:ahLst/>
              <a:rect l="l" t="t" r="r" b="b"/>
              <a:pathLst>
                <a:path w="317" h="152">
                  <a:moveTo>
                    <a:pt x="317" y="152"/>
                  </a:moveTo>
                  <a:lnTo>
                    <a:pt x="317" y="11"/>
                  </a:lnTo>
                  <a:lnTo>
                    <a:pt x="237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7791120" y="3940200"/>
              <a:ext cx="195120" cy="7920"/>
            </a:xfrm>
            <a:custGeom>
              <a:avLst/>
              <a:gdLst/>
              <a:ahLst/>
              <a:rect l="l" t="t" r="r" b="b"/>
              <a:pathLst>
                <a:path w="368" h="15">
                  <a:moveTo>
                    <a:pt x="368" y="12"/>
                  </a:moveTo>
                  <a:lnTo>
                    <a:pt x="300" y="4"/>
                  </a:lnTo>
                  <a:lnTo>
                    <a:pt x="137" y="0"/>
                  </a:lnTo>
                  <a:lnTo>
                    <a:pt x="0" y="15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7681320" y="4114800"/>
              <a:ext cx="423720" cy="54000"/>
            </a:xfrm>
            <a:custGeom>
              <a:avLst/>
              <a:gdLst/>
              <a:ahLst/>
              <a:rect l="l" t="t" r="r" b="b"/>
              <a:pathLst>
                <a:path w="801" h="103">
                  <a:moveTo>
                    <a:pt x="801" y="30"/>
                  </a:moveTo>
                  <a:lnTo>
                    <a:pt x="575" y="2"/>
                  </a:lnTo>
                  <a:lnTo>
                    <a:pt x="317" y="0"/>
                  </a:lnTo>
                  <a:lnTo>
                    <a:pt x="0" y="47"/>
                  </a:lnTo>
                  <a:lnTo>
                    <a:pt x="0" y="103"/>
                  </a:lnTo>
                  <a:lnTo>
                    <a:pt x="801" y="92"/>
                  </a:lnTo>
                  <a:lnTo>
                    <a:pt x="801" y="3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7940160" y="4114800"/>
              <a:ext cx="180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81680" y="4114800"/>
              <a:ext cx="142560" cy="47520"/>
            </a:xfrm>
            <a:custGeom>
              <a:avLst/>
              <a:gdLst/>
              <a:ahLst/>
              <a:rect l="l" t="t" r="r" b="b"/>
              <a:pathLst>
                <a:path w="269" h="90">
                  <a:moveTo>
                    <a:pt x="0" y="0"/>
                  </a:moveTo>
                  <a:lnTo>
                    <a:pt x="51" y="61"/>
                  </a:lnTo>
                  <a:lnTo>
                    <a:pt x="269" y="90"/>
                  </a:lnTo>
                  <a:lnTo>
                    <a:pt x="269" y="28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79880" y="4146480"/>
              <a:ext cx="425520" cy="68400"/>
            </a:xfrm>
            <a:custGeom>
              <a:avLst/>
              <a:gdLst/>
              <a:ahLst/>
              <a:rect l="l" t="t" r="r" b="b"/>
              <a:pathLst>
                <a:path w="805" h="129">
                  <a:moveTo>
                    <a:pt x="805" y="31"/>
                  </a:moveTo>
                  <a:lnTo>
                    <a:pt x="692" y="126"/>
                  </a:lnTo>
                  <a:lnTo>
                    <a:pt x="111" y="129"/>
                  </a:lnTo>
                  <a:lnTo>
                    <a:pt x="0" y="40"/>
                  </a:lnTo>
                  <a:lnTo>
                    <a:pt x="318" y="0"/>
                  </a:lnTo>
                  <a:lnTo>
                    <a:pt x="571" y="0"/>
                  </a:lnTo>
                  <a:lnTo>
                    <a:pt x="805" y="3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797600" y="4114800"/>
              <a:ext cx="1440" cy="316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3" h="463">
                  <a:moveTo>
                    <a:pt x="693" y="23"/>
                  </a:moveTo>
                  <a:lnTo>
                    <a:pt x="693" y="463"/>
                  </a:lnTo>
                  <a:lnTo>
                    <a:pt x="0" y="448"/>
                  </a:lnTo>
                  <a:lnTo>
                    <a:pt x="1" y="31"/>
                  </a:lnTo>
                  <a:lnTo>
                    <a:pt x="268" y="0"/>
                  </a:lnTo>
                  <a:lnTo>
                    <a:pt x="502" y="0"/>
                  </a:lnTo>
                  <a:lnTo>
                    <a:pt x="693" y="23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7709760" y="4171680"/>
              <a:ext cx="176040" cy="246240"/>
            </a:xfrm>
            <a:custGeom>
              <a:avLst/>
              <a:gdLst/>
              <a:ahLst/>
              <a:rect l="l" t="t" r="r" b="b"/>
              <a:pathLst>
                <a:path w="332" h="464">
                  <a:moveTo>
                    <a:pt x="332" y="24"/>
                  </a:moveTo>
                  <a:lnTo>
                    <a:pt x="332" y="464"/>
                  </a:lnTo>
                  <a:lnTo>
                    <a:pt x="139" y="460"/>
                  </a:lnTo>
                  <a:lnTo>
                    <a:pt x="139" y="330"/>
                  </a:lnTo>
                  <a:lnTo>
                    <a:pt x="109" y="191"/>
                  </a:lnTo>
                  <a:lnTo>
                    <a:pt x="93" y="141"/>
                  </a:lnTo>
                  <a:lnTo>
                    <a:pt x="66" y="87"/>
                  </a:lnTo>
                  <a:lnTo>
                    <a:pt x="0" y="0"/>
                  </a:lnTo>
                  <a:lnTo>
                    <a:pt x="141" y="1"/>
                  </a:lnTo>
                  <a:lnTo>
                    <a:pt x="332" y="2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 flipV="1">
              <a:off x="7810200" y="4173480"/>
              <a:ext cx="1440" cy="2397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709760" y="4171680"/>
              <a:ext cx="366840" cy="246240"/>
            </a:xfrm>
            <a:custGeom>
              <a:avLst/>
              <a:gdLst/>
              <a:ahLst/>
              <a:rect l="l" t="t" r="r" b="b"/>
              <a:pathLst>
                <a:path w="692" h="463">
                  <a:moveTo>
                    <a:pt x="692" y="23"/>
                  </a:moveTo>
                  <a:lnTo>
                    <a:pt x="692" y="463"/>
                  </a:lnTo>
                  <a:lnTo>
                    <a:pt x="0" y="448"/>
                  </a:lnTo>
                  <a:lnTo>
                    <a:pt x="0" y="31"/>
                  </a:lnTo>
                  <a:lnTo>
                    <a:pt x="267" y="0"/>
                  </a:lnTo>
                  <a:lnTo>
                    <a:pt x="501" y="0"/>
                  </a:lnTo>
                  <a:lnTo>
                    <a:pt x="692" y="23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26120" y="4174920"/>
              <a:ext cx="1440" cy="235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50880" y="4198680"/>
              <a:ext cx="34920" cy="15588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738200" y="4213080"/>
              <a:ext cx="34920" cy="142920"/>
            </a:xfrm>
            <a:custGeom>
              <a:avLst/>
              <a:gdLst/>
              <a:ahLst/>
              <a:rect l="l" t="t" r="r" b="b"/>
              <a:pathLst>
                <a:path w="65" h="272">
                  <a:moveTo>
                    <a:pt x="65" y="272"/>
                  </a:moveTo>
                  <a:lnTo>
                    <a:pt x="65" y="35"/>
                  </a:lnTo>
                  <a:lnTo>
                    <a:pt x="63" y="22"/>
                  </a:lnTo>
                  <a:lnTo>
                    <a:pt x="53" y="6"/>
                  </a:lnTo>
                  <a:lnTo>
                    <a:pt x="38" y="0"/>
                  </a:lnTo>
                  <a:lnTo>
                    <a:pt x="22" y="0"/>
                  </a:lnTo>
                  <a:lnTo>
                    <a:pt x="9" y="9"/>
                  </a:lnTo>
                  <a:lnTo>
                    <a:pt x="1" y="21"/>
                  </a:lnTo>
                  <a:lnTo>
                    <a:pt x="0" y="268"/>
                  </a:lnTo>
                  <a:lnTo>
                    <a:pt x="65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7976520" y="4214880"/>
              <a:ext cx="52200" cy="142560"/>
            </a:xfrm>
            <a:custGeom>
              <a:avLst/>
              <a:gdLst/>
              <a:ahLst/>
              <a:rect l="l" t="t" r="r" b="b"/>
              <a:pathLst>
                <a:path w="98" h="269">
                  <a:moveTo>
                    <a:pt x="0" y="269"/>
                  </a:moveTo>
                  <a:lnTo>
                    <a:pt x="0" y="54"/>
                  </a:lnTo>
                  <a:lnTo>
                    <a:pt x="2" y="32"/>
                  </a:lnTo>
                  <a:lnTo>
                    <a:pt x="13" y="16"/>
                  </a:lnTo>
                  <a:lnTo>
                    <a:pt x="26" y="5"/>
                  </a:lnTo>
                  <a:lnTo>
                    <a:pt x="45" y="0"/>
                  </a:lnTo>
                  <a:lnTo>
                    <a:pt x="61" y="0"/>
                  </a:lnTo>
                  <a:lnTo>
                    <a:pt x="81" y="5"/>
                  </a:lnTo>
                  <a:lnTo>
                    <a:pt x="93" y="18"/>
                  </a:lnTo>
                  <a:lnTo>
                    <a:pt x="98" y="35"/>
                  </a:lnTo>
                  <a:lnTo>
                    <a:pt x="98" y="266"/>
                  </a:lnTo>
                  <a:lnTo>
                    <a:pt x="0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7621200" y="4378320"/>
              <a:ext cx="563760" cy="129960"/>
            </a:xfrm>
            <a:custGeom>
              <a:avLst/>
              <a:gdLst/>
              <a:ahLst/>
              <a:rect l="l" t="t" r="r" b="b"/>
              <a:pathLst>
                <a:path w="1064" h="244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86" y="229"/>
                  </a:lnTo>
                  <a:lnTo>
                    <a:pt x="917" y="244"/>
                  </a:lnTo>
                  <a:lnTo>
                    <a:pt x="1064" y="143"/>
                  </a:lnTo>
                  <a:lnTo>
                    <a:pt x="897" y="1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27560" y="4378320"/>
              <a:ext cx="30240" cy="61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7620840" y="4378320"/>
              <a:ext cx="306360" cy="74520"/>
            </a:xfrm>
            <a:custGeom>
              <a:avLst/>
              <a:gdLst/>
              <a:ahLst/>
              <a:rect l="l" t="t" r="r" b="b"/>
              <a:pathLst>
                <a:path w="578" h="141">
                  <a:moveTo>
                    <a:pt x="411" y="15"/>
                  </a:moveTo>
                  <a:lnTo>
                    <a:pt x="224" y="0"/>
                  </a:lnTo>
                  <a:lnTo>
                    <a:pt x="0" y="0"/>
                  </a:lnTo>
                  <a:lnTo>
                    <a:pt x="208" y="37"/>
                  </a:lnTo>
                  <a:lnTo>
                    <a:pt x="225" y="45"/>
                  </a:lnTo>
                  <a:lnTo>
                    <a:pt x="248" y="56"/>
                  </a:lnTo>
                  <a:lnTo>
                    <a:pt x="267" y="73"/>
                  </a:lnTo>
                  <a:lnTo>
                    <a:pt x="298" y="118"/>
                  </a:lnTo>
                  <a:lnTo>
                    <a:pt x="578" y="141"/>
                  </a:lnTo>
                  <a:lnTo>
                    <a:pt x="411" y="1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768800" y="4378320"/>
              <a:ext cx="39600" cy="680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619760" y="4378320"/>
              <a:ext cx="565200" cy="75960"/>
            </a:xfrm>
            <a:custGeom>
              <a:avLst/>
              <a:gdLst/>
              <a:ahLst/>
              <a:rect l="l" t="t" r="r" b="b"/>
              <a:pathLst>
                <a:path w="1067" h="143">
                  <a:moveTo>
                    <a:pt x="897" y="15"/>
                  </a:moveTo>
                  <a:lnTo>
                    <a:pt x="710" y="0"/>
                  </a:lnTo>
                  <a:lnTo>
                    <a:pt x="486" y="0"/>
                  </a:lnTo>
                  <a:lnTo>
                    <a:pt x="205" y="15"/>
                  </a:lnTo>
                  <a:lnTo>
                    <a:pt x="0" y="143"/>
                  </a:lnTo>
                  <a:lnTo>
                    <a:pt x="1067" y="143"/>
                  </a:lnTo>
                  <a:lnTo>
                    <a:pt x="897" y="15"/>
                  </a:lnTo>
                  <a:close/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7619760" y="4440240"/>
              <a:ext cx="565200" cy="120600"/>
            </a:xfrm>
            <a:custGeom>
              <a:avLst/>
              <a:gdLst/>
              <a:ahLst/>
              <a:rect l="l" t="t" r="r" b="b"/>
              <a:pathLst>
                <a:path w="1067" h="227">
                  <a:moveTo>
                    <a:pt x="992" y="141"/>
                  </a:moveTo>
                  <a:lnTo>
                    <a:pt x="1067" y="27"/>
                  </a:lnTo>
                  <a:lnTo>
                    <a:pt x="777" y="0"/>
                  </a:lnTo>
                  <a:lnTo>
                    <a:pt x="430" y="0"/>
                  </a:lnTo>
                  <a:lnTo>
                    <a:pt x="0" y="28"/>
                  </a:lnTo>
                  <a:lnTo>
                    <a:pt x="113" y="171"/>
                  </a:lnTo>
                  <a:lnTo>
                    <a:pt x="822" y="227"/>
                  </a:lnTo>
                  <a:lnTo>
                    <a:pt x="992" y="141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7581240" y="4491000"/>
              <a:ext cx="617400" cy="250920"/>
            </a:xfrm>
            <a:custGeom>
              <a:avLst/>
              <a:gdLst/>
              <a:ahLst/>
              <a:rect l="l" t="t" r="r" b="b"/>
              <a:pathLst>
                <a:path w="1169" h="474">
                  <a:moveTo>
                    <a:pt x="1169" y="474"/>
                  </a:moveTo>
                  <a:lnTo>
                    <a:pt x="1039" y="346"/>
                  </a:lnTo>
                  <a:lnTo>
                    <a:pt x="1039" y="18"/>
                  </a:lnTo>
                  <a:lnTo>
                    <a:pt x="762" y="0"/>
                  </a:lnTo>
                  <a:lnTo>
                    <a:pt x="503" y="0"/>
                  </a:lnTo>
                  <a:lnTo>
                    <a:pt x="102" y="23"/>
                  </a:lnTo>
                  <a:lnTo>
                    <a:pt x="102" y="330"/>
                  </a:lnTo>
                  <a:lnTo>
                    <a:pt x="0" y="445"/>
                  </a:lnTo>
                  <a:lnTo>
                    <a:pt x="1169" y="47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7581240" y="4492440"/>
              <a:ext cx="268200" cy="249480"/>
            </a:xfrm>
            <a:custGeom>
              <a:avLst/>
              <a:gdLst/>
              <a:ahLst/>
              <a:rect l="l" t="t" r="r" b="b"/>
              <a:pathLst>
                <a:path w="507" h="470">
                  <a:moveTo>
                    <a:pt x="507" y="470"/>
                  </a:moveTo>
                  <a:lnTo>
                    <a:pt x="377" y="342"/>
                  </a:lnTo>
                  <a:lnTo>
                    <a:pt x="377" y="14"/>
                  </a:lnTo>
                  <a:lnTo>
                    <a:pt x="97" y="0"/>
                  </a:lnTo>
                  <a:lnTo>
                    <a:pt x="98" y="283"/>
                  </a:lnTo>
                  <a:lnTo>
                    <a:pt x="0" y="412"/>
                  </a:lnTo>
                  <a:lnTo>
                    <a:pt x="507" y="47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7581240" y="4500360"/>
              <a:ext cx="68040" cy="241560"/>
            </a:xfrm>
            <a:custGeom>
              <a:avLst/>
              <a:gdLst/>
              <a:ahLst/>
              <a:rect l="l" t="t" r="r" b="b"/>
              <a:pathLst>
                <a:path w="130" h="456">
                  <a:moveTo>
                    <a:pt x="130" y="456"/>
                  </a:moveTo>
                  <a:lnTo>
                    <a:pt x="0" y="328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798680" y="4492440"/>
              <a:ext cx="50760" cy="217440"/>
            </a:xfrm>
            <a:custGeom>
              <a:avLst/>
              <a:gdLst/>
              <a:ahLst/>
              <a:rect l="l" t="t" r="r" b="b"/>
              <a:pathLst>
                <a:path w="95" h="410">
                  <a:moveTo>
                    <a:pt x="95" y="0"/>
                  </a:moveTo>
                  <a:lnTo>
                    <a:pt x="95" y="282"/>
                  </a:lnTo>
                  <a:lnTo>
                    <a:pt x="0" y="4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849800" y="4487760"/>
              <a:ext cx="84240" cy="223920"/>
            </a:xfrm>
            <a:custGeom>
              <a:avLst/>
              <a:gdLst/>
              <a:ahLst/>
              <a:rect l="l" t="t" r="r" b="b"/>
              <a:pathLst>
                <a:path w="157" h="424">
                  <a:moveTo>
                    <a:pt x="0" y="0"/>
                  </a:moveTo>
                  <a:lnTo>
                    <a:pt x="0" y="281"/>
                  </a:lnTo>
                  <a:lnTo>
                    <a:pt x="157" y="424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7850880" y="4516200"/>
              <a:ext cx="34920" cy="111240"/>
            </a:xfrm>
            <a:prstGeom prst="rect">
              <a:avLst/>
            </a:prstGeom>
            <a:noFill/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7542000" y="4703760"/>
              <a:ext cx="722160" cy="60120"/>
            </a:xfrm>
            <a:custGeom>
              <a:avLst/>
              <a:gdLst/>
              <a:ahLst/>
              <a:rect l="l" t="t" r="r" b="b"/>
              <a:pathLst>
                <a:path w="1365" h="114">
                  <a:moveTo>
                    <a:pt x="1365" y="114"/>
                  </a:moveTo>
                  <a:lnTo>
                    <a:pt x="747" y="55"/>
                  </a:lnTo>
                  <a:lnTo>
                    <a:pt x="0" y="78"/>
                  </a:lnTo>
                  <a:lnTo>
                    <a:pt x="0" y="35"/>
                  </a:lnTo>
                  <a:lnTo>
                    <a:pt x="751" y="0"/>
                  </a:lnTo>
                  <a:lnTo>
                    <a:pt x="1363" y="66"/>
                  </a:lnTo>
                  <a:lnTo>
                    <a:pt x="1365" y="114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7543080" y="4703760"/>
              <a:ext cx="330120" cy="60120"/>
            </a:xfrm>
            <a:custGeom>
              <a:avLst/>
              <a:gdLst/>
              <a:ahLst/>
              <a:rect l="l" t="t" r="r" b="b"/>
              <a:pathLst>
                <a:path w="622" h="114">
                  <a:moveTo>
                    <a:pt x="0" y="0"/>
                  </a:moveTo>
                  <a:lnTo>
                    <a:pt x="622" y="66"/>
                  </a:lnTo>
                  <a:lnTo>
                    <a:pt x="622" y="114"/>
                  </a:lnTo>
                  <a:lnTo>
                    <a:pt x="0" y="5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 flipV="1">
              <a:off x="7872120" y="4703400"/>
              <a:ext cx="1440" cy="284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7989480" y="4522680"/>
              <a:ext cx="117360" cy="135000"/>
            </a:xfrm>
            <a:custGeom>
              <a:avLst/>
              <a:gdLst/>
              <a:ahLst/>
              <a:rect l="l" t="t" r="r" b="b"/>
              <a:pathLst>
                <a:path w="222" h="255">
                  <a:moveTo>
                    <a:pt x="207" y="194"/>
                  </a:moveTo>
                  <a:lnTo>
                    <a:pt x="215" y="178"/>
                  </a:lnTo>
                  <a:lnTo>
                    <a:pt x="220" y="162"/>
                  </a:lnTo>
                  <a:lnTo>
                    <a:pt x="222" y="145"/>
                  </a:lnTo>
                  <a:lnTo>
                    <a:pt x="222" y="137"/>
                  </a:lnTo>
                  <a:lnTo>
                    <a:pt x="222" y="128"/>
                  </a:lnTo>
                  <a:lnTo>
                    <a:pt x="222" y="115"/>
                  </a:lnTo>
                  <a:lnTo>
                    <a:pt x="221" y="102"/>
                  </a:lnTo>
                  <a:lnTo>
                    <a:pt x="219" y="90"/>
                  </a:lnTo>
                  <a:lnTo>
                    <a:pt x="215" y="79"/>
                  </a:lnTo>
                  <a:lnTo>
                    <a:pt x="209" y="68"/>
                  </a:lnTo>
                  <a:lnTo>
                    <a:pt x="204" y="56"/>
                  </a:lnTo>
                  <a:lnTo>
                    <a:pt x="198" y="47"/>
                  </a:lnTo>
                  <a:lnTo>
                    <a:pt x="190" y="38"/>
                  </a:lnTo>
                  <a:lnTo>
                    <a:pt x="183" y="30"/>
                  </a:lnTo>
                  <a:lnTo>
                    <a:pt x="173" y="23"/>
                  </a:lnTo>
                  <a:lnTo>
                    <a:pt x="164" y="16"/>
                  </a:lnTo>
                  <a:lnTo>
                    <a:pt x="155" y="11"/>
                  </a:lnTo>
                  <a:lnTo>
                    <a:pt x="145" y="6"/>
                  </a:lnTo>
                  <a:lnTo>
                    <a:pt x="134" y="3"/>
                  </a:lnTo>
                  <a:lnTo>
                    <a:pt x="122" y="0"/>
                  </a:lnTo>
                  <a:lnTo>
                    <a:pt x="112" y="0"/>
                  </a:lnTo>
                  <a:lnTo>
                    <a:pt x="100" y="0"/>
                  </a:lnTo>
                  <a:lnTo>
                    <a:pt x="88" y="3"/>
                  </a:lnTo>
                  <a:lnTo>
                    <a:pt x="79" y="6"/>
                  </a:lnTo>
                  <a:lnTo>
                    <a:pt x="67" y="11"/>
                  </a:lnTo>
                  <a:lnTo>
                    <a:pt x="59" y="16"/>
                  </a:lnTo>
                  <a:lnTo>
                    <a:pt x="49" y="23"/>
                  </a:lnTo>
                  <a:lnTo>
                    <a:pt x="39" y="30"/>
                  </a:lnTo>
                  <a:lnTo>
                    <a:pt x="32" y="38"/>
                  </a:lnTo>
                  <a:lnTo>
                    <a:pt x="25" y="47"/>
                  </a:lnTo>
                  <a:lnTo>
                    <a:pt x="19" y="56"/>
                  </a:lnTo>
                  <a:lnTo>
                    <a:pt x="13" y="68"/>
                  </a:lnTo>
                  <a:lnTo>
                    <a:pt x="7" y="79"/>
                  </a:lnTo>
                  <a:lnTo>
                    <a:pt x="5" y="90"/>
                  </a:lnTo>
                  <a:lnTo>
                    <a:pt x="1" y="102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0" y="140"/>
                  </a:lnTo>
                  <a:lnTo>
                    <a:pt x="1" y="153"/>
                  </a:lnTo>
                  <a:lnTo>
                    <a:pt x="5" y="165"/>
                  </a:lnTo>
                  <a:lnTo>
                    <a:pt x="7" y="176"/>
                  </a:lnTo>
                  <a:lnTo>
                    <a:pt x="13" y="188"/>
                  </a:lnTo>
                  <a:lnTo>
                    <a:pt x="19" y="199"/>
                  </a:lnTo>
                  <a:lnTo>
                    <a:pt x="25" y="208"/>
                  </a:lnTo>
                  <a:lnTo>
                    <a:pt x="32" y="217"/>
                  </a:lnTo>
                  <a:lnTo>
                    <a:pt x="39" y="225"/>
                  </a:lnTo>
                  <a:lnTo>
                    <a:pt x="49" y="232"/>
                  </a:lnTo>
                  <a:lnTo>
                    <a:pt x="59" y="239"/>
                  </a:lnTo>
                  <a:lnTo>
                    <a:pt x="67" y="244"/>
                  </a:lnTo>
                  <a:lnTo>
                    <a:pt x="79" y="249"/>
                  </a:lnTo>
                  <a:lnTo>
                    <a:pt x="88" y="253"/>
                  </a:lnTo>
                  <a:lnTo>
                    <a:pt x="100" y="255"/>
                  </a:lnTo>
                  <a:lnTo>
                    <a:pt x="112" y="255"/>
                  </a:lnTo>
                  <a:lnTo>
                    <a:pt x="118" y="255"/>
                  </a:lnTo>
                  <a:lnTo>
                    <a:pt x="133" y="253"/>
                  </a:lnTo>
                  <a:lnTo>
                    <a:pt x="147" y="249"/>
                  </a:lnTo>
                  <a:lnTo>
                    <a:pt x="154" y="245"/>
                  </a:lnTo>
                  <a:lnTo>
                    <a:pt x="160" y="242"/>
                  </a:lnTo>
                  <a:lnTo>
                    <a:pt x="166" y="238"/>
                  </a:lnTo>
                  <a:lnTo>
                    <a:pt x="173" y="236"/>
                  </a:lnTo>
                  <a:lnTo>
                    <a:pt x="185" y="225"/>
                  </a:lnTo>
                  <a:lnTo>
                    <a:pt x="189" y="220"/>
                  </a:lnTo>
                  <a:lnTo>
                    <a:pt x="200" y="207"/>
                  </a:lnTo>
                  <a:lnTo>
                    <a:pt x="203" y="200"/>
                  </a:lnTo>
                  <a:lnTo>
                    <a:pt x="207" y="194"/>
                  </a:lnTo>
                  <a:close/>
                </a:path>
              </a:pathLst>
            </a:custGeom>
            <a:solidFill>
              <a:srgbClr val="000000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011800" y="4584600"/>
              <a:ext cx="38160" cy="11160"/>
            </a:xfrm>
            <a:custGeom>
              <a:avLst/>
              <a:gdLst/>
              <a:ahLst/>
              <a:rect l="l" t="t" r="r" b="b"/>
              <a:pathLst>
                <a:path w="74" h="22">
                  <a:moveTo>
                    <a:pt x="74" y="20"/>
                  </a:moveTo>
                  <a:lnTo>
                    <a:pt x="55" y="0"/>
                  </a:lnTo>
                  <a:lnTo>
                    <a:pt x="0" y="2"/>
                  </a:lnTo>
                  <a:lnTo>
                    <a:pt x="45" y="22"/>
                  </a:lnTo>
                  <a:lnTo>
                    <a:pt x="7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051400" y="4584600"/>
              <a:ext cx="31680" cy="47520"/>
            </a:xfrm>
            <a:custGeom>
              <a:avLst/>
              <a:gdLst/>
              <a:ahLst/>
              <a:rect l="l" t="t" r="r" b="b"/>
              <a:pathLst>
                <a:path w="60" h="89">
                  <a:moveTo>
                    <a:pt x="60" y="0"/>
                  </a:moveTo>
                  <a:lnTo>
                    <a:pt x="26" y="72"/>
                  </a:lnTo>
                  <a:lnTo>
                    <a:pt x="0" y="89"/>
                  </a:lnTo>
                  <a:lnTo>
                    <a:pt x="0" y="6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7668720" y="4529160"/>
              <a:ext cx="106560" cy="126720"/>
            </a:xfrm>
            <a:custGeom>
              <a:avLst/>
              <a:gdLst/>
              <a:ahLst/>
              <a:rect l="l" t="t" r="r" b="b"/>
              <a:pathLst>
                <a:path w="202" h="242">
                  <a:moveTo>
                    <a:pt x="184" y="189"/>
                  </a:moveTo>
                  <a:lnTo>
                    <a:pt x="188" y="182"/>
                  </a:lnTo>
                  <a:lnTo>
                    <a:pt x="191" y="173"/>
                  </a:lnTo>
                  <a:lnTo>
                    <a:pt x="197" y="157"/>
                  </a:lnTo>
                  <a:lnTo>
                    <a:pt x="200" y="147"/>
                  </a:lnTo>
                  <a:lnTo>
                    <a:pt x="201" y="139"/>
                  </a:lnTo>
                  <a:lnTo>
                    <a:pt x="202" y="130"/>
                  </a:lnTo>
                  <a:lnTo>
                    <a:pt x="202" y="121"/>
                  </a:lnTo>
                  <a:lnTo>
                    <a:pt x="201" y="108"/>
                  </a:lnTo>
                  <a:lnTo>
                    <a:pt x="200" y="97"/>
                  </a:lnTo>
                  <a:lnTo>
                    <a:pt x="197" y="85"/>
                  </a:lnTo>
                  <a:lnTo>
                    <a:pt x="195" y="74"/>
                  </a:lnTo>
                  <a:lnTo>
                    <a:pt x="189" y="63"/>
                  </a:lnTo>
                  <a:lnTo>
                    <a:pt x="184" y="54"/>
                  </a:lnTo>
                  <a:lnTo>
                    <a:pt x="178" y="44"/>
                  </a:lnTo>
                  <a:lnTo>
                    <a:pt x="171" y="35"/>
                  </a:lnTo>
                  <a:lnTo>
                    <a:pt x="164" y="27"/>
                  </a:lnTo>
                  <a:lnTo>
                    <a:pt x="157" y="20"/>
                  </a:lnTo>
                  <a:lnTo>
                    <a:pt x="148" y="14"/>
                  </a:lnTo>
                  <a:lnTo>
                    <a:pt x="140" y="8"/>
                  </a:lnTo>
                  <a:lnTo>
                    <a:pt x="130" y="5"/>
                  </a:lnTo>
                  <a:lnTo>
                    <a:pt x="121" y="2"/>
                  </a:lnTo>
                  <a:lnTo>
                    <a:pt x="111" y="0"/>
                  </a:lnTo>
                  <a:lnTo>
                    <a:pt x="100" y="0"/>
                  </a:lnTo>
                  <a:lnTo>
                    <a:pt x="90" y="0"/>
                  </a:lnTo>
                  <a:lnTo>
                    <a:pt x="81" y="2"/>
                  </a:lnTo>
                  <a:lnTo>
                    <a:pt x="71" y="5"/>
                  </a:lnTo>
                  <a:lnTo>
                    <a:pt x="61" y="8"/>
                  </a:lnTo>
                  <a:lnTo>
                    <a:pt x="54" y="14"/>
                  </a:lnTo>
                  <a:lnTo>
                    <a:pt x="44" y="20"/>
                  </a:lnTo>
                  <a:lnTo>
                    <a:pt x="36" y="27"/>
                  </a:lnTo>
                  <a:lnTo>
                    <a:pt x="29" y="35"/>
                  </a:lnTo>
                  <a:lnTo>
                    <a:pt x="22" y="44"/>
                  </a:lnTo>
                  <a:lnTo>
                    <a:pt x="17" y="54"/>
                  </a:lnTo>
                  <a:lnTo>
                    <a:pt x="12" y="63"/>
                  </a:lnTo>
                  <a:lnTo>
                    <a:pt x="7" y="74"/>
                  </a:lnTo>
                  <a:lnTo>
                    <a:pt x="4" y="85"/>
                  </a:lnTo>
                  <a:lnTo>
                    <a:pt x="1" y="9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0" y="133"/>
                  </a:lnTo>
                  <a:lnTo>
                    <a:pt x="1" y="145"/>
                  </a:lnTo>
                  <a:lnTo>
                    <a:pt x="4" y="157"/>
                  </a:lnTo>
                  <a:lnTo>
                    <a:pt x="7" y="167"/>
                  </a:lnTo>
                  <a:lnTo>
                    <a:pt x="12" y="177"/>
                  </a:lnTo>
                  <a:lnTo>
                    <a:pt x="17" y="188"/>
                  </a:lnTo>
                  <a:lnTo>
                    <a:pt x="22" y="197"/>
                  </a:lnTo>
                  <a:lnTo>
                    <a:pt x="29" y="206"/>
                  </a:lnTo>
                  <a:lnTo>
                    <a:pt x="36" y="214"/>
                  </a:lnTo>
                  <a:lnTo>
                    <a:pt x="44" y="220"/>
                  </a:lnTo>
                  <a:lnTo>
                    <a:pt x="54" y="227"/>
                  </a:lnTo>
                  <a:lnTo>
                    <a:pt x="61" y="232"/>
                  </a:lnTo>
                  <a:lnTo>
                    <a:pt x="71" y="236"/>
                  </a:lnTo>
                  <a:lnTo>
                    <a:pt x="81" y="239"/>
                  </a:lnTo>
                  <a:lnTo>
                    <a:pt x="90" y="242"/>
                  </a:lnTo>
                  <a:lnTo>
                    <a:pt x="100" y="242"/>
                  </a:lnTo>
                  <a:lnTo>
                    <a:pt x="114" y="242"/>
                  </a:lnTo>
                  <a:lnTo>
                    <a:pt x="126" y="239"/>
                  </a:lnTo>
                  <a:lnTo>
                    <a:pt x="138" y="234"/>
                  </a:lnTo>
                  <a:lnTo>
                    <a:pt x="147" y="228"/>
                  </a:lnTo>
                  <a:lnTo>
                    <a:pt x="158" y="220"/>
                  </a:lnTo>
                  <a:lnTo>
                    <a:pt x="169" y="212"/>
                  </a:lnTo>
                  <a:lnTo>
                    <a:pt x="176" y="201"/>
                  </a:lnTo>
                  <a:lnTo>
                    <a:pt x="184" y="189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7682760" y="4586040"/>
              <a:ext cx="33480" cy="12960"/>
            </a:xfrm>
            <a:custGeom>
              <a:avLst/>
              <a:gdLst/>
              <a:ahLst/>
              <a:rect l="l" t="t" r="r" b="b"/>
              <a:pathLst>
                <a:path w="64" h="26">
                  <a:moveTo>
                    <a:pt x="64" y="20"/>
                  </a:moveTo>
                  <a:lnTo>
                    <a:pt x="48" y="8"/>
                  </a:lnTo>
                  <a:lnTo>
                    <a:pt x="0" y="0"/>
                  </a:lnTo>
                  <a:lnTo>
                    <a:pt x="42" y="26"/>
                  </a:lnTo>
                  <a:lnTo>
                    <a:pt x="64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7719120" y="4587840"/>
              <a:ext cx="33480" cy="41040"/>
            </a:xfrm>
            <a:custGeom>
              <a:avLst/>
              <a:gdLst/>
              <a:ahLst/>
              <a:rect l="l" t="t" r="r" b="b"/>
              <a:pathLst>
                <a:path w="61" h="78">
                  <a:moveTo>
                    <a:pt x="61" y="0"/>
                  </a:moveTo>
                  <a:lnTo>
                    <a:pt x="31" y="65"/>
                  </a:lnTo>
                  <a:lnTo>
                    <a:pt x="0" y="78"/>
                  </a:lnTo>
                  <a:lnTo>
                    <a:pt x="0" y="53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7993800" y="5691240"/>
              <a:ext cx="81000" cy="53640"/>
            </a:xfrm>
            <a:custGeom>
              <a:avLst/>
              <a:gdLst/>
              <a:ahLst/>
              <a:rect l="l" t="t" r="r" b="b"/>
              <a:pathLst>
                <a:path w="153" h="103">
                  <a:moveTo>
                    <a:pt x="153" y="0"/>
                  </a:moveTo>
                  <a:lnTo>
                    <a:pt x="153" y="88"/>
                  </a:lnTo>
                  <a:lnTo>
                    <a:pt x="12" y="103"/>
                  </a:lnTo>
                  <a:lnTo>
                    <a:pt x="0" y="12"/>
                  </a:lnTo>
                  <a:lnTo>
                    <a:pt x="153" y="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7993800" y="5680080"/>
              <a:ext cx="312840" cy="66600"/>
            </a:xfrm>
            <a:custGeom>
              <a:avLst/>
              <a:gdLst/>
              <a:ahLst/>
              <a:rect l="l" t="t" r="r" b="b"/>
              <a:pathLst>
                <a:path w="592" h="124">
                  <a:moveTo>
                    <a:pt x="592" y="20"/>
                  </a:moveTo>
                  <a:lnTo>
                    <a:pt x="135" y="0"/>
                  </a:lnTo>
                  <a:lnTo>
                    <a:pt x="63" y="8"/>
                  </a:lnTo>
                  <a:lnTo>
                    <a:pt x="63" y="41"/>
                  </a:lnTo>
                  <a:lnTo>
                    <a:pt x="0" y="54"/>
                  </a:lnTo>
                  <a:lnTo>
                    <a:pt x="0" y="101"/>
                  </a:lnTo>
                  <a:lnTo>
                    <a:pt x="449" y="124"/>
                  </a:lnTo>
                  <a:lnTo>
                    <a:pt x="449" y="74"/>
                  </a:lnTo>
                  <a:lnTo>
                    <a:pt x="508" y="63"/>
                  </a:lnTo>
                  <a:lnTo>
                    <a:pt x="508" y="30"/>
                  </a:lnTo>
                  <a:lnTo>
                    <a:pt x="592" y="20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8069400" y="5709600"/>
              <a:ext cx="23796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V="1">
              <a:off x="8038800" y="5703840"/>
              <a:ext cx="234720" cy="9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8039160" y="5684400"/>
              <a:ext cx="230040" cy="111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7827480" y="3124080"/>
              <a:ext cx="108000" cy="189000"/>
            </a:xfrm>
            <a:custGeom>
              <a:avLst/>
              <a:gdLst/>
              <a:ahLst/>
              <a:rect l="l" t="t" r="r" b="b"/>
              <a:pathLst>
                <a:path w="204" h="356">
                  <a:moveTo>
                    <a:pt x="101" y="0"/>
                  </a:moveTo>
                  <a:lnTo>
                    <a:pt x="121" y="7"/>
                  </a:lnTo>
                  <a:lnTo>
                    <a:pt x="121" y="118"/>
                  </a:lnTo>
                  <a:lnTo>
                    <a:pt x="185" y="99"/>
                  </a:lnTo>
                  <a:lnTo>
                    <a:pt x="204" y="104"/>
                  </a:lnTo>
                  <a:lnTo>
                    <a:pt x="204" y="153"/>
                  </a:lnTo>
                  <a:lnTo>
                    <a:pt x="117" y="177"/>
                  </a:lnTo>
                  <a:lnTo>
                    <a:pt x="117" y="348"/>
                  </a:lnTo>
                  <a:lnTo>
                    <a:pt x="78" y="356"/>
                  </a:lnTo>
                  <a:lnTo>
                    <a:pt x="63" y="190"/>
                  </a:lnTo>
                  <a:lnTo>
                    <a:pt x="23" y="197"/>
                  </a:lnTo>
                  <a:lnTo>
                    <a:pt x="0" y="195"/>
                  </a:lnTo>
                  <a:lnTo>
                    <a:pt x="57" y="146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7836840" y="3125520"/>
              <a:ext cx="96840" cy="189000"/>
            </a:xfrm>
            <a:custGeom>
              <a:avLst/>
              <a:gdLst/>
              <a:ahLst/>
              <a:rect l="l" t="t" r="r" b="b"/>
              <a:pathLst>
                <a:path w="182" h="359">
                  <a:moveTo>
                    <a:pt x="98" y="345"/>
                  </a:moveTo>
                  <a:lnTo>
                    <a:pt x="98" y="168"/>
                  </a:lnTo>
                  <a:lnTo>
                    <a:pt x="182" y="145"/>
                  </a:lnTo>
                  <a:lnTo>
                    <a:pt x="182" y="98"/>
                  </a:lnTo>
                  <a:lnTo>
                    <a:pt x="98" y="121"/>
                  </a:lnTo>
                  <a:lnTo>
                    <a:pt x="98" y="0"/>
                  </a:lnTo>
                  <a:lnTo>
                    <a:pt x="54" y="18"/>
                  </a:lnTo>
                  <a:lnTo>
                    <a:pt x="54" y="135"/>
                  </a:lnTo>
                  <a:lnTo>
                    <a:pt x="0" y="153"/>
                  </a:lnTo>
                  <a:lnTo>
                    <a:pt x="0" y="192"/>
                  </a:lnTo>
                  <a:lnTo>
                    <a:pt x="55" y="178"/>
                  </a:lnTo>
                  <a:lnTo>
                    <a:pt x="55" y="359"/>
                  </a:lnTo>
                  <a:lnTo>
                    <a:pt x="98" y="345"/>
                  </a:lnTo>
                  <a:close/>
                </a:path>
              </a:pathLst>
            </a:custGeom>
            <a:solidFill>
              <a:srgbClr val="ffff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7845120" y="3295440"/>
              <a:ext cx="87120" cy="68400"/>
            </a:xfrm>
            <a:custGeom>
              <a:avLst/>
              <a:gdLst/>
              <a:ahLst/>
              <a:rect l="l" t="t" r="r" b="b"/>
              <a:pathLst>
                <a:path w="165" h="127">
                  <a:moveTo>
                    <a:pt x="119" y="120"/>
                  </a:moveTo>
                  <a:lnTo>
                    <a:pt x="130" y="115"/>
                  </a:lnTo>
                  <a:lnTo>
                    <a:pt x="138" y="110"/>
                  </a:lnTo>
                  <a:lnTo>
                    <a:pt x="146" y="104"/>
                  </a:lnTo>
                  <a:lnTo>
                    <a:pt x="153" y="97"/>
                  </a:lnTo>
                  <a:lnTo>
                    <a:pt x="158" y="90"/>
                  </a:lnTo>
                  <a:lnTo>
                    <a:pt x="161" y="80"/>
                  </a:lnTo>
                  <a:lnTo>
                    <a:pt x="165" y="72"/>
                  </a:lnTo>
                  <a:lnTo>
                    <a:pt x="165" y="63"/>
                  </a:lnTo>
                  <a:lnTo>
                    <a:pt x="165" y="57"/>
                  </a:lnTo>
                  <a:lnTo>
                    <a:pt x="164" y="51"/>
                  </a:lnTo>
                  <a:lnTo>
                    <a:pt x="161" y="44"/>
                  </a:lnTo>
                  <a:lnTo>
                    <a:pt x="158" y="40"/>
                  </a:lnTo>
                  <a:lnTo>
                    <a:pt x="155" y="35"/>
                  </a:lnTo>
                  <a:lnTo>
                    <a:pt x="146" y="24"/>
                  </a:lnTo>
                  <a:lnTo>
                    <a:pt x="134" y="14"/>
                  </a:lnTo>
                  <a:lnTo>
                    <a:pt x="122" y="8"/>
                  </a:lnTo>
                  <a:lnTo>
                    <a:pt x="115" y="6"/>
                  </a:lnTo>
                  <a:lnTo>
                    <a:pt x="107" y="2"/>
                  </a:lnTo>
                  <a:lnTo>
                    <a:pt x="99" y="1"/>
                  </a:lnTo>
                  <a:lnTo>
                    <a:pt x="89" y="1"/>
                  </a:lnTo>
                  <a:lnTo>
                    <a:pt x="82" y="0"/>
                  </a:lnTo>
                  <a:lnTo>
                    <a:pt x="74" y="1"/>
                  </a:lnTo>
                  <a:lnTo>
                    <a:pt x="66" y="1"/>
                  </a:lnTo>
                  <a:lnTo>
                    <a:pt x="57" y="2"/>
                  </a:lnTo>
                  <a:lnTo>
                    <a:pt x="51" y="6"/>
                  </a:lnTo>
                  <a:lnTo>
                    <a:pt x="43" y="8"/>
                  </a:lnTo>
                  <a:lnTo>
                    <a:pt x="30" y="14"/>
                  </a:lnTo>
                  <a:lnTo>
                    <a:pt x="18" y="24"/>
                  </a:lnTo>
                  <a:lnTo>
                    <a:pt x="11" y="35"/>
                  </a:lnTo>
                  <a:lnTo>
                    <a:pt x="6" y="40"/>
                  </a:lnTo>
                  <a:lnTo>
                    <a:pt x="3" y="44"/>
                  </a:lnTo>
                  <a:lnTo>
                    <a:pt x="1" y="51"/>
                  </a:lnTo>
                  <a:lnTo>
                    <a:pt x="1" y="57"/>
                  </a:lnTo>
                  <a:lnTo>
                    <a:pt x="0" y="63"/>
                  </a:lnTo>
                  <a:lnTo>
                    <a:pt x="1" y="69"/>
                  </a:lnTo>
                  <a:lnTo>
                    <a:pt x="1" y="77"/>
                  </a:lnTo>
                  <a:lnTo>
                    <a:pt x="3" y="83"/>
                  </a:lnTo>
                  <a:lnTo>
                    <a:pt x="6" y="87"/>
                  </a:lnTo>
                  <a:lnTo>
                    <a:pt x="11" y="93"/>
                  </a:lnTo>
                  <a:lnTo>
                    <a:pt x="18" y="104"/>
                  </a:lnTo>
                  <a:lnTo>
                    <a:pt x="30" y="112"/>
                  </a:lnTo>
                  <a:lnTo>
                    <a:pt x="43" y="120"/>
                  </a:lnTo>
                  <a:lnTo>
                    <a:pt x="51" y="122"/>
                  </a:lnTo>
                  <a:lnTo>
                    <a:pt x="57" y="123"/>
                  </a:lnTo>
                  <a:lnTo>
                    <a:pt x="66" y="126"/>
                  </a:lnTo>
                  <a:lnTo>
                    <a:pt x="74" y="126"/>
                  </a:lnTo>
                  <a:lnTo>
                    <a:pt x="82" y="127"/>
                  </a:lnTo>
                  <a:lnTo>
                    <a:pt x="93" y="126"/>
                  </a:lnTo>
                  <a:lnTo>
                    <a:pt x="101" y="124"/>
                  </a:lnTo>
                  <a:lnTo>
                    <a:pt x="111" y="123"/>
                  </a:lnTo>
                  <a:lnTo>
                    <a:pt x="119" y="120"/>
                  </a:lnTo>
                  <a:close/>
                </a:path>
              </a:pathLst>
            </a:custGeom>
            <a:solidFill>
              <a:srgbClr val="bfbfb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7871760" y="3306600"/>
              <a:ext cx="52200" cy="39600"/>
            </a:xfrm>
            <a:custGeom>
              <a:avLst/>
              <a:gdLst/>
              <a:ahLst/>
              <a:rect l="l" t="t" r="r" b="b"/>
              <a:pathLst>
                <a:path w="100" h="76">
                  <a:moveTo>
                    <a:pt x="73" y="72"/>
                  </a:moveTo>
                  <a:lnTo>
                    <a:pt x="80" y="67"/>
                  </a:lnTo>
                  <a:lnTo>
                    <a:pt x="85" y="65"/>
                  </a:lnTo>
                  <a:lnTo>
                    <a:pt x="90" y="61"/>
                  </a:lnTo>
                  <a:lnTo>
                    <a:pt x="92" y="58"/>
                  </a:lnTo>
                  <a:lnTo>
                    <a:pt x="97" y="53"/>
                  </a:lnTo>
                  <a:lnTo>
                    <a:pt x="98" y="48"/>
                  </a:lnTo>
                  <a:lnTo>
                    <a:pt x="99" y="43"/>
                  </a:lnTo>
                  <a:lnTo>
                    <a:pt x="100" y="37"/>
                  </a:lnTo>
                  <a:lnTo>
                    <a:pt x="99" y="30"/>
                  </a:lnTo>
                  <a:lnTo>
                    <a:pt x="97" y="22"/>
                  </a:lnTo>
                  <a:lnTo>
                    <a:pt x="91" y="16"/>
                  </a:lnTo>
                  <a:lnTo>
                    <a:pt x="86" y="10"/>
                  </a:lnTo>
                  <a:lnTo>
                    <a:pt x="78" y="6"/>
                  </a:lnTo>
                  <a:lnTo>
                    <a:pt x="71" y="3"/>
                  </a:lnTo>
                  <a:lnTo>
                    <a:pt x="60" y="0"/>
                  </a:lnTo>
                  <a:lnTo>
                    <a:pt x="50" y="0"/>
                  </a:lnTo>
                  <a:lnTo>
                    <a:pt x="41" y="0"/>
                  </a:lnTo>
                  <a:lnTo>
                    <a:pt x="31" y="3"/>
                  </a:lnTo>
                  <a:lnTo>
                    <a:pt x="22" y="6"/>
                  </a:lnTo>
                  <a:lnTo>
                    <a:pt x="16" y="10"/>
                  </a:lnTo>
                  <a:lnTo>
                    <a:pt x="10" y="16"/>
                  </a:lnTo>
                  <a:lnTo>
                    <a:pt x="4" y="22"/>
                  </a:lnTo>
                  <a:lnTo>
                    <a:pt x="1" y="30"/>
                  </a:lnTo>
                  <a:lnTo>
                    <a:pt x="0" y="37"/>
                  </a:lnTo>
                  <a:lnTo>
                    <a:pt x="1" y="46"/>
                  </a:lnTo>
                  <a:lnTo>
                    <a:pt x="4" y="52"/>
                  </a:lnTo>
                  <a:lnTo>
                    <a:pt x="10" y="59"/>
                  </a:lnTo>
                  <a:lnTo>
                    <a:pt x="16" y="64"/>
                  </a:lnTo>
                  <a:lnTo>
                    <a:pt x="22" y="70"/>
                  </a:lnTo>
                  <a:lnTo>
                    <a:pt x="31" y="73"/>
                  </a:lnTo>
                  <a:lnTo>
                    <a:pt x="41" y="74"/>
                  </a:lnTo>
                  <a:lnTo>
                    <a:pt x="50" y="76"/>
                  </a:lnTo>
                  <a:lnTo>
                    <a:pt x="57" y="74"/>
                  </a:lnTo>
                  <a:lnTo>
                    <a:pt x="62" y="74"/>
                  </a:lnTo>
                  <a:lnTo>
                    <a:pt x="73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7681680" y="4114800"/>
              <a:ext cx="257040" cy="15840"/>
            </a:xfrm>
            <a:custGeom>
              <a:avLst/>
              <a:gdLst/>
              <a:ahLst/>
              <a:rect l="l" t="t" r="r" b="b"/>
              <a:pathLst>
                <a:path w="484" h="30">
                  <a:moveTo>
                    <a:pt x="484" y="30"/>
                  </a:moveTo>
                  <a:lnTo>
                    <a:pt x="258" y="2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7541640" y="4703760"/>
              <a:ext cx="331560" cy="58680"/>
            </a:xfrm>
            <a:custGeom>
              <a:avLst/>
              <a:gdLst/>
              <a:ahLst/>
              <a:rect l="l" t="t" r="r" b="b"/>
              <a:pathLst>
                <a:path w="625" h="110">
                  <a:moveTo>
                    <a:pt x="0" y="0"/>
                  </a:moveTo>
                  <a:lnTo>
                    <a:pt x="625" y="66"/>
                  </a:lnTo>
                  <a:lnTo>
                    <a:pt x="625" y="1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066680" y="533520"/>
            <a:ext cx="7543800" cy="542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Люди, которые регулярно молились, читали религиозную литературу, посещали церковь или синагогу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считали свою веру крепкой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и действенной, жаловались на проблемы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со здоровьем вполовину реже,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Times New Roman"/>
              </a:rPr>
              <a:t>нежели люди, не уделяющие времени религии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imes New Roman"/>
              </a:rPr>
              <a:t>2 </a:t>
            </a: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октября, 1992, Новости, </a:t>
            </a:r>
            <a:br>
              <a:rPr sz="1800"/>
            </a:br>
            <a:r>
              <a:rPr b="0" lang="ru-RU" sz="1800" spc="-1" strike="noStrike">
                <a:solidFill>
                  <a:srgbClr val="ffff00"/>
                </a:solidFill>
                <a:latin typeface="Times New Roman"/>
              </a:rPr>
              <a:t>Университет Purdue</a:t>
            </a:r>
            <a:endParaRPr b="0" lang="en-US" sz="18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229C53-59A6-40BA-B33A-A6756117DF33}" type="slidenum">
              <a:t>15</a:t>
            </a:fld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5" name=""/>
          <p:cNvGrpSpPr/>
          <p:nvPr/>
        </p:nvGrpSpPr>
        <p:grpSpPr>
          <a:xfrm>
            <a:off x="228600" y="304920"/>
            <a:ext cx="8672040" cy="5751000"/>
            <a:chOff x="228600" y="304920"/>
            <a:chExt cx="8672040" cy="5751000"/>
          </a:xfrm>
        </p:grpSpPr>
        <p:grpSp>
          <p:nvGrpSpPr>
            <p:cNvPr id="366" name=""/>
            <p:cNvGrpSpPr/>
            <p:nvPr/>
          </p:nvGrpSpPr>
          <p:grpSpPr>
            <a:xfrm>
              <a:off x="228600" y="304920"/>
              <a:ext cx="8672040" cy="5751000"/>
              <a:chOff x="228600" y="304920"/>
              <a:chExt cx="8672040" cy="5751000"/>
            </a:xfrm>
          </p:grpSpPr>
          <p:sp>
            <p:nvSpPr>
              <p:cNvPr id="367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859440" y="5124240"/>
                <a:ext cx="942120" cy="412920"/>
              </a:xfrm>
              <a:custGeom>
                <a:avLst/>
                <a:gdLst/>
                <a:ahLst/>
                <a:rect l="l" t="t" r="r" b="b"/>
                <a:pathLst>
                  <a:path w="1249" h="1219">
                    <a:moveTo>
                      <a:pt x="0" y="800"/>
                    </a:moveTo>
                    <a:lnTo>
                      <a:pt x="17" y="779"/>
                    </a:lnTo>
                    <a:lnTo>
                      <a:pt x="70" y="739"/>
                    </a:lnTo>
                    <a:lnTo>
                      <a:pt x="103" y="679"/>
                    </a:lnTo>
                    <a:lnTo>
                      <a:pt x="208" y="639"/>
                    </a:lnTo>
                    <a:lnTo>
                      <a:pt x="347" y="600"/>
                    </a:lnTo>
                    <a:lnTo>
                      <a:pt x="468" y="619"/>
                    </a:lnTo>
                    <a:lnTo>
                      <a:pt x="468" y="559"/>
                    </a:lnTo>
                    <a:lnTo>
                      <a:pt x="486" y="440"/>
                    </a:lnTo>
                    <a:lnTo>
                      <a:pt x="521" y="379"/>
                    </a:lnTo>
                    <a:lnTo>
                      <a:pt x="589" y="319"/>
                    </a:lnTo>
                    <a:lnTo>
                      <a:pt x="624" y="280"/>
                    </a:lnTo>
                    <a:lnTo>
                      <a:pt x="624" y="260"/>
                    </a:lnTo>
                    <a:lnTo>
                      <a:pt x="641" y="219"/>
                    </a:lnTo>
                    <a:lnTo>
                      <a:pt x="676" y="160"/>
                    </a:lnTo>
                    <a:lnTo>
                      <a:pt x="728" y="140"/>
                    </a:lnTo>
                    <a:lnTo>
                      <a:pt x="746" y="119"/>
                    </a:lnTo>
                    <a:lnTo>
                      <a:pt x="763" y="80"/>
                    </a:lnTo>
                    <a:lnTo>
                      <a:pt x="780" y="80"/>
                    </a:lnTo>
                    <a:lnTo>
                      <a:pt x="885" y="21"/>
                    </a:lnTo>
                    <a:lnTo>
                      <a:pt x="885" y="60"/>
                    </a:lnTo>
                    <a:lnTo>
                      <a:pt x="902" y="140"/>
                    </a:lnTo>
                    <a:lnTo>
                      <a:pt x="989" y="200"/>
                    </a:lnTo>
                    <a:lnTo>
                      <a:pt x="1006" y="160"/>
                    </a:lnTo>
                    <a:lnTo>
                      <a:pt x="1024" y="100"/>
                    </a:lnTo>
                    <a:lnTo>
                      <a:pt x="989" y="21"/>
                    </a:lnTo>
                    <a:lnTo>
                      <a:pt x="1006" y="0"/>
                    </a:lnTo>
                    <a:lnTo>
                      <a:pt x="1075" y="21"/>
                    </a:lnTo>
                    <a:lnTo>
                      <a:pt x="1144" y="140"/>
                    </a:lnTo>
                    <a:lnTo>
                      <a:pt x="1162" y="140"/>
                    </a:lnTo>
                    <a:lnTo>
                      <a:pt x="1214" y="140"/>
                    </a:lnTo>
                    <a:lnTo>
                      <a:pt x="1249" y="200"/>
                    </a:lnTo>
                    <a:lnTo>
                      <a:pt x="1231" y="459"/>
                    </a:lnTo>
                    <a:lnTo>
                      <a:pt x="1092" y="938"/>
                    </a:lnTo>
                    <a:lnTo>
                      <a:pt x="676" y="1219"/>
                    </a:lnTo>
                    <a:lnTo>
                      <a:pt x="538" y="1179"/>
                    </a:lnTo>
                    <a:lnTo>
                      <a:pt x="260" y="1038"/>
                    </a:lnTo>
                    <a:lnTo>
                      <a:pt x="0" y="8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  <a:close/>
                  </a:path>
                </a:pathLst>
              </a:custGeom>
              <a:solidFill>
                <a:srgbClr val="a5ff5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370280" y="5639040"/>
                <a:ext cx="980280" cy="404640"/>
              </a:xfrm>
              <a:custGeom>
                <a:avLst/>
                <a:gdLst/>
                <a:ahLst/>
                <a:rect l="l" t="t" r="r" b="b"/>
                <a:pathLst>
                  <a:path w="1302" h="1198">
                    <a:moveTo>
                      <a:pt x="1145" y="900"/>
                    </a:moveTo>
                    <a:lnTo>
                      <a:pt x="1145" y="879"/>
                    </a:lnTo>
                    <a:lnTo>
                      <a:pt x="1145" y="860"/>
                    </a:lnTo>
                    <a:lnTo>
                      <a:pt x="1145" y="839"/>
                    </a:lnTo>
                    <a:lnTo>
                      <a:pt x="1145" y="800"/>
                    </a:lnTo>
                    <a:lnTo>
                      <a:pt x="1111" y="760"/>
                    </a:lnTo>
                    <a:lnTo>
                      <a:pt x="1093" y="719"/>
                    </a:lnTo>
                    <a:lnTo>
                      <a:pt x="1093" y="600"/>
                    </a:lnTo>
                    <a:lnTo>
                      <a:pt x="1111" y="579"/>
                    </a:lnTo>
                    <a:lnTo>
                      <a:pt x="1111" y="560"/>
                    </a:lnTo>
                    <a:lnTo>
                      <a:pt x="1093" y="540"/>
                    </a:lnTo>
                    <a:lnTo>
                      <a:pt x="1024" y="500"/>
                    </a:lnTo>
                    <a:lnTo>
                      <a:pt x="937" y="481"/>
                    </a:lnTo>
                    <a:lnTo>
                      <a:pt x="886" y="481"/>
                    </a:lnTo>
                    <a:lnTo>
                      <a:pt x="833" y="500"/>
                    </a:lnTo>
                    <a:lnTo>
                      <a:pt x="833" y="540"/>
                    </a:lnTo>
                    <a:lnTo>
                      <a:pt x="833" y="600"/>
                    </a:lnTo>
                    <a:lnTo>
                      <a:pt x="851" y="600"/>
                    </a:lnTo>
                    <a:lnTo>
                      <a:pt x="851" y="619"/>
                    </a:lnTo>
                    <a:lnTo>
                      <a:pt x="833" y="660"/>
                    </a:lnTo>
                    <a:lnTo>
                      <a:pt x="833" y="679"/>
                    </a:lnTo>
                    <a:lnTo>
                      <a:pt x="867" y="740"/>
                    </a:lnTo>
                    <a:lnTo>
                      <a:pt x="886" y="779"/>
                    </a:lnTo>
                    <a:lnTo>
                      <a:pt x="851" y="740"/>
                    </a:lnTo>
                    <a:lnTo>
                      <a:pt x="764" y="660"/>
                    </a:lnTo>
                    <a:lnTo>
                      <a:pt x="677" y="600"/>
                    </a:lnTo>
                    <a:lnTo>
                      <a:pt x="677" y="660"/>
                    </a:lnTo>
                    <a:lnTo>
                      <a:pt x="694" y="800"/>
                    </a:lnTo>
                    <a:lnTo>
                      <a:pt x="781" y="900"/>
                    </a:lnTo>
                    <a:lnTo>
                      <a:pt x="816" y="900"/>
                    </a:lnTo>
                    <a:lnTo>
                      <a:pt x="867" y="919"/>
                    </a:lnTo>
                    <a:lnTo>
                      <a:pt x="886" y="959"/>
                    </a:lnTo>
                    <a:lnTo>
                      <a:pt x="919" y="1000"/>
                    </a:lnTo>
                    <a:lnTo>
                      <a:pt x="954" y="1119"/>
                    </a:lnTo>
                    <a:lnTo>
                      <a:pt x="989" y="1198"/>
                    </a:lnTo>
                    <a:lnTo>
                      <a:pt x="972" y="1179"/>
                    </a:lnTo>
                    <a:lnTo>
                      <a:pt x="902" y="1139"/>
                    </a:lnTo>
                    <a:lnTo>
                      <a:pt x="816" y="1059"/>
                    </a:lnTo>
                    <a:lnTo>
                      <a:pt x="694" y="959"/>
                    </a:lnTo>
                    <a:lnTo>
                      <a:pt x="555" y="819"/>
                    </a:lnTo>
                    <a:lnTo>
                      <a:pt x="416" y="660"/>
                    </a:lnTo>
                    <a:lnTo>
                      <a:pt x="278" y="460"/>
                    </a:lnTo>
                    <a:lnTo>
                      <a:pt x="139" y="240"/>
                    </a:lnTo>
                    <a:lnTo>
                      <a:pt x="0" y="0"/>
                    </a:lnTo>
                    <a:lnTo>
                      <a:pt x="52" y="240"/>
                    </a:lnTo>
                    <a:lnTo>
                      <a:pt x="278" y="740"/>
                    </a:lnTo>
                    <a:lnTo>
                      <a:pt x="729" y="1198"/>
                    </a:lnTo>
                    <a:lnTo>
                      <a:pt x="1302" y="1198"/>
                    </a:lnTo>
                    <a:lnTo>
                      <a:pt x="1302" y="1179"/>
                    </a:lnTo>
                    <a:lnTo>
                      <a:pt x="1267" y="1119"/>
                    </a:lnTo>
                    <a:lnTo>
                      <a:pt x="1250" y="1019"/>
                    </a:lnTo>
                    <a:lnTo>
                      <a:pt x="1250" y="1000"/>
                    </a:lnTo>
                    <a:lnTo>
                      <a:pt x="1232" y="959"/>
                    </a:lnTo>
                    <a:lnTo>
                      <a:pt x="1145" y="9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8311320" y="5334120"/>
                <a:ext cx="589320" cy="721800"/>
              </a:xfrm>
              <a:custGeom>
                <a:avLst/>
                <a:gdLst/>
                <a:ahLst/>
                <a:rect l="l" t="t" r="r" b="b"/>
                <a:pathLst>
                  <a:path w="780" h="2130">
                    <a:moveTo>
                      <a:pt x="520" y="0"/>
                    </a:moveTo>
                    <a:lnTo>
                      <a:pt x="538" y="0"/>
                    </a:lnTo>
                    <a:lnTo>
                      <a:pt x="555" y="40"/>
                    </a:lnTo>
                    <a:lnTo>
                      <a:pt x="590" y="120"/>
                    </a:lnTo>
                    <a:lnTo>
                      <a:pt x="624" y="200"/>
                    </a:lnTo>
                    <a:lnTo>
                      <a:pt x="658" y="319"/>
                    </a:lnTo>
                    <a:lnTo>
                      <a:pt x="693" y="439"/>
                    </a:lnTo>
                    <a:lnTo>
                      <a:pt x="728" y="579"/>
                    </a:lnTo>
                    <a:lnTo>
                      <a:pt x="763" y="739"/>
                    </a:lnTo>
                    <a:lnTo>
                      <a:pt x="780" y="919"/>
                    </a:lnTo>
                    <a:lnTo>
                      <a:pt x="774" y="1098"/>
                    </a:lnTo>
                    <a:lnTo>
                      <a:pt x="774" y="1298"/>
                    </a:lnTo>
                    <a:lnTo>
                      <a:pt x="780" y="1517"/>
                    </a:lnTo>
                    <a:lnTo>
                      <a:pt x="728" y="1717"/>
                    </a:lnTo>
                    <a:lnTo>
                      <a:pt x="676" y="1937"/>
                    </a:lnTo>
                    <a:lnTo>
                      <a:pt x="571" y="2130"/>
                    </a:lnTo>
                    <a:lnTo>
                      <a:pt x="364" y="2130"/>
                    </a:lnTo>
                    <a:lnTo>
                      <a:pt x="364" y="2117"/>
                    </a:lnTo>
                    <a:lnTo>
                      <a:pt x="346" y="2077"/>
                    </a:lnTo>
                    <a:lnTo>
                      <a:pt x="364" y="2037"/>
                    </a:lnTo>
                    <a:lnTo>
                      <a:pt x="346" y="1996"/>
                    </a:lnTo>
                    <a:lnTo>
                      <a:pt x="312" y="1898"/>
                    </a:lnTo>
                    <a:lnTo>
                      <a:pt x="242" y="1758"/>
                    </a:lnTo>
                    <a:lnTo>
                      <a:pt x="190" y="1617"/>
                    </a:lnTo>
                    <a:lnTo>
                      <a:pt x="155" y="1477"/>
                    </a:lnTo>
                    <a:lnTo>
                      <a:pt x="155" y="1379"/>
                    </a:lnTo>
                    <a:lnTo>
                      <a:pt x="138" y="1198"/>
                    </a:lnTo>
                    <a:lnTo>
                      <a:pt x="69" y="879"/>
                    </a:lnTo>
                    <a:lnTo>
                      <a:pt x="0" y="659"/>
                    </a:lnTo>
                    <a:lnTo>
                      <a:pt x="17" y="679"/>
                    </a:lnTo>
                    <a:lnTo>
                      <a:pt x="69" y="798"/>
                    </a:lnTo>
                    <a:lnTo>
                      <a:pt x="155" y="1079"/>
                    </a:lnTo>
                    <a:lnTo>
                      <a:pt x="173" y="1098"/>
                    </a:lnTo>
                    <a:lnTo>
                      <a:pt x="190" y="1119"/>
                    </a:lnTo>
                    <a:lnTo>
                      <a:pt x="207" y="1138"/>
                    </a:lnTo>
                    <a:lnTo>
                      <a:pt x="225" y="1098"/>
                    </a:lnTo>
                    <a:lnTo>
                      <a:pt x="259" y="1058"/>
                    </a:lnTo>
                    <a:lnTo>
                      <a:pt x="312" y="1138"/>
                    </a:lnTo>
                    <a:lnTo>
                      <a:pt x="329" y="1179"/>
                    </a:lnTo>
                    <a:lnTo>
                      <a:pt x="346" y="1298"/>
                    </a:lnTo>
                    <a:lnTo>
                      <a:pt x="364" y="1438"/>
                    </a:lnTo>
                    <a:lnTo>
                      <a:pt x="381" y="1558"/>
                    </a:lnTo>
                    <a:lnTo>
                      <a:pt x="416" y="1677"/>
                    </a:lnTo>
                    <a:lnTo>
                      <a:pt x="468" y="1737"/>
                    </a:lnTo>
                    <a:lnTo>
                      <a:pt x="485" y="1777"/>
                    </a:lnTo>
                    <a:lnTo>
                      <a:pt x="468" y="1837"/>
                    </a:lnTo>
                    <a:lnTo>
                      <a:pt x="468" y="1857"/>
                    </a:lnTo>
                    <a:lnTo>
                      <a:pt x="485" y="1798"/>
                    </a:lnTo>
                    <a:lnTo>
                      <a:pt x="520" y="1617"/>
                    </a:lnTo>
                    <a:lnTo>
                      <a:pt x="571" y="1318"/>
                    </a:lnTo>
                    <a:lnTo>
                      <a:pt x="590" y="958"/>
                    </a:lnTo>
                    <a:lnTo>
                      <a:pt x="590" y="500"/>
                    </a:lnTo>
                    <a:lnTo>
                      <a:pt x="520" y="0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8703360" y="5435640"/>
                <a:ext cx="144360" cy="587520"/>
              </a:xfrm>
              <a:custGeom>
                <a:avLst/>
                <a:gdLst/>
                <a:ahLst/>
                <a:rect l="l" t="t" r="r" b="b"/>
                <a:pathLst>
                  <a:path w="190" h="1737">
                    <a:moveTo>
                      <a:pt x="51" y="0"/>
                    </a:moveTo>
                    <a:lnTo>
                      <a:pt x="70" y="40"/>
                    </a:lnTo>
                    <a:lnTo>
                      <a:pt x="104" y="139"/>
                    </a:lnTo>
                    <a:lnTo>
                      <a:pt x="138" y="319"/>
                    </a:lnTo>
                    <a:lnTo>
                      <a:pt x="173" y="559"/>
                    </a:lnTo>
                    <a:lnTo>
                      <a:pt x="190" y="819"/>
                    </a:lnTo>
                    <a:lnTo>
                      <a:pt x="173" y="1117"/>
                    </a:lnTo>
                    <a:lnTo>
                      <a:pt x="121" y="1417"/>
                    </a:lnTo>
                    <a:lnTo>
                      <a:pt x="0" y="17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8586000" y="6016680"/>
                <a:ext cx="156600" cy="27000"/>
              </a:xfrm>
              <a:custGeom>
                <a:avLst/>
                <a:gdLst/>
                <a:ahLst/>
                <a:rect l="l" t="t" r="r" b="b"/>
                <a:pathLst>
                  <a:path w="207" h="79">
                    <a:moveTo>
                      <a:pt x="0" y="20"/>
                    </a:moveTo>
                    <a:lnTo>
                      <a:pt x="35" y="20"/>
                    </a:lnTo>
                    <a:lnTo>
                      <a:pt x="69" y="0"/>
                    </a:lnTo>
                    <a:lnTo>
                      <a:pt x="104" y="20"/>
                    </a:lnTo>
                    <a:lnTo>
                      <a:pt x="156" y="40"/>
                    </a:lnTo>
                    <a:lnTo>
                      <a:pt x="191" y="40"/>
                    </a:lnTo>
                    <a:lnTo>
                      <a:pt x="207" y="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7409520" y="5699880"/>
                <a:ext cx="548640" cy="343800"/>
              </a:xfrm>
              <a:custGeom>
                <a:avLst/>
                <a:gdLst/>
                <a:ahLst/>
                <a:rect l="l" t="t" r="r" b="b"/>
                <a:pathLst>
                  <a:path w="729" h="1017">
                    <a:moveTo>
                      <a:pt x="729" y="1017"/>
                    </a:moveTo>
                    <a:lnTo>
                      <a:pt x="695" y="998"/>
                    </a:lnTo>
                    <a:lnTo>
                      <a:pt x="608" y="938"/>
                    </a:lnTo>
                    <a:lnTo>
                      <a:pt x="503" y="819"/>
                    </a:lnTo>
                    <a:lnTo>
                      <a:pt x="364" y="679"/>
                    </a:lnTo>
                    <a:lnTo>
                      <a:pt x="209" y="498"/>
                    </a:lnTo>
                    <a:lnTo>
                      <a:pt x="87" y="25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8037000" y="5901840"/>
                <a:ext cx="195840" cy="20160"/>
              </a:xfrm>
              <a:custGeom>
                <a:avLst/>
                <a:gdLst/>
                <a:ahLst/>
                <a:rect l="l" t="t" r="r" b="b"/>
                <a:pathLst>
                  <a:path w="259" h="60">
                    <a:moveTo>
                      <a:pt x="259" y="60"/>
                    </a:moveTo>
                    <a:lnTo>
                      <a:pt x="190" y="40"/>
                    </a:lnTo>
                    <a:lnTo>
                      <a:pt x="68" y="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7880040" y="5841000"/>
                <a:ext cx="313560" cy="202680"/>
              </a:xfrm>
              <a:custGeom>
                <a:avLst/>
                <a:gdLst/>
                <a:ahLst/>
                <a:rect l="l" t="t" r="r" b="b"/>
                <a:pathLst>
                  <a:path w="416" h="598">
                    <a:moveTo>
                      <a:pt x="416" y="598"/>
                    </a:moveTo>
                    <a:lnTo>
                      <a:pt x="381" y="559"/>
                    </a:lnTo>
                    <a:lnTo>
                      <a:pt x="329" y="459"/>
                    </a:lnTo>
                    <a:lnTo>
                      <a:pt x="260" y="359"/>
                    </a:lnTo>
                    <a:lnTo>
                      <a:pt x="242" y="300"/>
                    </a:lnTo>
                    <a:lnTo>
                      <a:pt x="209" y="260"/>
                    </a:lnTo>
                    <a:lnTo>
                      <a:pt x="156" y="239"/>
                    </a:lnTo>
                    <a:lnTo>
                      <a:pt x="104" y="219"/>
                    </a:lnTo>
                    <a:lnTo>
                      <a:pt x="52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8154720" y="5821920"/>
                <a:ext cx="13320" cy="79560"/>
              </a:xfrm>
              <a:custGeom>
                <a:avLst/>
                <a:gdLst/>
                <a:ahLst/>
                <a:rect l="l" t="t" r="r" b="b"/>
                <a:pathLst>
                  <a:path w="17" h="239">
                    <a:moveTo>
                      <a:pt x="0" y="0"/>
                    </a:moveTo>
                    <a:lnTo>
                      <a:pt x="17" y="39"/>
                    </a:lnTo>
                    <a:lnTo>
                      <a:pt x="17" y="120"/>
                    </a:lnTo>
                    <a:lnTo>
                      <a:pt x="0" y="179"/>
                    </a:lnTo>
                    <a:lnTo>
                      <a:pt x="0" y="200"/>
                    </a:lnTo>
                    <a:lnTo>
                      <a:pt x="0" y="220"/>
                    </a:lnTo>
                    <a:lnTo>
                      <a:pt x="0" y="2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8703360" y="5962320"/>
                <a:ext cx="13320" cy="60840"/>
              </a:xfrm>
              <a:custGeom>
                <a:avLst/>
                <a:gdLst/>
                <a:ahLst/>
                <a:rect l="l" t="t" r="r" b="b"/>
                <a:pathLst>
                  <a:path w="18" h="180">
                    <a:moveTo>
                      <a:pt x="0" y="0"/>
                    </a:moveTo>
                    <a:lnTo>
                      <a:pt x="0" y="41"/>
                    </a:lnTo>
                    <a:lnTo>
                      <a:pt x="18" y="12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8703360" y="5496840"/>
                <a:ext cx="118800" cy="506160"/>
              </a:xfrm>
              <a:custGeom>
                <a:avLst/>
                <a:gdLst/>
                <a:ahLst/>
                <a:rect l="l" t="t" r="r" b="b"/>
                <a:pathLst>
                  <a:path w="156" h="1498">
                    <a:moveTo>
                      <a:pt x="51" y="0"/>
                    </a:moveTo>
                    <a:lnTo>
                      <a:pt x="121" y="260"/>
                    </a:lnTo>
                    <a:lnTo>
                      <a:pt x="156" y="600"/>
                    </a:lnTo>
                    <a:lnTo>
                      <a:pt x="138" y="1038"/>
                    </a:lnTo>
                    <a:lnTo>
                      <a:pt x="0" y="14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8703360" y="5557680"/>
                <a:ext cx="105120" cy="425160"/>
              </a:xfrm>
              <a:custGeom>
                <a:avLst/>
                <a:gdLst/>
                <a:ahLst/>
                <a:rect l="l" t="t" r="r" b="b"/>
                <a:pathLst>
                  <a:path w="138" h="1258">
                    <a:moveTo>
                      <a:pt x="104" y="0"/>
                    </a:moveTo>
                    <a:lnTo>
                      <a:pt x="138" y="360"/>
                    </a:lnTo>
                    <a:lnTo>
                      <a:pt x="104" y="799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8703360" y="5679720"/>
                <a:ext cx="79560" cy="282600"/>
              </a:xfrm>
              <a:custGeom>
                <a:avLst/>
                <a:gdLst/>
                <a:ahLst/>
                <a:rect l="l" t="t" r="r" b="b"/>
                <a:pathLst>
                  <a:path w="104" h="838">
                    <a:moveTo>
                      <a:pt x="104" y="0"/>
                    </a:moveTo>
                    <a:lnTo>
                      <a:pt x="86" y="260"/>
                    </a:lnTo>
                    <a:lnTo>
                      <a:pt x="70" y="539"/>
                    </a:lnTo>
                    <a:lnTo>
                      <a:pt x="0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919280" y="5861160"/>
                <a:ext cx="313560" cy="182520"/>
              </a:xfrm>
              <a:custGeom>
                <a:avLst/>
                <a:gdLst/>
                <a:ahLst/>
                <a:rect l="l" t="t" r="r" b="b"/>
                <a:pathLst>
                  <a:path w="416" h="538">
                    <a:moveTo>
                      <a:pt x="416" y="538"/>
                    </a:moveTo>
                    <a:lnTo>
                      <a:pt x="382" y="499"/>
                    </a:lnTo>
                    <a:lnTo>
                      <a:pt x="312" y="399"/>
                    </a:lnTo>
                    <a:lnTo>
                      <a:pt x="260" y="299"/>
                    </a:lnTo>
                    <a:lnTo>
                      <a:pt x="225" y="240"/>
                    </a:lnTo>
                    <a:lnTo>
                      <a:pt x="208" y="200"/>
                    </a:lnTo>
                    <a:lnTo>
                      <a:pt x="157" y="179"/>
                    </a:lnTo>
                    <a:lnTo>
                      <a:pt x="104" y="159"/>
                    </a:lnTo>
                    <a:lnTo>
                      <a:pt x="52" y="11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958520" y="58813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7" h="479">
                    <a:moveTo>
                      <a:pt x="417" y="479"/>
                    </a:moveTo>
                    <a:lnTo>
                      <a:pt x="382" y="440"/>
                    </a:lnTo>
                    <a:lnTo>
                      <a:pt x="312" y="340"/>
                    </a:lnTo>
                    <a:lnTo>
                      <a:pt x="260" y="240"/>
                    </a:lnTo>
                    <a:lnTo>
                      <a:pt x="225" y="181"/>
                    </a:lnTo>
                    <a:lnTo>
                      <a:pt x="191" y="141"/>
                    </a:lnTo>
                    <a:lnTo>
                      <a:pt x="156" y="120"/>
                    </a:lnTo>
                    <a:lnTo>
                      <a:pt x="105" y="100"/>
                    </a:lnTo>
                    <a:lnTo>
                      <a:pt x="52" y="8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997760" y="5901840"/>
                <a:ext cx="313560" cy="141840"/>
              </a:xfrm>
              <a:custGeom>
                <a:avLst/>
                <a:gdLst/>
                <a:ahLst/>
                <a:rect l="l" t="t" r="r" b="b"/>
                <a:pathLst>
                  <a:path w="417" h="419">
                    <a:moveTo>
                      <a:pt x="417" y="419"/>
                    </a:moveTo>
                    <a:lnTo>
                      <a:pt x="382" y="380"/>
                    </a:lnTo>
                    <a:lnTo>
                      <a:pt x="295" y="280"/>
                    </a:lnTo>
                    <a:lnTo>
                      <a:pt x="208" y="180"/>
                    </a:lnTo>
                    <a:lnTo>
                      <a:pt x="208" y="121"/>
                    </a:lnTo>
                    <a:lnTo>
                      <a:pt x="173" y="81"/>
                    </a:lnTo>
                    <a:lnTo>
                      <a:pt x="104" y="60"/>
                    </a:lnTo>
                    <a:lnTo>
                      <a:pt x="86" y="60"/>
                    </a:lnTo>
                    <a:lnTo>
                      <a:pt x="53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8075880" y="592200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5" h="359">
                    <a:moveTo>
                      <a:pt x="365" y="359"/>
                    </a:moveTo>
                    <a:lnTo>
                      <a:pt x="330" y="320"/>
                    </a:lnTo>
                    <a:lnTo>
                      <a:pt x="261" y="220"/>
                    </a:lnTo>
                    <a:lnTo>
                      <a:pt x="208" y="120"/>
                    </a:lnTo>
                    <a:lnTo>
                      <a:pt x="174" y="61"/>
                    </a:lnTo>
                    <a:lnTo>
                      <a:pt x="139" y="21"/>
                    </a:lnTo>
                    <a:lnTo>
                      <a:pt x="104" y="0"/>
                    </a:lnTo>
                    <a:lnTo>
                      <a:pt x="69" y="0"/>
                    </a:lnTo>
                    <a:lnTo>
                      <a:pt x="35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8154720" y="5922000"/>
                <a:ext cx="156600" cy="81360"/>
              </a:xfrm>
              <a:custGeom>
                <a:avLst/>
                <a:gdLst/>
                <a:ahLst/>
                <a:rect l="l" t="t" r="r" b="b"/>
                <a:pathLst>
                  <a:path w="209" h="240">
                    <a:moveTo>
                      <a:pt x="209" y="240"/>
                    </a:moveTo>
                    <a:lnTo>
                      <a:pt x="191" y="220"/>
                    </a:lnTo>
                    <a:lnTo>
                      <a:pt x="174" y="200"/>
                    </a:lnTo>
                    <a:lnTo>
                      <a:pt x="157" y="180"/>
                    </a:lnTo>
                    <a:lnTo>
                      <a:pt x="122" y="80"/>
                    </a:lnTo>
                    <a:lnTo>
                      <a:pt x="87" y="40"/>
                    </a:lnTo>
                    <a:lnTo>
                      <a:pt x="52" y="0"/>
                    </a:lnTo>
                    <a:lnTo>
                      <a:pt x="35" y="0"/>
                    </a:lnTo>
                    <a:lnTo>
                      <a:pt x="17" y="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448760" y="5720040"/>
                <a:ext cx="587880" cy="323640"/>
              </a:xfrm>
              <a:custGeom>
                <a:avLst/>
                <a:gdLst/>
                <a:ahLst/>
                <a:rect l="l" t="t" r="r" b="b"/>
                <a:pathLst>
                  <a:path w="782" h="958">
                    <a:moveTo>
                      <a:pt x="782" y="958"/>
                    </a:moveTo>
                    <a:lnTo>
                      <a:pt x="747" y="919"/>
                    </a:lnTo>
                    <a:lnTo>
                      <a:pt x="625" y="858"/>
                    </a:lnTo>
                    <a:lnTo>
                      <a:pt x="469" y="719"/>
                    </a:lnTo>
                    <a:lnTo>
                      <a:pt x="295" y="539"/>
                    </a:lnTo>
                    <a:lnTo>
                      <a:pt x="139" y="3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566480" y="5801400"/>
                <a:ext cx="470520" cy="242280"/>
              </a:xfrm>
              <a:custGeom>
                <a:avLst/>
                <a:gdLst/>
                <a:ahLst/>
                <a:rect l="l" t="t" r="r" b="b"/>
                <a:pathLst>
                  <a:path w="625" h="717">
                    <a:moveTo>
                      <a:pt x="625" y="717"/>
                    </a:moveTo>
                    <a:lnTo>
                      <a:pt x="572" y="678"/>
                    </a:lnTo>
                    <a:lnTo>
                      <a:pt x="468" y="598"/>
                    </a:lnTo>
                    <a:lnTo>
                      <a:pt x="346" y="498"/>
                    </a:lnTo>
                    <a:lnTo>
                      <a:pt x="225" y="358"/>
                    </a:lnTo>
                    <a:lnTo>
                      <a:pt x="104" y="19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7684200" y="5861160"/>
                <a:ext cx="391680" cy="182520"/>
              </a:xfrm>
              <a:custGeom>
                <a:avLst/>
                <a:gdLst/>
                <a:ahLst/>
                <a:rect l="l" t="t" r="r" b="b"/>
                <a:pathLst>
                  <a:path w="521" h="538">
                    <a:moveTo>
                      <a:pt x="521" y="538"/>
                    </a:moveTo>
                    <a:lnTo>
                      <a:pt x="435" y="479"/>
                    </a:lnTo>
                    <a:lnTo>
                      <a:pt x="296" y="359"/>
                    </a:lnTo>
                    <a:lnTo>
                      <a:pt x="157" y="20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7840800" y="5942160"/>
                <a:ext cx="274320" cy="101520"/>
              </a:xfrm>
              <a:custGeom>
                <a:avLst/>
                <a:gdLst/>
                <a:ahLst/>
                <a:rect l="l" t="t" r="r" b="b"/>
                <a:pathLst>
                  <a:path w="364" h="298">
                    <a:moveTo>
                      <a:pt x="364" y="298"/>
                    </a:moveTo>
                    <a:lnTo>
                      <a:pt x="277" y="239"/>
                    </a:lnTo>
                    <a:lnTo>
                      <a:pt x="139" y="1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8507160" y="5699880"/>
                <a:ext cx="19620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18" y="40"/>
                    </a:lnTo>
                    <a:lnTo>
                      <a:pt x="35" y="79"/>
                    </a:lnTo>
                    <a:lnTo>
                      <a:pt x="53" y="119"/>
                    </a:lnTo>
                    <a:lnTo>
                      <a:pt x="53" y="239"/>
                    </a:lnTo>
                    <a:lnTo>
                      <a:pt x="70" y="398"/>
                    </a:lnTo>
                    <a:lnTo>
                      <a:pt x="105" y="538"/>
                    </a:lnTo>
                    <a:lnTo>
                      <a:pt x="157" y="658"/>
                    </a:lnTo>
                    <a:lnTo>
                      <a:pt x="226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8468280" y="5699880"/>
                <a:ext cx="195840" cy="323640"/>
              </a:xfrm>
              <a:custGeom>
                <a:avLst/>
                <a:gdLst/>
                <a:ahLst/>
                <a:rect l="l" t="t" r="r" b="b"/>
                <a:pathLst>
                  <a:path w="261" h="958">
                    <a:moveTo>
                      <a:pt x="0" y="0"/>
                    </a:moveTo>
                    <a:lnTo>
                      <a:pt x="35" y="59"/>
                    </a:lnTo>
                    <a:lnTo>
                      <a:pt x="52" y="100"/>
                    </a:lnTo>
                    <a:lnTo>
                      <a:pt x="52" y="119"/>
                    </a:lnTo>
                    <a:lnTo>
                      <a:pt x="70" y="239"/>
                    </a:lnTo>
                    <a:lnTo>
                      <a:pt x="87" y="419"/>
                    </a:lnTo>
                    <a:lnTo>
                      <a:pt x="105" y="538"/>
                    </a:lnTo>
                    <a:lnTo>
                      <a:pt x="174" y="679"/>
                    </a:lnTo>
                    <a:lnTo>
                      <a:pt x="244" y="838"/>
                    </a:lnTo>
                    <a:lnTo>
                      <a:pt x="261" y="9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68280" y="5720040"/>
                <a:ext cx="156600" cy="303120"/>
              </a:xfrm>
              <a:custGeom>
                <a:avLst/>
                <a:gdLst/>
                <a:ahLst/>
                <a:rect l="l" t="t" r="r" b="b"/>
                <a:pathLst>
                  <a:path w="209" h="899">
                    <a:moveTo>
                      <a:pt x="0" y="0"/>
                    </a:move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18" y="180"/>
                    </a:lnTo>
                    <a:lnTo>
                      <a:pt x="52" y="339"/>
                    </a:lnTo>
                    <a:lnTo>
                      <a:pt x="105" y="479"/>
                    </a:lnTo>
                    <a:lnTo>
                      <a:pt x="139" y="620"/>
                    </a:lnTo>
                    <a:lnTo>
                      <a:pt x="192" y="779"/>
                    </a:lnTo>
                    <a:lnTo>
                      <a:pt x="209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29040" y="5720040"/>
                <a:ext cx="195840" cy="303120"/>
              </a:xfrm>
              <a:custGeom>
                <a:avLst/>
                <a:gdLst/>
                <a:ahLst/>
                <a:rect l="l" t="t" r="r" b="b"/>
                <a:pathLst>
                  <a:path w="261" h="899">
                    <a:moveTo>
                      <a:pt x="0" y="0"/>
                    </a:moveTo>
                    <a:lnTo>
                      <a:pt x="18" y="20"/>
                    </a:lnTo>
                    <a:lnTo>
                      <a:pt x="35" y="41"/>
                    </a:lnTo>
                    <a:lnTo>
                      <a:pt x="52" y="60"/>
                    </a:lnTo>
                    <a:lnTo>
                      <a:pt x="52" y="180"/>
                    </a:lnTo>
                    <a:lnTo>
                      <a:pt x="70" y="339"/>
                    </a:lnTo>
                    <a:lnTo>
                      <a:pt x="104" y="479"/>
                    </a:lnTo>
                    <a:lnTo>
                      <a:pt x="157" y="599"/>
                    </a:lnTo>
                    <a:lnTo>
                      <a:pt x="226" y="779"/>
                    </a:lnTo>
                    <a:lnTo>
                      <a:pt x="261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350560" y="5618520"/>
                <a:ext cx="235080" cy="405000"/>
              </a:xfrm>
              <a:custGeom>
                <a:avLst/>
                <a:gdLst/>
                <a:ahLst/>
                <a:rect l="l" t="t" r="r" b="b"/>
                <a:pathLst>
                  <a:path w="312" h="1198">
                    <a:moveTo>
                      <a:pt x="0" y="0"/>
                    </a:moveTo>
                    <a:lnTo>
                      <a:pt x="51" y="159"/>
                    </a:lnTo>
                    <a:lnTo>
                      <a:pt x="86" y="280"/>
                    </a:lnTo>
                    <a:lnTo>
                      <a:pt x="103" y="359"/>
                    </a:lnTo>
                    <a:lnTo>
                      <a:pt x="121" y="479"/>
                    </a:lnTo>
                    <a:lnTo>
                      <a:pt x="138" y="659"/>
                    </a:lnTo>
                    <a:lnTo>
                      <a:pt x="155" y="778"/>
                    </a:lnTo>
                    <a:lnTo>
                      <a:pt x="225" y="919"/>
                    </a:lnTo>
                    <a:lnTo>
                      <a:pt x="294" y="1078"/>
                    </a:lnTo>
                    <a:lnTo>
                      <a:pt x="312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  <a:lnTo>
                      <a:pt x="1614" y="2337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898320" y="5334120"/>
                <a:ext cx="274320" cy="60840"/>
              </a:xfrm>
              <a:custGeom>
                <a:avLst/>
                <a:gdLst/>
                <a:ahLst/>
                <a:rect l="l" t="t" r="r" b="b"/>
                <a:pathLst>
                  <a:path w="364" h="181">
                    <a:moveTo>
                      <a:pt x="0" y="181"/>
                    </a:moveTo>
                    <a:lnTo>
                      <a:pt x="35" y="181"/>
                    </a:lnTo>
                    <a:lnTo>
                      <a:pt x="86" y="160"/>
                    </a:lnTo>
                    <a:lnTo>
                      <a:pt x="156" y="120"/>
                    </a:lnTo>
                    <a:lnTo>
                      <a:pt x="225" y="60"/>
                    </a:lnTo>
                    <a:lnTo>
                      <a:pt x="312" y="2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200000" y="5212440"/>
                <a:ext cx="209520" cy="243360"/>
              </a:xfrm>
              <a:custGeom>
                <a:avLst/>
                <a:gdLst/>
                <a:ahLst/>
                <a:rect l="l" t="t" r="r" b="b"/>
                <a:pathLst>
                  <a:path w="277" h="719">
                    <a:moveTo>
                      <a:pt x="225" y="719"/>
                    </a:moveTo>
                    <a:lnTo>
                      <a:pt x="190" y="678"/>
                    </a:lnTo>
                    <a:lnTo>
                      <a:pt x="122" y="599"/>
                    </a:lnTo>
                    <a:lnTo>
                      <a:pt x="70" y="540"/>
                    </a:lnTo>
                    <a:lnTo>
                      <a:pt x="17" y="499"/>
                    </a:lnTo>
                    <a:lnTo>
                      <a:pt x="0" y="440"/>
                    </a:lnTo>
                    <a:lnTo>
                      <a:pt x="17" y="359"/>
                    </a:lnTo>
                    <a:lnTo>
                      <a:pt x="52" y="280"/>
                    </a:lnTo>
                    <a:lnTo>
                      <a:pt x="138" y="140"/>
                    </a:lnTo>
                    <a:lnTo>
                      <a:pt x="27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409520" y="517176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7" h="300">
                    <a:moveTo>
                      <a:pt x="0" y="0"/>
                    </a:moveTo>
                    <a:lnTo>
                      <a:pt x="35" y="60"/>
                    </a:lnTo>
                    <a:lnTo>
                      <a:pt x="87" y="179"/>
                    </a:lnTo>
                    <a:lnTo>
                      <a:pt x="157" y="30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448760" y="5151600"/>
                <a:ext cx="78120" cy="60840"/>
              </a:xfrm>
              <a:custGeom>
                <a:avLst/>
                <a:gdLst/>
                <a:ahLst/>
                <a:rect l="l" t="t" r="r" b="b"/>
                <a:pathLst>
                  <a:path w="105" h="180">
                    <a:moveTo>
                      <a:pt x="0" y="0"/>
                    </a:moveTo>
                    <a:lnTo>
                      <a:pt x="18" y="39"/>
                    </a:lnTo>
                    <a:lnTo>
                      <a:pt x="70" y="100"/>
                    </a:lnTo>
                    <a:lnTo>
                      <a:pt x="105" y="18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91800" y="5354640"/>
                <a:ext cx="78120" cy="81000"/>
              </a:xfrm>
              <a:custGeom>
                <a:avLst/>
                <a:gdLst/>
                <a:ahLst/>
                <a:rect l="l" t="t" r="r" b="b"/>
                <a:pathLst>
                  <a:path w="103" h="240">
                    <a:moveTo>
                      <a:pt x="0" y="240"/>
                    </a:moveTo>
                    <a:lnTo>
                      <a:pt x="16" y="180"/>
                    </a:lnTo>
                    <a:lnTo>
                      <a:pt x="51" y="8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252560" y="5334120"/>
                <a:ext cx="156960" cy="81360"/>
              </a:xfrm>
              <a:custGeom>
                <a:avLst/>
                <a:gdLst/>
                <a:ahLst/>
                <a:rect l="l" t="t" r="r" b="b"/>
                <a:pathLst>
                  <a:path w="207" h="240">
                    <a:moveTo>
                      <a:pt x="0" y="240"/>
                    </a:moveTo>
                    <a:lnTo>
                      <a:pt x="33" y="181"/>
                    </a:lnTo>
                    <a:lnTo>
                      <a:pt x="86" y="81"/>
                    </a:lnTo>
                    <a:lnTo>
                      <a:pt x="207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252560" y="529344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0" y="300"/>
                    </a:moveTo>
                    <a:lnTo>
                      <a:pt x="17" y="239"/>
                    </a:lnTo>
                    <a:lnTo>
                      <a:pt x="52" y="119"/>
                    </a:lnTo>
                    <a:lnTo>
                      <a:pt x="155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211880" y="5273280"/>
                <a:ext cx="197640" cy="101520"/>
              </a:xfrm>
              <a:custGeom>
                <a:avLst/>
                <a:gdLst/>
                <a:ahLst/>
                <a:rect l="l" t="t" r="r" b="b"/>
                <a:pathLst>
                  <a:path w="260" h="299">
                    <a:moveTo>
                      <a:pt x="0" y="299"/>
                    </a:moveTo>
                    <a:lnTo>
                      <a:pt x="18" y="239"/>
                    </a:lnTo>
                    <a:lnTo>
                      <a:pt x="86" y="119"/>
                    </a:lnTo>
                    <a:lnTo>
                      <a:pt x="260" y="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370280" y="5185080"/>
                <a:ext cx="78480" cy="6480"/>
              </a:xfrm>
              <a:custGeom>
                <a:avLst/>
                <a:gdLst/>
                <a:ahLst/>
                <a:rect l="l" t="t" r="r" b="b"/>
                <a:pathLst>
                  <a:path w="104" h="20">
                    <a:moveTo>
                      <a:pt x="104" y="20"/>
                    </a:moveTo>
                    <a:lnTo>
                      <a:pt x="87" y="20"/>
                    </a:lnTo>
                    <a:lnTo>
                      <a:pt x="52" y="0"/>
                    </a:lnTo>
                    <a:lnTo>
                      <a:pt x="0" y="20"/>
                    </a:lnTo>
                  </a:path>
                </a:pathLst>
              </a:custGeom>
              <a:noFill/>
              <a:ln w="1440">
                <a:solidFill>
                  <a:srgbClr val="b27f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819840" y="5010480"/>
                <a:ext cx="1543680" cy="911160"/>
              </a:xfrm>
              <a:custGeom>
                <a:avLst/>
                <a:gdLst/>
                <a:ahLst/>
                <a:rect l="l" t="t" r="r" b="b"/>
                <a:pathLst>
                  <a:path w="2047" h="2695">
                    <a:moveTo>
                      <a:pt x="1614" y="2337"/>
                    </a:moveTo>
                    <a:lnTo>
                      <a:pt x="1630" y="2375"/>
                    </a:lnTo>
                    <a:lnTo>
                      <a:pt x="1647" y="2456"/>
                    </a:lnTo>
                    <a:lnTo>
                      <a:pt x="1665" y="2516"/>
                    </a:lnTo>
                    <a:lnTo>
                      <a:pt x="1700" y="2535"/>
                    </a:lnTo>
                    <a:lnTo>
                      <a:pt x="1734" y="2556"/>
                    </a:lnTo>
                    <a:lnTo>
                      <a:pt x="1769" y="2575"/>
                    </a:lnTo>
                    <a:lnTo>
                      <a:pt x="1769" y="2535"/>
                    </a:lnTo>
                    <a:lnTo>
                      <a:pt x="1769" y="2435"/>
                    </a:lnTo>
                    <a:lnTo>
                      <a:pt x="1769" y="2396"/>
                    </a:lnTo>
                    <a:lnTo>
                      <a:pt x="1752" y="2156"/>
                    </a:lnTo>
                    <a:lnTo>
                      <a:pt x="1752" y="1656"/>
                    </a:lnTo>
                    <a:lnTo>
                      <a:pt x="1821" y="1258"/>
                    </a:lnTo>
                    <a:lnTo>
                      <a:pt x="1891" y="1098"/>
                    </a:lnTo>
                    <a:lnTo>
                      <a:pt x="1943" y="939"/>
                    </a:lnTo>
                    <a:lnTo>
                      <a:pt x="1995" y="798"/>
                    </a:lnTo>
                    <a:lnTo>
                      <a:pt x="2030" y="679"/>
                    </a:lnTo>
                    <a:lnTo>
                      <a:pt x="2030" y="599"/>
                    </a:lnTo>
                    <a:lnTo>
                      <a:pt x="2047" y="479"/>
                    </a:lnTo>
                    <a:lnTo>
                      <a:pt x="2047" y="379"/>
                    </a:lnTo>
                    <a:lnTo>
                      <a:pt x="2030" y="299"/>
                    </a:lnTo>
                    <a:lnTo>
                      <a:pt x="2030" y="160"/>
                    </a:lnTo>
                    <a:lnTo>
                      <a:pt x="1995" y="39"/>
                    </a:lnTo>
                    <a:lnTo>
                      <a:pt x="1978" y="0"/>
                    </a:lnTo>
                    <a:lnTo>
                      <a:pt x="1978" y="39"/>
                    </a:lnTo>
                    <a:lnTo>
                      <a:pt x="1926" y="160"/>
                    </a:lnTo>
                    <a:lnTo>
                      <a:pt x="1821" y="239"/>
                    </a:lnTo>
                    <a:lnTo>
                      <a:pt x="1752" y="260"/>
                    </a:lnTo>
                    <a:lnTo>
                      <a:pt x="1682" y="320"/>
                    </a:lnTo>
                    <a:lnTo>
                      <a:pt x="1630" y="399"/>
                    </a:lnTo>
                    <a:lnTo>
                      <a:pt x="1595" y="479"/>
                    </a:lnTo>
                    <a:lnTo>
                      <a:pt x="1561" y="558"/>
                    </a:lnTo>
                    <a:lnTo>
                      <a:pt x="1561" y="599"/>
                    </a:lnTo>
                    <a:lnTo>
                      <a:pt x="1544" y="579"/>
                    </a:lnTo>
                    <a:lnTo>
                      <a:pt x="1492" y="539"/>
                    </a:lnTo>
                    <a:lnTo>
                      <a:pt x="1405" y="539"/>
                    </a:lnTo>
                    <a:lnTo>
                      <a:pt x="1388" y="519"/>
                    </a:lnTo>
                    <a:lnTo>
                      <a:pt x="1353" y="519"/>
                    </a:lnTo>
                    <a:lnTo>
                      <a:pt x="1301" y="539"/>
                    </a:lnTo>
                    <a:lnTo>
                      <a:pt x="1196" y="539"/>
                    </a:lnTo>
                    <a:lnTo>
                      <a:pt x="1144" y="479"/>
                    </a:lnTo>
                    <a:lnTo>
                      <a:pt x="1127" y="519"/>
                    </a:lnTo>
                    <a:lnTo>
                      <a:pt x="1093" y="619"/>
                    </a:lnTo>
                    <a:lnTo>
                      <a:pt x="1041" y="658"/>
                    </a:lnTo>
                    <a:lnTo>
                      <a:pt x="1006" y="639"/>
                    </a:lnTo>
                    <a:lnTo>
                      <a:pt x="954" y="599"/>
                    </a:lnTo>
                    <a:lnTo>
                      <a:pt x="885" y="599"/>
                    </a:lnTo>
                    <a:lnTo>
                      <a:pt x="919" y="619"/>
                    </a:lnTo>
                    <a:lnTo>
                      <a:pt x="954" y="699"/>
                    </a:lnTo>
                    <a:lnTo>
                      <a:pt x="989" y="779"/>
                    </a:lnTo>
                    <a:lnTo>
                      <a:pt x="971" y="798"/>
                    </a:lnTo>
                    <a:lnTo>
                      <a:pt x="919" y="779"/>
                    </a:lnTo>
                    <a:lnTo>
                      <a:pt x="832" y="658"/>
                    </a:lnTo>
                    <a:lnTo>
                      <a:pt x="815" y="639"/>
                    </a:lnTo>
                    <a:lnTo>
                      <a:pt x="780" y="639"/>
                    </a:lnTo>
                    <a:lnTo>
                      <a:pt x="780" y="718"/>
                    </a:lnTo>
                    <a:lnTo>
                      <a:pt x="780" y="898"/>
                    </a:lnTo>
                    <a:lnTo>
                      <a:pt x="745" y="1078"/>
                    </a:lnTo>
                    <a:lnTo>
                      <a:pt x="728" y="1198"/>
                    </a:lnTo>
                    <a:lnTo>
                      <a:pt x="711" y="1277"/>
                    </a:lnTo>
                    <a:lnTo>
                      <a:pt x="693" y="1377"/>
                    </a:lnTo>
                    <a:lnTo>
                      <a:pt x="676" y="1437"/>
                    </a:lnTo>
                    <a:lnTo>
                      <a:pt x="641" y="1377"/>
                    </a:lnTo>
                    <a:lnTo>
                      <a:pt x="520" y="1298"/>
                    </a:lnTo>
                    <a:lnTo>
                      <a:pt x="312" y="1318"/>
                    </a:lnTo>
                    <a:lnTo>
                      <a:pt x="312" y="1298"/>
                    </a:lnTo>
                    <a:lnTo>
                      <a:pt x="294" y="1258"/>
                    </a:lnTo>
                    <a:lnTo>
                      <a:pt x="260" y="1258"/>
                    </a:lnTo>
                    <a:lnTo>
                      <a:pt x="173" y="1218"/>
                    </a:lnTo>
                    <a:lnTo>
                      <a:pt x="87" y="1158"/>
                    </a:lnTo>
                    <a:lnTo>
                      <a:pt x="0" y="1078"/>
                    </a:lnTo>
                    <a:lnTo>
                      <a:pt x="35" y="1139"/>
                    </a:lnTo>
                    <a:lnTo>
                      <a:pt x="155" y="1298"/>
                    </a:lnTo>
                    <a:lnTo>
                      <a:pt x="312" y="1497"/>
                    </a:lnTo>
                    <a:lnTo>
                      <a:pt x="347" y="1518"/>
                    </a:lnTo>
                    <a:lnTo>
                      <a:pt x="399" y="1577"/>
                    </a:lnTo>
                    <a:lnTo>
                      <a:pt x="416" y="1617"/>
                    </a:lnTo>
                    <a:lnTo>
                      <a:pt x="468" y="1656"/>
                    </a:lnTo>
                    <a:lnTo>
                      <a:pt x="538" y="1717"/>
                    </a:lnTo>
                    <a:lnTo>
                      <a:pt x="625" y="1737"/>
                    </a:lnTo>
                    <a:lnTo>
                      <a:pt x="676" y="1737"/>
                    </a:lnTo>
                    <a:lnTo>
                      <a:pt x="780" y="1756"/>
                    </a:lnTo>
                    <a:lnTo>
                      <a:pt x="832" y="1797"/>
                    </a:lnTo>
                    <a:lnTo>
                      <a:pt x="867" y="1837"/>
                    </a:lnTo>
                    <a:lnTo>
                      <a:pt x="867" y="1877"/>
                    </a:lnTo>
                    <a:lnTo>
                      <a:pt x="885" y="1916"/>
                    </a:lnTo>
                    <a:lnTo>
                      <a:pt x="902" y="1897"/>
                    </a:lnTo>
                    <a:lnTo>
                      <a:pt x="937" y="1897"/>
                    </a:lnTo>
                    <a:lnTo>
                      <a:pt x="989" y="1856"/>
                    </a:lnTo>
                    <a:lnTo>
                      <a:pt x="1041" y="1916"/>
                    </a:lnTo>
                    <a:lnTo>
                      <a:pt x="1076" y="1937"/>
                    </a:lnTo>
                    <a:lnTo>
                      <a:pt x="1127" y="1977"/>
                    </a:lnTo>
                    <a:lnTo>
                      <a:pt x="1214" y="2056"/>
                    </a:lnTo>
                    <a:lnTo>
                      <a:pt x="1318" y="2137"/>
                    </a:lnTo>
                    <a:lnTo>
                      <a:pt x="1422" y="2216"/>
                    </a:lnTo>
                    <a:lnTo>
                      <a:pt x="1527" y="2296"/>
                    </a:lnTo>
                    <a:lnTo>
                      <a:pt x="1614" y="2337"/>
                    </a:lnTo>
                    <a:lnTo>
                      <a:pt x="1647" y="2396"/>
                    </a:lnTo>
                    <a:lnTo>
                      <a:pt x="1682" y="2496"/>
                    </a:lnTo>
                    <a:lnTo>
                      <a:pt x="1717" y="2575"/>
                    </a:lnTo>
                    <a:lnTo>
                      <a:pt x="1752" y="2616"/>
                    </a:lnTo>
                    <a:lnTo>
                      <a:pt x="1769" y="2656"/>
                    </a:lnTo>
                    <a:lnTo>
                      <a:pt x="1769" y="2695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  <a:close/>
                  </a:path>
                </a:pathLst>
              </a:custGeom>
              <a:solidFill>
                <a:srgbClr val="e5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8429040" y="4968720"/>
                <a:ext cx="287640" cy="751320"/>
              </a:xfrm>
              <a:custGeom>
                <a:avLst/>
                <a:gdLst/>
                <a:ahLst/>
                <a:rect l="l" t="t" r="r" b="b"/>
                <a:pathLst>
                  <a:path w="383" h="2216">
                    <a:moveTo>
                      <a:pt x="104" y="2216"/>
                    </a:moveTo>
                    <a:lnTo>
                      <a:pt x="87" y="2197"/>
                    </a:lnTo>
                    <a:lnTo>
                      <a:pt x="52" y="2176"/>
                    </a:lnTo>
                    <a:lnTo>
                      <a:pt x="52" y="2097"/>
                    </a:lnTo>
                    <a:lnTo>
                      <a:pt x="52" y="2076"/>
                    </a:lnTo>
                    <a:lnTo>
                      <a:pt x="35" y="2017"/>
                    </a:lnTo>
                    <a:lnTo>
                      <a:pt x="0" y="1976"/>
                    </a:lnTo>
                    <a:lnTo>
                      <a:pt x="18" y="1897"/>
                    </a:lnTo>
                    <a:lnTo>
                      <a:pt x="0" y="1737"/>
                    </a:lnTo>
                    <a:lnTo>
                      <a:pt x="0" y="1557"/>
                    </a:lnTo>
                    <a:lnTo>
                      <a:pt x="35" y="1397"/>
                    </a:lnTo>
                    <a:lnTo>
                      <a:pt x="18" y="1259"/>
                    </a:lnTo>
                    <a:lnTo>
                      <a:pt x="0" y="1198"/>
                    </a:lnTo>
                    <a:lnTo>
                      <a:pt x="0" y="1138"/>
                    </a:lnTo>
                    <a:lnTo>
                      <a:pt x="18" y="1018"/>
                    </a:lnTo>
                    <a:lnTo>
                      <a:pt x="52" y="899"/>
                    </a:lnTo>
                    <a:lnTo>
                      <a:pt x="52" y="659"/>
                    </a:lnTo>
                    <a:lnTo>
                      <a:pt x="104" y="719"/>
                    </a:lnTo>
                    <a:lnTo>
                      <a:pt x="122" y="639"/>
                    </a:lnTo>
                    <a:lnTo>
                      <a:pt x="139" y="519"/>
                    </a:lnTo>
                    <a:lnTo>
                      <a:pt x="157" y="419"/>
                    </a:lnTo>
                    <a:lnTo>
                      <a:pt x="174" y="359"/>
                    </a:lnTo>
                    <a:lnTo>
                      <a:pt x="191" y="259"/>
                    </a:lnTo>
                    <a:lnTo>
                      <a:pt x="209" y="180"/>
                    </a:lnTo>
                    <a:lnTo>
                      <a:pt x="244" y="140"/>
                    </a:lnTo>
                    <a:lnTo>
                      <a:pt x="278" y="59"/>
                    </a:lnTo>
                    <a:lnTo>
                      <a:pt x="313" y="0"/>
                    </a:lnTo>
                    <a:lnTo>
                      <a:pt x="313" y="40"/>
                    </a:lnTo>
                    <a:lnTo>
                      <a:pt x="330" y="99"/>
                    </a:lnTo>
                    <a:lnTo>
                      <a:pt x="313" y="180"/>
                    </a:lnTo>
                    <a:lnTo>
                      <a:pt x="365" y="180"/>
                    </a:lnTo>
                    <a:lnTo>
                      <a:pt x="383" y="299"/>
                    </a:lnTo>
                    <a:lnTo>
                      <a:pt x="383" y="639"/>
                    </a:lnTo>
                    <a:lnTo>
                      <a:pt x="261" y="1078"/>
                    </a:lnTo>
                    <a:lnTo>
                      <a:pt x="261" y="1098"/>
                    </a:lnTo>
                    <a:lnTo>
                      <a:pt x="261" y="1178"/>
                    </a:lnTo>
                    <a:lnTo>
                      <a:pt x="261" y="1259"/>
                    </a:lnTo>
                    <a:lnTo>
                      <a:pt x="278" y="1278"/>
                    </a:lnTo>
                    <a:lnTo>
                      <a:pt x="278" y="1338"/>
                    </a:lnTo>
                    <a:lnTo>
                      <a:pt x="261" y="1378"/>
                    </a:lnTo>
                    <a:lnTo>
                      <a:pt x="244" y="1418"/>
                    </a:lnTo>
                    <a:lnTo>
                      <a:pt x="226" y="1478"/>
                    </a:lnTo>
                    <a:lnTo>
                      <a:pt x="209" y="1497"/>
                    </a:lnTo>
                    <a:lnTo>
                      <a:pt x="191" y="1597"/>
                    </a:lnTo>
                    <a:lnTo>
                      <a:pt x="174" y="1837"/>
                    </a:lnTo>
                    <a:lnTo>
                      <a:pt x="157" y="2036"/>
                    </a:lnTo>
                    <a:lnTo>
                      <a:pt x="157" y="2116"/>
                    </a:lnTo>
                    <a:lnTo>
                      <a:pt x="139" y="2176"/>
                    </a:lnTo>
                    <a:lnTo>
                      <a:pt x="104" y="221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8507160" y="5212440"/>
                <a:ext cx="117360" cy="182520"/>
              </a:xfrm>
              <a:custGeom>
                <a:avLst/>
                <a:gdLst/>
                <a:ahLst/>
                <a:rect l="l" t="t" r="r" b="b"/>
                <a:pathLst>
                  <a:path w="157" h="540">
                    <a:moveTo>
                      <a:pt x="0" y="0"/>
                    </a:moveTo>
                    <a:lnTo>
                      <a:pt x="35" y="40"/>
                    </a:lnTo>
                    <a:lnTo>
                      <a:pt x="70" y="159"/>
                    </a:lnTo>
                    <a:lnTo>
                      <a:pt x="105" y="299"/>
                    </a:lnTo>
                    <a:lnTo>
                      <a:pt x="105" y="359"/>
                    </a:lnTo>
                    <a:lnTo>
                      <a:pt x="87" y="440"/>
                    </a:lnTo>
                    <a:lnTo>
                      <a:pt x="105" y="479"/>
                    </a:lnTo>
                    <a:lnTo>
                      <a:pt x="122" y="499"/>
                    </a:lnTo>
                    <a:lnTo>
                      <a:pt x="140" y="519"/>
                    </a:lnTo>
                    <a:lnTo>
                      <a:pt x="157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8547840" y="5029560"/>
                <a:ext cx="115920" cy="81360"/>
              </a:xfrm>
              <a:custGeom>
                <a:avLst/>
                <a:gdLst/>
                <a:ahLst/>
                <a:rect l="l" t="t" r="r" b="b"/>
                <a:pathLst>
                  <a:path w="156" h="239">
                    <a:moveTo>
                      <a:pt x="0" y="239"/>
                    </a:moveTo>
                    <a:lnTo>
                      <a:pt x="34" y="219"/>
                    </a:lnTo>
                    <a:lnTo>
                      <a:pt x="121" y="1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8468280" y="5232960"/>
                <a:ext cx="38880" cy="487080"/>
              </a:xfrm>
              <a:custGeom>
                <a:avLst/>
                <a:gdLst/>
                <a:ahLst/>
                <a:rect l="l" t="t" r="r" b="b"/>
                <a:pathLst>
                  <a:path w="52" h="1438">
                    <a:moveTo>
                      <a:pt x="52" y="0"/>
                    </a:moveTo>
                    <a:lnTo>
                      <a:pt x="52" y="41"/>
                    </a:lnTo>
                    <a:lnTo>
                      <a:pt x="52" y="100"/>
                    </a:lnTo>
                    <a:lnTo>
                      <a:pt x="52" y="181"/>
                    </a:lnTo>
                    <a:lnTo>
                      <a:pt x="18" y="240"/>
                    </a:lnTo>
                    <a:lnTo>
                      <a:pt x="0" y="360"/>
                    </a:lnTo>
                    <a:lnTo>
                      <a:pt x="0" y="481"/>
                    </a:lnTo>
                    <a:lnTo>
                      <a:pt x="18" y="640"/>
                    </a:lnTo>
                    <a:lnTo>
                      <a:pt x="18" y="800"/>
                    </a:lnTo>
                    <a:lnTo>
                      <a:pt x="0" y="900"/>
                    </a:lnTo>
                    <a:lnTo>
                      <a:pt x="18" y="1039"/>
                    </a:lnTo>
                    <a:lnTo>
                      <a:pt x="35" y="1258"/>
                    </a:lnTo>
                    <a:lnTo>
                      <a:pt x="52" y="1379"/>
                    </a:lnTo>
                    <a:lnTo>
                      <a:pt x="35" y="1419"/>
                    </a:lnTo>
                    <a:lnTo>
                      <a:pt x="0" y="14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8507160" y="5273280"/>
                <a:ext cx="40680" cy="426240"/>
              </a:xfrm>
              <a:custGeom>
                <a:avLst/>
                <a:gdLst/>
                <a:ahLst/>
                <a:rect l="l" t="t" r="r" b="b"/>
                <a:pathLst>
                  <a:path w="53" h="1258">
                    <a:moveTo>
                      <a:pt x="53" y="0"/>
                    </a:moveTo>
                    <a:lnTo>
                      <a:pt x="35" y="39"/>
                    </a:lnTo>
                    <a:lnTo>
                      <a:pt x="18" y="139"/>
                    </a:lnTo>
                    <a:lnTo>
                      <a:pt x="0" y="239"/>
                    </a:lnTo>
                    <a:lnTo>
                      <a:pt x="18" y="439"/>
                    </a:lnTo>
                    <a:lnTo>
                      <a:pt x="18" y="838"/>
                    </a:lnTo>
                    <a:lnTo>
                      <a:pt x="0" y="12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8507160" y="5354640"/>
                <a:ext cx="40680" cy="202680"/>
              </a:xfrm>
              <a:custGeom>
                <a:avLst/>
                <a:gdLst/>
                <a:ahLst/>
                <a:rect l="l" t="t" r="r" b="b"/>
                <a:pathLst>
                  <a:path w="53" h="599">
                    <a:moveTo>
                      <a:pt x="53" y="0"/>
                    </a:moveTo>
                    <a:lnTo>
                      <a:pt x="53" y="60"/>
                    </a:lnTo>
                    <a:lnTo>
                      <a:pt x="35" y="259"/>
                    </a:lnTo>
                    <a:lnTo>
                      <a:pt x="0" y="5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8507160" y="5415480"/>
                <a:ext cx="117360" cy="162360"/>
              </a:xfrm>
              <a:custGeom>
                <a:avLst/>
                <a:gdLst/>
                <a:ahLst/>
                <a:rect l="l" t="t" r="r" b="b"/>
                <a:pathLst>
                  <a:path w="157" h="479">
                    <a:moveTo>
                      <a:pt x="157" y="0"/>
                    </a:moveTo>
                    <a:lnTo>
                      <a:pt x="122" y="39"/>
                    </a:lnTo>
                    <a:lnTo>
                      <a:pt x="53" y="179"/>
                    </a:lnTo>
                    <a:lnTo>
                      <a:pt x="0" y="4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8547840" y="5191920"/>
                <a:ext cx="7668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52" y="240"/>
                    </a:lnTo>
                    <a:lnTo>
                      <a:pt x="69" y="379"/>
                    </a:lnTo>
                    <a:lnTo>
                      <a:pt x="87" y="4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8586000" y="5131080"/>
                <a:ext cx="78120" cy="223560"/>
              </a:xfrm>
              <a:custGeom>
                <a:avLst/>
                <a:gdLst/>
                <a:ahLst/>
                <a:rect l="l" t="t" r="r" b="b"/>
                <a:pathLst>
                  <a:path w="104" h="658">
                    <a:moveTo>
                      <a:pt x="0" y="0"/>
                    </a:moveTo>
                    <a:lnTo>
                      <a:pt x="35" y="39"/>
                    </a:lnTo>
                    <a:lnTo>
                      <a:pt x="87" y="159"/>
                    </a:lnTo>
                    <a:lnTo>
                      <a:pt x="104" y="358"/>
                    </a:lnTo>
                    <a:lnTo>
                      <a:pt x="69" y="538"/>
                    </a:lnTo>
                    <a:lnTo>
                      <a:pt x="52" y="618"/>
                    </a:lnTo>
                    <a:lnTo>
                      <a:pt x="52" y="6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8586000" y="496872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19">
                    <a:moveTo>
                      <a:pt x="104" y="0"/>
                    </a:moveTo>
                    <a:lnTo>
                      <a:pt x="104" y="180"/>
                    </a:lnTo>
                    <a:lnTo>
                      <a:pt x="104" y="220"/>
                    </a:lnTo>
                    <a:lnTo>
                      <a:pt x="69" y="319"/>
                    </a:lnTo>
                    <a:lnTo>
                      <a:pt x="0" y="419"/>
                    </a:lnTo>
                    <a:lnTo>
                      <a:pt x="0" y="380"/>
                    </a:lnTo>
                    <a:lnTo>
                      <a:pt x="0" y="280"/>
                    </a:lnTo>
                    <a:lnTo>
                      <a:pt x="0" y="240"/>
                    </a:lnTo>
                    <a:lnTo>
                      <a:pt x="17" y="220"/>
                    </a:lnTo>
                    <a:lnTo>
                      <a:pt x="17" y="199"/>
                    </a:lnTo>
                    <a:lnTo>
                      <a:pt x="52" y="180"/>
                    </a:lnTo>
                    <a:lnTo>
                      <a:pt x="69" y="120"/>
                    </a:lnTo>
                    <a:lnTo>
                      <a:pt x="87" y="4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7f4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8624880" y="4988880"/>
                <a:ext cx="39240" cy="10152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300"/>
                    </a:moveTo>
                    <a:lnTo>
                      <a:pt x="0" y="281"/>
                    </a:lnTo>
                    <a:lnTo>
                      <a:pt x="0" y="221"/>
                    </a:lnTo>
                    <a:lnTo>
                      <a:pt x="0" y="181"/>
                    </a:lnTo>
                    <a:lnTo>
                      <a:pt x="35" y="81"/>
                    </a:lnTo>
                    <a:lnTo>
                      <a:pt x="52" y="21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997760" y="5212440"/>
                <a:ext cx="131040" cy="385560"/>
              </a:xfrm>
              <a:custGeom>
                <a:avLst/>
                <a:gdLst/>
                <a:ahLst/>
                <a:rect l="l" t="t" r="r" b="b"/>
                <a:pathLst>
                  <a:path w="173" h="1138">
                    <a:moveTo>
                      <a:pt x="0" y="0"/>
                    </a:moveTo>
                    <a:lnTo>
                      <a:pt x="18" y="20"/>
                    </a:lnTo>
                    <a:lnTo>
                      <a:pt x="53" y="59"/>
                    </a:lnTo>
                    <a:lnTo>
                      <a:pt x="53" y="119"/>
                    </a:lnTo>
                    <a:lnTo>
                      <a:pt x="53" y="159"/>
                    </a:lnTo>
                    <a:lnTo>
                      <a:pt x="86" y="240"/>
                    </a:lnTo>
                    <a:lnTo>
                      <a:pt x="104" y="299"/>
                    </a:lnTo>
                    <a:lnTo>
                      <a:pt x="156" y="379"/>
                    </a:lnTo>
                    <a:lnTo>
                      <a:pt x="173" y="540"/>
                    </a:lnTo>
                    <a:lnTo>
                      <a:pt x="156" y="719"/>
                    </a:lnTo>
                    <a:lnTo>
                      <a:pt x="121" y="898"/>
                    </a:lnTo>
                    <a:lnTo>
                      <a:pt x="104" y="1057"/>
                    </a:lnTo>
                    <a:lnTo>
                      <a:pt x="104" y="11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552800" y="5232960"/>
                <a:ext cx="589320" cy="648360"/>
              </a:xfrm>
              <a:custGeom>
                <a:avLst/>
                <a:gdLst/>
                <a:ahLst/>
                <a:rect l="l" t="t" r="r" b="b"/>
                <a:pathLst>
                  <a:path w="781" h="1917">
                    <a:moveTo>
                      <a:pt x="70" y="0"/>
                    </a:moveTo>
                    <a:lnTo>
                      <a:pt x="140" y="121"/>
                    </a:lnTo>
                    <a:lnTo>
                      <a:pt x="208" y="260"/>
                    </a:lnTo>
                    <a:lnTo>
                      <a:pt x="278" y="420"/>
                    </a:lnTo>
                    <a:lnTo>
                      <a:pt x="330" y="560"/>
                    </a:lnTo>
                    <a:lnTo>
                      <a:pt x="382" y="700"/>
                    </a:lnTo>
                    <a:lnTo>
                      <a:pt x="434" y="839"/>
                    </a:lnTo>
                    <a:lnTo>
                      <a:pt x="469" y="959"/>
                    </a:lnTo>
                    <a:lnTo>
                      <a:pt x="521" y="1139"/>
                    </a:lnTo>
                    <a:lnTo>
                      <a:pt x="573" y="1319"/>
                    </a:lnTo>
                    <a:lnTo>
                      <a:pt x="643" y="1498"/>
                    </a:lnTo>
                    <a:lnTo>
                      <a:pt x="694" y="1658"/>
                    </a:lnTo>
                    <a:lnTo>
                      <a:pt x="729" y="1777"/>
                    </a:lnTo>
                    <a:lnTo>
                      <a:pt x="746" y="1858"/>
                    </a:lnTo>
                    <a:lnTo>
                      <a:pt x="781" y="1917"/>
                    </a:lnTo>
                    <a:lnTo>
                      <a:pt x="763" y="1917"/>
                    </a:lnTo>
                    <a:lnTo>
                      <a:pt x="694" y="1858"/>
                    </a:lnTo>
                    <a:lnTo>
                      <a:pt x="676" y="1777"/>
                    </a:lnTo>
                    <a:lnTo>
                      <a:pt x="624" y="1658"/>
                    </a:lnTo>
                    <a:lnTo>
                      <a:pt x="573" y="1518"/>
                    </a:lnTo>
                    <a:lnTo>
                      <a:pt x="504" y="1338"/>
                    </a:lnTo>
                    <a:lnTo>
                      <a:pt x="434" y="1139"/>
                    </a:lnTo>
                    <a:lnTo>
                      <a:pt x="382" y="979"/>
                    </a:lnTo>
                    <a:lnTo>
                      <a:pt x="330" y="819"/>
                    </a:lnTo>
                    <a:lnTo>
                      <a:pt x="278" y="719"/>
                    </a:lnTo>
                    <a:lnTo>
                      <a:pt x="225" y="579"/>
                    </a:lnTo>
                    <a:lnTo>
                      <a:pt x="173" y="440"/>
                    </a:lnTo>
                    <a:lnTo>
                      <a:pt x="122" y="320"/>
                    </a:lnTo>
                    <a:lnTo>
                      <a:pt x="70" y="221"/>
                    </a:lnTo>
                    <a:lnTo>
                      <a:pt x="35" y="140"/>
                    </a:lnTo>
                    <a:lnTo>
                      <a:pt x="18" y="121"/>
                    </a:lnTo>
                    <a:lnTo>
                      <a:pt x="0" y="60"/>
                    </a:lnTo>
                    <a:lnTo>
                      <a:pt x="0" y="0"/>
                    </a:lnTo>
                    <a:lnTo>
                      <a:pt x="18" y="0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331040" y="5496840"/>
                <a:ext cx="38880" cy="101160"/>
              </a:xfrm>
              <a:custGeom>
                <a:avLst/>
                <a:gdLst/>
                <a:ahLst/>
                <a:rect l="l" t="t" r="r" b="b"/>
                <a:pathLst>
                  <a:path w="52" h="300">
                    <a:moveTo>
                      <a:pt x="0" y="0"/>
                    </a:moveTo>
                    <a:lnTo>
                      <a:pt x="0" y="40"/>
                    </a:lnTo>
                    <a:lnTo>
                      <a:pt x="0" y="160"/>
                    </a:lnTo>
                    <a:lnTo>
                      <a:pt x="52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370280" y="5435640"/>
                <a:ext cx="196200" cy="203040"/>
              </a:xfrm>
              <a:custGeom>
                <a:avLst/>
                <a:gdLst/>
                <a:ahLst/>
                <a:rect l="l" t="t" r="r" b="b"/>
                <a:pathLst>
                  <a:path w="261" h="598">
                    <a:moveTo>
                      <a:pt x="261" y="598"/>
                    </a:moveTo>
                    <a:lnTo>
                      <a:pt x="209" y="539"/>
                    </a:lnTo>
                    <a:lnTo>
                      <a:pt x="104" y="33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409520" y="5375160"/>
                <a:ext cx="235080" cy="284040"/>
              </a:xfrm>
              <a:custGeom>
                <a:avLst/>
                <a:gdLst/>
                <a:ahLst/>
                <a:rect l="l" t="t" r="r" b="b"/>
                <a:pathLst>
                  <a:path w="313" h="838">
                    <a:moveTo>
                      <a:pt x="0" y="0"/>
                    </a:moveTo>
                    <a:lnTo>
                      <a:pt x="0" y="99"/>
                    </a:lnTo>
                    <a:lnTo>
                      <a:pt x="35" y="340"/>
                    </a:lnTo>
                    <a:lnTo>
                      <a:pt x="157" y="659"/>
                    </a:lnTo>
                    <a:lnTo>
                      <a:pt x="191" y="699"/>
                    </a:lnTo>
                    <a:lnTo>
                      <a:pt x="261" y="778"/>
                    </a:lnTo>
                    <a:lnTo>
                      <a:pt x="313" y="83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52560" y="5476320"/>
                <a:ext cx="78480" cy="121680"/>
              </a:xfrm>
              <a:custGeom>
                <a:avLst/>
                <a:gdLst/>
                <a:ahLst/>
                <a:rect l="l" t="t" r="r" b="b"/>
                <a:pathLst>
                  <a:path w="103" h="360">
                    <a:moveTo>
                      <a:pt x="103" y="360"/>
                    </a:moveTo>
                    <a:lnTo>
                      <a:pt x="86" y="279"/>
                    </a:lnTo>
                    <a:lnTo>
                      <a:pt x="33" y="14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11880" y="5456160"/>
                <a:ext cx="79920" cy="141840"/>
              </a:xfrm>
              <a:custGeom>
                <a:avLst/>
                <a:gdLst/>
                <a:ahLst/>
                <a:rect l="l" t="t" r="r" b="b"/>
                <a:pathLst>
                  <a:path w="105" h="419">
                    <a:moveTo>
                      <a:pt x="0" y="0"/>
                    </a:moveTo>
                    <a:lnTo>
                      <a:pt x="0" y="79"/>
                    </a:lnTo>
                    <a:lnTo>
                      <a:pt x="18" y="259"/>
                    </a:lnTo>
                    <a:lnTo>
                      <a:pt x="105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33400" y="5456160"/>
                <a:ext cx="118800" cy="141840"/>
              </a:xfrm>
              <a:custGeom>
                <a:avLst/>
                <a:gdLst/>
                <a:ahLst/>
                <a:rect l="l" t="t" r="r" b="b"/>
                <a:pathLst>
                  <a:path w="157" h="419">
                    <a:moveTo>
                      <a:pt x="0" y="0"/>
                    </a:moveTo>
                    <a:lnTo>
                      <a:pt x="18" y="79"/>
                    </a:lnTo>
                    <a:lnTo>
                      <a:pt x="70" y="259"/>
                    </a:lnTo>
                    <a:lnTo>
                      <a:pt x="157" y="419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056720" y="5476320"/>
                <a:ext cx="155160" cy="101520"/>
              </a:xfrm>
              <a:custGeom>
                <a:avLst/>
                <a:gdLst/>
                <a:ahLst/>
                <a:rect l="l" t="t" r="r" b="b"/>
                <a:pathLst>
                  <a:path w="208" h="300">
                    <a:moveTo>
                      <a:pt x="0" y="0"/>
                    </a:moveTo>
                    <a:lnTo>
                      <a:pt x="17" y="41"/>
                    </a:lnTo>
                    <a:lnTo>
                      <a:pt x="87" y="160"/>
                    </a:lnTo>
                    <a:lnTo>
                      <a:pt x="208" y="300"/>
                    </a:lnTo>
                  </a:path>
                </a:pathLst>
              </a:custGeom>
              <a:noFill/>
              <a:ln w="1440">
                <a:solidFill>
                  <a:srgbClr val="3f0072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409520" y="5232960"/>
                <a:ext cx="587880" cy="526680"/>
              </a:xfrm>
              <a:custGeom>
                <a:avLst/>
                <a:gdLst/>
                <a:ahLst/>
                <a:rect l="l" t="t" r="r" b="b"/>
                <a:pathLst>
                  <a:path w="781" h="1558">
                    <a:moveTo>
                      <a:pt x="0" y="0"/>
                    </a:moveTo>
                    <a:lnTo>
                      <a:pt x="18" y="81"/>
                    </a:lnTo>
                    <a:lnTo>
                      <a:pt x="52" y="260"/>
                    </a:lnTo>
                    <a:lnTo>
                      <a:pt x="52" y="481"/>
                    </a:lnTo>
                    <a:lnTo>
                      <a:pt x="139" y="760"/>
                    </a:lnTo>
                    <a:lnTo>
                      <a:pt x="347" y="1159"/>
                    </a:lnTo>
                    <a:lnTo>
                      <a:pt x="781" y="155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487640" y="5354640"/>
                <a:ext cx="392040" cy="365400"/>
              </a:xfrm>
              <a:custGeom>
                <a:avLst/>
                <a:gdLst/>
                <a:ahLst/>
                <a:rect l="l" t="t" r="r" b="b"/>
                <a:pathLst>
                  <a:path w="520" h="1078">
                    <a:moveTo>
                      <a:pt x="0" y="0"/>
                    </a:moveTo>
                    <a:lnTo>
                      <a:pt x="34" y="60"/>
                    </a:lnTo>
                    <a:lnTo>
                      <a:pt x="69" y="200"/>
                    </a:lnTo>
                    <a:lnTo>
                      <a:pt x="104" y="300"/>
                    </a:lnTo>
                    <a:lnTo>
                      <a:pt x="156" y="419"/>
                    </a:lnTo>
                    <a:lnTo>
                      <a:pt x="242" y="619"/>
                    </a:lnTo>
                    <a:lnTo>
                      <a:pt x="364" y="879"/>
                    </a:lnTo>
                    <a:lnTo>
                      <a:pt x="520" y="1078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527240" y="5293440"/>
                <a:ext cx="430920" cy="446760"/>
              </a:xfrm>
              <a:custGeom>
                <a:avLst/>
                <a:gdLst/>
                <a:ahLst/>
                <a:rect l="l" t="t" r="r" b="b"/>
                <a:pathLst>
                  <a:path w="572" h="1317">
                    <a:moveTo>
                      <a:pt x="0" y="0"/>
                    </a:moveTo>
                    <a:lnTo>
                      <a:pt x="34" y="59"/>
                    </a:lnTo>
                    <a:lnTo>
                      <a:pt x="104" y="179"/>
                    </a:lnTo>
                    <a:lnTo>
                      <a:pt x="156" y="300"/>
                    </a:lnTo>
                    <a:lnTo>
                      <a:pt x="207" y="519"/>
                    </a:lnTo>
                    <a:lnTo>
                      <a:pt x="346" y="898"/>
                    </a:lnTo>
                    <a:lnTo>
                      <a:pt x="572" y="1317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723080" y="527328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8" h="1377">
                    <a:moveTo>
                      <a:pt x="418" y="1377"/>
                    </a:moveTo>
                    <a:lnTo>
                      <a:pt x="399" y="1118"/>
                    </a:lnTo>
                    <a:lnTo>
                      <a:pt x="296" y="558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54004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762320" y="5253120"/>
                <a:ext cx="274320" cy="304560"/>
              </a:xfrm>
              <a:custGeom>
                <a:avLst/>
                <a:gdLst/>
                <a:ahLst/>
                <a:rect l="l" t="t" r="r" b="b"/>
                <a:pathLst>
                  <a:path w="365" h="899">
                    <a:moveTo>
                      <a:pt x="0" y="0"/>
                    </a:moveTo>
                    <a:lnTo>
                      <a:pt x="17" y="21"/>
                    </a:lnTo>
                    <a:lnTo>
                      <a:pt x="86" y="100"/>
                    </a:lnTo>
                    <a:lnTo>
                      <a:pt x="156" y="221"/>
                    </a:lnTo>
                    <a:lnTo>
                      <a:pt x="243" y="380"/>
                    </a:lnTo>
                    <a:lnTo>
                      <a:pt x="312" y="619"/>
                    </a:lnTo>
                    <a:lnTo>
                      <a:pt x="365" y="8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7723080" y="5191920"/>
                <a:ext cx="392040" cy="609480"/>
              </a:xfrm>
              <a:custGeom>
                <a:avLst/>
                <a:gdLst/>
                <a:ahLst/>
                <a:rect l="l" t="t" r="r" b="b"/>
                <a:pathLst>
                  <a:path w="521" h="1798">
                    <a:moveTo>
                      <a:pt x="0" y="0"/>
                    </a:moveTo>
                    <a:lnTo>
                      <a:pt x="35" y="19"/>
                    </a:lnTo>
                    <a:lnTo>
                      <a:pt x="105" y="100"/>
                    </a:lnTo>
                    <a:lnTo>
                      <a:pt x="192" y="219"/>
                    </a:lnTo>
                    <a:lnTo>
                      <a:pt x="296" y="379"/>
                    </a:lnTo>
                    <a:lnTo>
                      <a:pt x="383" y="600"/>
                    </a:lnTo>
                    <a:lnTo>
                      <a:pt x="418" y="838"/>
                    </a:lnTo>
                    <a:lnTo>
                      <a:pt x="434" y="919"/>
                    </a:lnTo>
                    <a:lnTo>
                      <a:pt x="469" y="1058"/>
                    </a:lnTo>
                    <a:lnTo>
                      <a:pt x="469" y="1198"/>
                    </a:lnTo>
                    <a:lnTo>
                      <a:pt x="486" y="1338"/>
                    </a:lnTo>
                    <a:lnTo>
                      <a:pt x="504" y="1598"/>
                    </a:lnTo>
                    <a:lnTo>
                      <a:pt x="521" y="17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801560" y="5191920"/>
                <a:ext cx="313560" cy="304920"/>
              </a:xfrm>
              <a:custGeom>
                <a:avLst/>
                <a:gdLst/>
                <a:ahLst/>
                <a:rect l="l" t="t" r="r" b="b"/>
                <a:pathLst>
                  <a:path w="416" h="898">
                    <a:moveTo>
                      <a:pt x="0" y="0"/>
                    </a:moveTo>
                    <a:lnTo>
                      <a:pt x="34" y="19"/>
                    </a:lnTo>
                    <a:lnTo>
                      <a:pt x="139" y="119"/>
                    </a:lnTo>
                    <a:lnTo>
                      <a:pt x="260" y="300"/>
                    </a:lnTo>
                    <a:lnTo>
                      <a:pt x="364" y="559"/>
                    </a:lnTo>
                    <a:lnTo>
                      <a:pt x="416" y="8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919280" y="5191920"/>
                <a:ext cx="195840" cy="223560"/>
              </a:xfrm>
              <a:custGeom>
                <a:avLst/>
                <a:gdLst/>
                <a:ahLst/>
                <a:rect l="l" t="t" r="r" b="b"/>
                <a:pathLst>
                  <a:path w="260" h="659">
                    <a:moveTo>
                      <a:pt x="260" y="659"/>
                    </a:moveTo>
                    <a:lnTo>
                      <a:pt x="225" y="559"/>
                    </a:lnTo>
                    <a:lnTo>
                      <a:pt x="173" y="359"/>
                    </a:lnTo>
                    <a:lnTo>
                      <a:pt x="104" y="240"/>
                    </a:lnTo>
                    <a:lnTo>
                      <a:pt x="70" y="179"/>
                    </a:lnTo>
                    <a:lnTo>
                      <a:pt x="52" y="140"/>
                    </a:lnTo>
                    <a:lnTo>
                      <a:pt x="52" y="119"/>
                    </a:lnTo>
                    <a:lnTo>
                      <a:pt x="52" y="100"/>
                    </a:lnTo>
                    <a:lnTo>
                      <a:pt x="18" y="4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8115480" y="5049720"/>
                <a:ext cx="221400" cy="487440"/>
              </a:xfrm>
              <a:custGeom>
                <a:avLst/>
                <a:gdLst/>
                <a:ahLst/>
                <a:rect l="l" t="t" r="r" b="b"/>
                <a:pathLst>
                  <a:path w="295" h="1438">
                    <a:moveTo>
                      <a:pt x="0" y="1438"/>
                    </a:moveTo>
                    <a:lnTo>
                      <a:pt x="0" y="1338"/>
                    </a:lnTo>
                    <a:lnTo>
                      <a:pt x="35" y="1117"/>
                    </a:lnTo>
                    <a:lnTo>
                      <a:pt x="156" y="838"/>
                    </a:lnTo>
                    <a:lnTo>
                      <a:pt x="191" y="778"/>
                    </a:lnTo>
                    <a:lnTo>
                      <a:pt x="243" y="619"/>
                    </a:lnTo>
                    <a:lnTo>
                      <a:pt x="295" y="338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8037000" y="5151600"/>
                <a:ext cx="117360" cy="243720"/>
              </a:xfrm>
              <a:custGeom>
                <a:avLst/>
                <a:gdLst/>
                <a:ahLst/>
                <a:rect l="l" t="t" r="r" b="b"/>
                <a:pathLst>
                  <a:path w="155" h="720">
                    <a:moveTo>
                      <a:pt x="0" y="0"/>
                    </a:moveTo>
                    <a:lnTo>
                      <a:pt x="0" y="39"/>
                    </a:lnTo>
                    <a:lnTo>
                      <a:pt x="16" y="120"/>
                    </a:lnTo>
                    <a:lnTo>
                      <a:pt x="51" y="239"/>
                    </a:lnTo>
                    <a:lnTo>
                      <a:pt x="120" y="360"/>
                    </a:lnTo>
                    <a:lnTo>
                      <a:pt x="155" y="559"/>
                    </a:lnTo>
                    <a:lnTo>
                      <a:pt x="155" y="7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8075880" y="5110920"/>
                <a:ext cx="131040" cy="263880"/>
              </a:xfrm>
              <a:custGeom>
                <a:avLst/>
                <a:gdLst/>
                <a:ahLst/>
                <a:rect l="l" t="t" r="r" b="b"/>
                <a:pathLst>
                  <a:path w="174" h="779">
                    <a:moveTo>
                      <a:pt x="0" y="0"/>
                    </a:moveTo>
                    <a:lnTo>
                      <a:pt x="0" y="61"/>
                    </a:lnTo>
                    <a:lnTo>
                      <a:pt x="17" y="180"/>
                    </a:lnTo>
                    <a:lnTo>
                      <a:pt x="104" y="359"/>
                    </a:lnTo>
                    <a:lnTo>
                      <a:pt x="156" y="499"/>
                    </a:lnTo>
                    <a:lnTo>
                      <a:pt x="174" y="659"/>
                    </a:lnTo>
                    <a:lnTo>
                      <a:pt x="156" y="7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8168040" y="5090760"/>
                <a:ext cx="78120" cy="243360"/>
              </a:xfrm>
              <a:custGeom>
                <a:avLst/>
                <a:gdLst/>
                <a:ahLst/>
                <a:rect l="l" t="t" r="r" b="b"/>
                <a:pathLst>
                  <a:path w="105" h="719">
                    <a:moveTo>
                      <a:pt x="35" y="0"/>
                    </a:moveTo>
                    <a:lnTo>
                      <a:pt x="18" y="21"/>
                    </a:lnTo>
                    <a:lnTo>
                      <a:pt x="0" y="100"/>
                    </a:lnTo>
                    <a:lnTo>
                      <a:pt x="35" y="240"/>
                    </a:lnTo>
                    <a:lnTo>
                      <a:pt x="70" y="319"/>
                    </a:lnTo>
                    <a:lnTo>
                      <a:pt x="105" y="519"/>
                    </a:lnTo>
                    <a:lnTo>
                      <a:pt x="87" y="7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8219160" y="5090760"/>
                <a:ext cx="13320" cy="81000"/>
              </a:xfrm>
              <a:custGeom>
                <a:avLst/>
                <a:gdLst/>
                <a:ahLst/>
                <a:rect l="l" t="t" r="r" b="b"/>
                <a:pathLst>
                  <a:path w="17" h="240">
                    <a:moveTo>
                      <a:pt x="17" y="0"/>
                    </a:moveTo>
                    <a:lnTo>
                      <a:pt x="0" y="21"/>
                    </a:lnTo>
                    <a:lnTo>
                      <a:pt x="0" y="100"/>
                    </a:lnTo>
                    <a:lnTo>
                      <a:pt x="17" y="2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8272080" y="5090760"/>
                <a:ext cx="25560" cy="182520"/>
              </a:xfrm>
              <a:custGeom>
                <a:avLst/>
                <a:gdLst/>
                <a:ahLst/>
                <a:rect l="l" t="t" r="r" b="b"/>
                <a:pathLst>
                  <a:path w="34" h="540">
                    <a:moveTo>
                      <a:pt x="0" y="0"/>
                    </a:moveTo>
                    <a:lnTo>
                      <a:pt x="0" y="40"/>
                    </a:lnTo>
                    <a:lnTo>
                      <a:pt x="0" y="140"/>
                    </a:lnTo>
                    <a:lnTo>
                      <a:pt x="0" y="240"/>
                    </a:lnTo>
                    <a:lnTo>
                      <a:pt x="17" y="319"/>
                    </a:lnTo>
                    <a:lnTo>
                      <a:pt x="34" y="440"/>
                    </a:lnTo>
                    <a:lnTo>
                      <a:pt x="0" y="54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306720" y="588960"/>
                <a:ext cx="2367720" cy="2270880"/>
              </a:xfrm>
              <a:custGeom>
                <a:avLst/>
                <a:gdLst/>
                <a:ahLst/>
                <a:rect l="l" t="t" r="r" b="b"/>
                <a:pathLst>
                  <a:path w="3139" h="6709">
                    <a:moveTo>
                      <a:pt x="0" y="5869"/>
                    </a:moveTo>
                    <a:lnTo>
                      <a:pt x="17" y="5850"/>
                    </a:lnTo>
                    <a:lnTo>
                      <a:pt x="35" y="5790"/>
                    </a:lnTo>
                    <a:lnTo>
                      <a:pt x="87" y="5709"/>
                    </a:lnTo>
                    <a:lnTo>
                      <a:pt x="138" y="5609"/>
                    </a:lnTo>
                    <a:lnTo>
                      <a:pt x="190" y="5471"/>
                    </a:lnTo>
                    <a:lnTo>
                      <a:pt x="260" y="5350"/>
                    </a:lnTo>
                    <a:lnTo>
                      <a:pt x="329" y="5211"/>
                    </a:lnTo>
                    <a:lnTo>
                      <a:pt x="399" y="5071"/>
                    </a:lnTo>
                    <a:lnTo>
                      <a:pt x="468" y="4931"/>
                    </a:lnTo>
                    <a:lnTo>
                      <a:pt x="520" y="4792"/>
                    </a:lnTo>
                    <a:lnTo>
                      <a:pt x="590" y="4692"/>
                    </a:lnTo>
                    <a:lnTo>
                      <a:pt x="624" y="4611"/>
                    </a:lnTo>
                    <a:lnTo>
                      <a:pt x="676" y="4492"/>
                    </a:lnTo>
                    <a:lnTo>
                      <a:pt x="728" y="4352"/>
                    </a:lnTo>
                    <a:lnTo>
                      <a:pt x="797" y="4232"/>
                    </a:lnTo>
                    <a:lnTo>
                      <a:pt x="867" y="4092"/>
                    </a:lnTo>
                    <a:lnTo>
                      <a:pt x="954" y="3953"/>
                    </a:lnTo>
                    <a:lnTo>
                      <a:pt x="1041" y="3813"/>
                    </a:lnTo>
                    <a:lnTo>
                      <a:pt x="1144" y="3694"/>
                    </a:lnTo>
                    <a:lnTo>
                      <a:pt x="1248" y="3573"/>
                    </a:lnTo>
                    <a:lnTo>
                      <a:pt x="1353" y="3473"/>
                    </a:lnTo>
                    <a:lnTo>
                      <a:pt x="1388" y="3434"/>
                    </a:lnTo>
                    <a:lnTo>
                      <a:pt x="1405" y="3413"/>
                    </a:lnTo>
                    <a:lnTo>
                      <a:pt x="1440" y="3373"/>
                    </a:lnTo>
                    <a:lnTo>
                      <a:pt x="1492" y="3334"/>
                    </a:lnTo>
                    <a:lnTo>
                      <a:pt x="1527" y="3294"/>
                    </a:lnTo>
                    <a:lnTo>
                      <a:pt x="1560" y="3234"/>
                    </a:lnTo>
                    <a:lnTo>
                      <a:pt x="1612" y="3194"/>
                    </a:lnTo>
                    <a:lnTo>
                      <a:pt x="1665" y="3134"/>
                    </a:lnTo>
                    <a:lnTo>
                      <a:pt x="1717" y="3075"/>
                    </a:lnTo>
                    <a:lnTo>
                      <a:pt x="1769" y="3015"/>
                    </a:lnTo>
                    <a:lnTo>
                      <a:pt x="1821" y="2934"/>
                    </a:lnTo>
                    <a:lnTo>
                      <a:pt x="1873" y="2875"/>
                    </a:lnTo>
                    <a:lnTo>
                      <a:pt x="1925" y="2794"/>
                    </a:lnTo>
                    <a:lnTo>
                      <a:pt x="1995" y="2715"/>
                    </a:lnTo>
                    <a:lnTo>
                      <a:pt x="2046" y="2635"/>
                    </a:lnTo>
                    <a:lnTo>
                      <a:pt x="2098" y="2555"/>
                    </a:lnTo>
                    <a:lnTo>
                      <a:pt x="2168" y="2455"/>
                    </a:lnTo>
                    <a:lnTo>
                      <a:pt x="2220" y="2375"/>
                    </a:lnTo>
                    <a:lnTo>
                      <a:pt x="2289" y="2275"/>
                    </a:lnTo>
                    <a:lnTo>
                      <a:pt x="2342" y="2175"/>
                    </a:lnTo>
                    <a:lnTo>
                      <a:pt x="2394" y="2076"/>
                    </a:lnTo>
                    <a:lnTo>
                      <a:pt x="2463" y="1977"/>
                    </a:lnTo>
                    <a:lnTo>
                      <a:pt x="2514" y="1877"/>
                    </a:lnTo>
                    <a:lnTo>
                      <a:pt x="2567" y="1777"/>
                    </a:lnTo>
                    <a:lnTo>
                      <a:pt x="2619" y="1656"/>
                    </a:lnTo>
                    <a:lnTo>
                      <a:pt x="2671" y="1557"/>
                    </a:lnTo>
                    <a:lnTo>
                      <a:pt x="2723" y="1437"/>
                    </a:lnTo>
                    <a:lnTo>
                      <a:pt x="2775" y="1337"/>
                    </a:lnTo>
                    <a:lnTo>
                      <a:pt x="2810" y="1217"/>
                    </a:lnTo>
                    <a:lnTo>
                      <a:pt x="2862" y="1098"/>
                    </a:lnTo>
                    <a:lnTo>
                      <a:pt x="2897" y="977"/>
                    </a:lnTo>
                    <a:lnTo>
                      <a:pt x="2932" y="858"/>
                    </a:lnTo>
                    <a:lnTo>
                      <a:pt x="2966" y="738"/>
                    </a:lnTo>
                    <a:lnTo>
                      <a:pt x="3000" y="619"/>
                    </a:lnTo>
                    <a:lnTo>
                      <a:pt x="3019" y="498"/>
                    </a:lnTo>
                    <a:lnTo>
                      <a:pt x="3035" y="379"/>
                    </a:lnTo>
                    <a:lnTo>
                      <a:pt x="3052" y="239"/>
                    </a:lnTo>
                    <a:lnTo>
                      <a:pt x="3070" y="119"/>
                    </a:lnTo>
                    <a:lnTo>
                      <a:pt x="3070" y="0"/>
                    </a:lnTo>
                    <a:lnTo>
                      <a:pt x="3087" y="19"/>
                    </a:lnTo>
                    <a:lnTo>
                      <a:pt x="3105" y="100"/>
                    </a:lnTo>
                    <a:lnTo>
                      <a:pt x="3122" y="219"/>
                    </a:lnTo>
                    <a:lnTo>
                      <a:pt x="3139" y="398"/>
                    </a:lnTo>
                    <a:lnTo>
                      <a:pt x="3139" y="619"/>
                    </a:lnTo>
                    <a:lnTo>
                      <a:pt x="3105" y="917"/>
                    </a:lnTo>
                    <a:lnTo>
                      <a:pt x="3019" y="1257"/>
                    </a:lnTo>
                    <a:lnTo>
                      <a:pt x="2897" y="1656"/>
                    </a:lnTo>
                    <a:lnTo>
                      <a:pt x="2723" y="2115"/>
                    </a:lnTo>
                    <a:lnTo>
                      <a:pt x="2463" y="2635"/>
                    </a:lnTo>
                    <a:lnTo>
                      <a:pt x="2133" y="3234"/>
                    </a:lnTo>
                    <a:lnTo>
                      <a:pt x="2116" y="3254"/>
                    </a:lnTo>
                    <a:lnTo>
                      <a:pt x="2098" y="3294"/>
                    </a:lnTo>
                    <a:lnTo>
                      <a:pt x="2063" y="3334"/>
                    </a:lnTo>
                    <a:lnTo>
                      <a:pt x="2012" y="3394"/>
                    </a:lnTo>
                    <a:lnTo>
                      <a:pt x="1978" y="3454"/>
                    </a:lnTo>
                    <a:lnTo>
                      <a:pt x="1925" y="3534"/>
                    </a:lnTo>
                    <a:lnTo>
                      <a:pt x="1873" y="3613"/>
                    </a:lnTo>
                    <a:lnTo>
                      <a:pt x="1821" y="3694"/>
                    </a:lnTo>
                    <a:lnTo>
                      <a:pt x="1752" y="3773"/>
                    </a:lnTo>
                    <a:lnTo>
                      <a:pt x="1699" y="3853"/>
                    </a:lnTo>
                    <a:lnTo>
                      <a:pt x="1647" y="3932"/>
                    </a:lnTo>
                    <a:lnTo>
                      <a:pt x="1595" y="4013"/>
                    </a:lnTo>
                    <a:lnTo>
                      <a:pt x="1544" y="4092"/>
                    </a:lnTo>
                    <a:lnTo>
                      <a:pt x="1492" y="4173"/>
                    </a:lnTo>
                    <a:lnTo>
                      <a:pt x="1440" y="4232"/>
                    </a:lnTo>
                    <a:lnTo>
                      <a:pt x="1405" y="4273"/>
                    </a:lnTo>
                    <a:lnTo>
                      <a:pt x="1388" y="4313"/>
                    </a:lnTo>
                    <a:lnTo>
                      <a:pt x="1370" y="4352"/>
                    </a:lnTo>
                    <a:lnTo>
                      <a:pt x="1353" y="4372"/>
                    </a:lnTo>
                    <a:lnTo>
                      <a:pt x="1318" y="4392"/>
                    </a:lnTo>
                    <a:lnTo>
                      <a:pt x="1283" y="4452"/>
                    </a:lnTo>
                    <a:lnTo>
                      <a:pt x="1214" y="4532"/>
                    </a:lnTo>
                    <a:lnTo>
                      <a:pt x="1162" y="4611"/>
                    </a:lnTo>
                    <a:lnTo>
                      <a:pt x="1092" y="4732"/>
                    </a:lnTo>
                    <a:lnTo>
                      <a:pt x="1023" y="4851"/>
                    </a:lnTo>
                    <a:lnTo>
                      <a:pt x="954" y="4992"/>
                    </a:lnTo>
                    <a:lnTo>
                      <a:pt x="884" y="5130"/>
                    </a:lnTo>
                    <a:lnTo>
                      <a:pt x="832" y="5271"/>
                    </a:lnTo>
                    <a:lnTo>
                      <a:pt x="780" y="5390"/>
                    </a:lnTo>
                    <a:lnTo>
                      <a:pt x="728" y="5530"/>
                    </a:lnTo>
                    <a:lnTo>
                      <a:pt x="676" y="5690"/>
                    </a:lnTo>
                    <a:lnTo>
                      <a:pt x="590" y="5850"/>
                    </a:lnTo>
                    <a:lnTo>
                      <a:pt x="520" y="6009"/>
                    </a:lnTo>
                    <a:lnTo>
                      <a:pt x="433" y="6149"/>
                    </a:lnTo>
                    <a:lnTo>
                      <a:pt x="346" y="6309"/>
                    </a:lnTo>
                    <a:lnTo>
                      <a:pt x="242" y="6449"/>
                    </a:lnTo>
                    <a:lnTo>
                      <a:pt x="120" y="6588"/>
                    </a:lnTo>
                    <a:lnTo>
                      <a:pt x="0" y="6709"/>
                    </a:lnTo>
                    <a:lnTo>
                      <a:pt x="0" y="5869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6720" y="64980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09">
                    <a:moveTo>
                      <a:pt x="0" y="6409"/>
                    </a:moveTo>
                    <a:lnTo>
                      <a:pt x="69" y="6349"/>
                    </a:lnTo>
                    <a:lnTo>
                      <a:pt x="190" y="6170"/>
                    </a:lnTo>
                    <a:lnTo>
                      <a:pt x="399" y="5851"/>
                    </a:lnTo>
                    <a:lnTo>
                      <a:pt x="676" y="5332"/>
                    </a:lnTo>
                    <a:lnTo>
                      <a:pt x="711" y="5251"/>
                    </a:lnTo>
                    <a:lnTo>
                      <a:pt x="780" y="5032"/>
                    </a:lnTo>
                    <a:lnTo>
                      <a:pt x="902" y="4752"/>
                    </a:lnTo>
                    <a:lnTo>
                      <a:pt x="1057" y="4453"/>
                    </a:lnTo>
                    <a:lnTo>
                      <a:pt x="1248" y="4193"/>
                    </a:lnTo>
                    <a:lnTo>
                      <a:pt x="1283" y="4134"/>
                    </a:lnTo>
                    <a:lnTo>
                      <a:pt x="1335" y="4094"/>
                    </a:lnTo>
                    <a:lnTo>
                      <a:pt x="1370" y="4034"/>
                    </a:lnTo>
                    <a:lnTo>
                      <a:pt x="1422" y="3973"/>
                    </a:lnTo>
                    <a:lnTo>
                      <a:pt x="1474" y="3913"/>
                    </a:lnTo>
                    <a:lnTo>
                      <a:pt x="1509" y="3853"/>
                    </a:lnTo>
                    <a:lnTo>
                      <a:pt x="1560" y="3794"/>
                    </a:lnTo>
                    <a:lnTo>
                      <a:pt x="1612" y="3734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494"/>
                    </a:lnTo>
                    <a:lnTo>
                      <a:pt x="1838" y="3434"/>
                    </a:lnTo>
                    <a:lnTo>
                      <a:pt x="1891" y="3355"/>
                    </a:lnTo>
                    <a:lnTo>
                      <a:pt x="1943" y="325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5"/>
                    </a:lnTo>
                    <a:lnTo>
                      <a:pt x="2150" y="2915"/>
                    </a:lnTo>
                    <a:lnTo>
                      <a:pt x="2203" y="2836"/>
                    </a:lnTo>
                    <a:lnTo>
                      <a:pt x="2255" y="2736"/>
                    </a:lnTo>
                    <a:lnTo>
                      <a:pt x="2307" y="2655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6"/>
                    </a:lnTo>
                    <a:lnTo>
                      <a:pt x="2532" y="2217"/>
                    </a:lnTo>
                    <a:lnTo>
                      <a:pt x="2567" y="2117"/>
                    </a:lnTo>
                    <a:lnTo>
                      <a:pt x="2601" y="2036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7"/>
                    </a:lnTo>
                    <a:lnTo>
                      <a:pt x="2706" y="1817"/>
                    </a:lnTo>
                    <a:lnTo>
                      <a:pt x="2758" y="1717"/>
                    </a:lnTo>
                    <a:lnTo>
                      <a:pt x="2810" y="1598"/>
                    </a:lnTo>
                    <a:lnTo>
                      <a:pt x="2862" y="1438"/>
                    </a:lnTo>
                    <a:lnTo>
                      <a:pt x="2914" y="1298"/>
                    </a:lnTo>
                    <a:lnTo>
                      <a:pt x="2966" y="1119"/>
                    </a:lnTo>
                    <a:lnTo>
                      <a:pt x="3000" y="938"/>
                    </a:lnTo>
                    <a:lnTo>
                      <a:pt x="3035" y="759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306720" y="609480"/>
                <a:ext cx="2328480" cy="2169360"/>
              </a:xfrm>
              <a:custGeom>
                <a:avLst/>
                <a:gdLst/>
                <a:ahLst/>
                <a:rect l="l" t="t" r="r" b="b"/>
                <a:pathLst>
                  <a:path w="3087" h="6410">
                    <a:moveTo>
                      <a:pt x="0" y="6410"/>
                    </a:moveTo>
                    <a:lnTo>
                      <a:pt x="103" y="6310"/>
                    </a:lnTo>
                    <a:lnTo>
                      <a:pt x="329" y="5990"/>
                    </a:lnTo>
                    <a:lnTo>
                      <a:pt x="676" y="5331"/>
                    </a:lnTo>
                    <a:lnTo>
                      <a:pt x="711" y="5252"/>
                    </a:lnTo>
                    <a:lnTo>
                      <a:pt x="780" y="5052"/>
                    </a:lnTo>
                    <a:lnTo>
                      <a:pt x="902" y="4772"/>
                    </a:lnTo>
                    <a:lnTo>
                      <a:pt x="1057" y="4452"/>
                    </a:lnTo>
                    <a:lnTo>
                      <a:pt x="1248" y="4193"/>
                    </a:lnTo>
                    <a:lnTo>
                      <a:pt x="1283" y="4133"/>
                    </a:lnTo>
                    <a:lnTo>
                      <a:pt x="1335" y="4093"/>
                    </a:lnTo>
                    <a:lnTo>
                      <a:pt x="1370" y="4033"/>
                    </a:lnTo>
                    <a:lnTo>
                      <a:pt x="1422" y="3994"/>
                    </a:lnTo>
                    <a:lnTo>
                      <a:pt x="1474" y="3933"/>
                    </a:lnTo>
                    <a:lnTo>
                      <a:pt x="1509" y="3854"/>
                    </a:lnTo>
                    <a:lnTo>
                      <a:pt x="1560" y="3794"/>
                    </a:lnTo>
                    <a:lnTo>
                      <a:pt x="1612" y="3735"/>
                    </a:lnTo>
                    <a:lnTo>
                      <a:pt x="1665" y="3654"/>
                    </a:lnTo>
                    <a:lnTo>
                      <a:pt x="1717" y="3574"/>
                    </a:lnTo>
                    <a:lnTo>
                      <a:pt x="1769" y="3514"/>
                    </a:lnTo>
                    <a:lnTo>
                      <a:pt x="1838" y="3435"/>
                    </a:lnTo>
                    <a:lnTo>
                      <a:pt x="1891" y="3354"/>
                    </a:lnTo>
                    <a:lnTo>
                      <a:pt x="1943" y="3275"/>
                    </a:lnTo>
                    <a:lnTo>
                      <a:pt x="1995" y="3175"/>
                    </a:lnTo>
                    <a:lnTo>
                      <a:pt x="2046" y="3095"/>
                    </a:lnTo>
                    <a:lnTo>
                      <a:pt x="2098" y="3016"/>
                    </a:lnTo>
                    <a:lnTo>
                      <a:pt x="2150" y="2916"/>
                    </a:lnTo>
                    <a:lnTo>
                      <a:pt x="2203" y="2835"/>
                    </a:lnTo>
                    <a:lnTo>
                      <a:pt x="2255" y="2756"/>
                    </a:lnTo>
                    <a:lnTo>
                      <a:pt x="2307" y="2656"/>
                    </a:lnTo>
                    <a:lnTo>
                      <a:pt x="2359" y="2576"/>
                    </a:lnTo>
                    <a:lnTo>
                      <a:pt x="2411" y="2476"/>
                    </a:lnTo>
                    <a:lnTo>
                      <a:pt x="2446" y="2396"/>
                    </a:lnTo>
                    <a:lnTo>
                      <a:pt x="2498" y="2297"/>
                    </a:lnTo>
                    <a:lnTo>
                      <a:pt x="2532" y="2216"/>
                    </a:lnTo>
                    <a:lnTo>
                      <a:pt x="2567" y="2116"/>
                    </a:lnTo>
                    <a:lnTo>
                      <a:pt x="2601" y="2037"/>
                    </a:lnTo>
                    <a:lnTo>
                      <a:pt x="2619" y="2017"/>
                    </a:lnTo>
                    <a:lnTo>
                      <a:pt x="2636" y="1977"/>
                    </a:lnTo>
                    <a:lnTo>
                      <a:pt x="2671" y="1918"/>
                    </a:lnTo>
                    <a:lnTo>
                      <a:pt x="2706" y="1818"/>
                    </a:lnTo>
                    <a:lnTo>
                      <a:pt x="2758" y="1718"/>
                    </a:lnTo>
                    <a:lnTo>
                      <a:pt x="2810" y="1597"/>
                    </a:lnTo>
                    <a:lnTo>
                      <a:pt x="2862" y="1458"/>
                    </a:lnTo>
                    <a:lnTo>
                      <a:pt x="2914" y="1298"/>
                    </a:lnTo>
                    <a:lnTo>
                      <a:pt x="2966" y="1118"/>
                    </a:lnTo>
                    <a:lnTo>
                      <a:pt x="3000" y="958"/>
                    </a:lnTo>
                    <a:lnTo>
                      <a:pt x="3035" y="758"/>
                    </a:lnTo>
                    <a:lnTo>
                      <a:pt x="3070" y="579"/>
                    </a:lnTo>
                    <a:lnTo>
                      <a:pt x="3087" y="379"/>
                    </a:lnTo>
                    <a:lnTo>
                      <a:pt x="3087" y="18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306720" y="629640"/>
                <a:ext cx="2328480" cy="2108520"/>
              </a:xfrm>
              <a:custGeom>
                <a:avLst/>
                <a:gdLst/>
                <a:ahLst/>
                <a:rect l="l" t="t" r="r" b="b"/>
                <a:pathLst>
                  <a:path w="3087" h="6230">
                    <a:moveTo>
                      <a:pt x="0" y="6230"/>
                    </a:moveTo>
                    <a:lnTo>
                      <a:pt x="103" y="6130"/>
                    </a:lnTo>
                    <a:lnTo>
                      <a:pt x="329" y="5811"/>
                    </a:lnTo>
                    <a:lnTo>
                      <a:pt x="676" y="5152"/>
                    </a:lnTo>
                    <a:lnTo>
                      <a:pt x="711" y="5071"/>
                    </a:lnTo>
                    <a:lnTo>
                      <a:pt x="780" y="4873"/>
                    </a:lnTo>
                    <a:lnTo>
                      <a:pt x="902" y="4592"/>
                    </a:lnTo>
                    <a:lnTo>
                      <a:pt x="1057" y="4292"/>
                    </a:lnTo>
                    <a:lnTo>
                      <a:pt x="1248" y="4013"/>
                    </a:lnTo>
                    <a:lnTo>
                      <a:pt x="1283" y="3973"/>
                    </a:lnTo>
                    <a:lnTo>
                      <a:pt x="1335" y="3913"/>
                    </a:lnTo>
                    <a:lnTo>
                      <a:pt x="1370" y="3854"/>
                    </a:lnTo>
                    <a:lnTo>
                      <a:pt x="1422" y="3813"/>
                    </a:lnTo>
                    <a:lnTo>
                      <a:pt x="1474" y="3754"/>
                    </a:lnTo>
                    <a:lnTo>
                      <a:pt x="1509" y="3694"/>
                    </a:lnTo>
                    <a:lnTo>
                      <a:pt x="1560" y="3614"/>
                    </a:lnTo>
                    <a:lnTo>
                      <a:pt x="1612" y="3554"/>
                    </a:lnTo>
                    <a:lnTo>
                      <a:pt x="1665" y="3475"/>
                    </a:lnTo>
                    <a:lnTo>
                      <a:pt x="1717" y="3415"/>
                    </a:lnTo>
                    <a:lnTo>
                      <a:pt x="1769" y="3335"/>
                    </a:lnTo>
                    <a:lnTo>
                      <a:pt x="1838" y="3254"/>
                    </a:lnTo>
                    <a:lnTo>
                      <a:pt x="1891" y="3175"/>
                    </a:lnTo>
                    <a:lnTo>
                      <a:pt x="1943" y="3094"/>
                    </a:lnTo>
                    <a:lnTo>
                      <a:pt x="1995" y="3015"/>
                    </a:lnTo>
                    <a:lnTo>
                      <a:pt x="2046" y="2915"/>
                    </a:lnTo>
                    <a:lnTo>
                      <a:pt x="2098" y="2835"/>
                    </a:lnTo>
                    <a:lnTo>
                      <a:pt x="2150" y="2756"/>
                    </a:lnTo>
                    <a:lnTo>
                      <a:pt x="2203" y="2656"/>
                    </a:lnTo>
                    <a:lnTo>
                      <a:pt x="2255" y="2575"/>
                    </a:lnTo>
                    <a:lnTo>
                      <a:pt x="2307" y="2477"/>
                    </a:lnTo>
                    <a:lnTo>
                      <a:pt x="2359" y="2396"/>
                    </a:lnTo>
                    <a:lnTo>
                      <a:pt x="2411" y="2296"/>
                    </a:lnTo>
                    <a:lnTo>
                      <a:pt x="2446" y="2217"/>
                    </a:lnTo>
                    <a:lnTo>
                      <a:pt x="2498" y="2117"/>
                    </a:lnTo>
                    <a:lnTo>
                      <a:pt x="2532" y="2037"/>
                    </a:lnTo>
                    <a:lnTo>
                      <a:pt x="2567" y="1937"/>
                    </a:lnTo>
                    <a:lnTo>
                      <a:pt x="2601" y="1858"/>
                    </a:lnTo>
                    <a:lnTo>
                      <a:pt x="2619" y="1837"/>
                    </a:lnTo>
                    <a:lnTo>
                      <a:pt x="2636" y="1797"/>
                    </a:lnTo>
                    <a:lnTo>
                      <a:pt x="2671" y="1737"/>
                    </a:lnTo>
                    <a:lnTo>
                      <a:pt x="2706" y="1637"/>
                    </a:lnTo>
                    <a:lnTo>
                      <a:pt x="2758" y="1517"/>
                    </a:lnTo>
                    <a:lnTo>
                      <a:pt x="2810" y="1398"/>
                    </a:lnTo>
                    <a:lnTo>
                      <a:pt x="2862" y="1258"/>
                    </a:lnTo>
                    <a:lnTo>
                      <a:pt x="2914" y="1098"/>
                    </a:lnTo>
                    <a:lnTo>
                      <a:pt x="2966" y="919"/>
                    </a:lnTo>
                    <a:lnTo>
                      <a:pt x="3019" y="739"/>
                    </a:lnTo>
                    <a:lnTo>
                      <a:pt x="3052" y="560"/>
                    </a:lnTo>
                    <a:lnTo>
                      <a:pt x="3070" y="379"/>
                    </a:lnTo>
                    <a:lnTo>
                      <a:pt x="3087" y="179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306720" y="629640"/>
                <a:ext cx="2314800" cy="2067840"/>
              </a:xfrm>
              <a:custGeom>
                <a:avLst/>
                <a:gdLst/>
                <a:ahLst/>
                <a:rect l="l" t="t" r="r" b="b"/>
                <a:pathLst>
                  <a:path w="3070" h="6110">
                    <a:moveTo>
                      <a:pt x="0" y="6110"/>
                    </a:moveTo>
                    <a:lnTo>
                      <a:pt x="103" y="6010"/>
                    </a:lnTo>
                    <a:lnTo>
                      <a:pt x="329" y="5690"/>
                    </a:lnTo>
                    <a:lnTo>
                      <a:pt x="676" y="5032"/>
                    </a:lnTo>
                    <a:lnTo>
                      <a:pt x="711" y="4952"/>
                    </a:lnTo>
                    <a:lnTo>
                      <a:pt x="780" y="4752"/>
                    </a:lnTo>
                    <a:lnTo>
                      <a:pt x="902" y="4473"/>
                    </a:lnTo>
                    <a:lnTo>
                      <a:pt x="1057" y="4173"/>
                    </a:lnTo>
                    <a:lnTo>
                      <a:pt x="1248" y="3894"/>
                    </a:lnTo>
                    <a:lnTo>
                      <a:pt x="1283" y="3854"/>
                    </a:lnTo>
                    <a:lnTo>
                      <a:pt x="1335" y="3794"/>
                    </a:lnTo>
                    <a:lnTo>
                      <a:pt x="1370" y="3754"/>
                    </a:lnTo>
                    <a:lnTo>
                      <a:pt x="1422" y="3694"/>
                    </a:lnTo>
                    <a:lnTo>
                      <a:pt x="1474" y="3634"/>
                    </a:lnTo>
                    <a:lnTo>
                      <a:pt x="1509" y="3575"/>
                    </a:lnTo>
                    <a:lnTo>
                      <a:pt x="1560" y="3494"/>
                    </a:lnTo>
                    <a:lnTo>
                      <a:pt x="1612" y="3435"/>
                    </a:lnTo>
                    <a:lnTo>
                      <a:pt x="1665" y="3354"/>
                    </a:lnTo>
                    <a:lnTo>
                      <a:pt x="1717" y="3294"/>
                    </a:lnTo>
                    <a:lnTo>
                      <a:pt x="1769" y="3215"/>
                    </a:lnTo>
                    <a:lnTo>
                      <a:pt x="1838" y="3135"/>
                    </a:lnTo>
                    <a:lnTo>
                      <a:pt x="1891" y="3056"/>
                    </a:lnTo>
                    <a:lnTo>
                      <a:pt x="1943" y="2975"/>
                    </a:lnTo>
                    <a:lnTo>
                      <a:pt x="1995" y="2896"/>
                    </a:lnTo>
                    <a:lnTo>
                      <a:pt x="2046" y="2815"/>
                    </a:lnTo>
                    <a:lnTo>
                      <a:pt x="2098" y="2715"/>
                    </a:lnTo>
                    <a:lnTo>
                      <a:pt x="2150" y="2636"/>
                    </a:lnTo>
                    <a:lnTo>
                      <a:pt x="2203" y="2536"/>
                    </a:lnTo>
                    <a:lnTo>
                      <a:pt x="2255" y="2456"/>
                    </a:lnTo>
                    <a:lnTo>
                      <a:pt x="2307" y="2356"/>
                    </a:lnTo>
                    <a:lnTo>
                      <a:pt x="2359" y="2277"/>
                    </a:lnTo>
                    <a:lnTo>
                      <a:pt x="2411" y="2177"/>
                    </a:lnTo>
                    <a:lnTo>
                      <a:pt x="2446" y="2096"/>
                    </a:lnTo>
                    <a:lnTo>
                      <a:pt x="2498" y="1996"/>
                    </a:lnTo>
                    <a:lnTo>
                      <a:pt x="2532" y="1917"/>
                    </a:lnTo>
                    <a:lnTo>
                      <a:pt x="2567" y="1817"/>
                    </a:lnTo>
                    <a:lnTo>
                      <a:pt x="2601" y="1737"/>
                    </a:lnTo>
                    <a:lnTo>
                      <a:pt x="2619" y="1717"/>
                    </a:lnTo>
                    <a:lnTo>
                      <a:pt x="2636" y="1677"/>
                    </a:lnTo>
                    <a:lnTo>
                      <a:pt x="2671" y="1598"/>
                    </a:lnTo>
                    <a:lnTo>
                      <a:pt x="2723" y="1517"/>
                    </a:lnTo>
                    <a:lnTo>
                      <a:pt x="2758" y="1398"/>
                    </a:lnTo>
                    <a:lnTo>
                      <a:pt x="2827" y="1258"/>
                    </a:lnTo>
                    <a:lnTo>
                      <a:pt x="2880" y="1118"/>
                    </a:lnTo>
                    <a:lnTo>
                      <a:pt x="2932" y="939"/>
                    </a:lnTo>
                    <a:lnTo>
                      <a:pt x="2984" y="759"/>
                    </a:lnTo>
                    <a:lnTo>
                      <a:pt x="3019" y="579"/>
                    </a:lnTo>
                    <a:lnTo>
                      <a:pt x="3052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306720" y="629640"/>
                <a:ext cx="2314800" cy="2027160"/>
              </a:xfrm>
              <a:custGeom>
                <a:avLst/>
                <a:gdLst/>
                <a:ahLst/>
                <a:rect l="l" t="t" r="r" b="b"/>
                <a:pathLst>
                  <a:path w="3070" h="5990">
                    <a:moveTo>
                      <a:pt x="0" y="5990"/>
                    </a:moveTo>
                    <a:lnTo>
                      <a:pt x="103" y="5890"/>
                    </a:lnTo>
                    <a:lnTo>
                      <a:pt x="329" y="5571"/>
                    </a:lnTo>
                    <a:lnTo>
                      <a:pt x="676" y="4912"/>
                    </a:lnTo>
                    <a:lnTo>
                      <a:pt x="711" y="4832"/>
                    </a:lnTo>
                    <a:lnTo>
                      <a:pt x="780" y="4632"/>
                    </a:lnTo>
                    <a:lnTo>
                      <a:pt x="902" y="4353"/>
                    </a:lnTo>
                    <a:lnTo>
                      <a:pt x="1057" y="4054"/>
                    </a:lnTo>
                    <a:lnTo>
                      <a:pt x="1248" y="3773"/>
                    </a:lnTo>
                    <a:lnTo>
                      <a:pt x="1283" y="3734"/>
                    </a:lnTo>
                    <a:lnTo>
                      <a:pt x="1335" y="3675"/>
                    </a:lnTo>
                    <a:lnTo>
                      <a:pt x="1370" y="3634"/>
                    </a:lnTo>
                    <a:lnTo>
                      <a:pt x="1422" y="3575"/>
                    </a:lnTo>
                    <a:lnTo>
                      <a:pt x="1474" y="3514"/>
                    </a:lnTo>
                    <a:lnTo>
                      <a:pt x="1509" y="3454"/>
                    </a:lnTo>
                    <a:lnTo>
                      <a:pt x="1560" y="3394"/>
                    </a:lnTo>
                    <a:lnTo>
                      <a:pt x="1612" y="3315"/>
                    </a:lnTo>
                    <a:lnTo>
                      <a:pt x="1665" y="3254"/>
                    </a:lnTo>
                    <a:lnTo>
                      <a:pt x="1717" y="3175"/>
                    </a:lnTo>
                    <a:lnTo>
                      <a:pt x="1769" y="3094"/>
                    </a:lnTo>
                    <a:lnTo>
                      <a:pt x="1838" y="3015"/>
                    </a:lnTo>
                    <a:lnTo>
                      <a:pt x="1891" y="2935"/>
                    </a:lnTo>
                    <a:lnTo>
                      <a:pt x="1943" y="2856"/>
                    </a:lnTo>
                    <a:lnTo>
                      <a:pt x="1995" y="2775"/>
                    </a:lnTo>
                    <a:lnTo>
                      <a:pt x="2046" y="2696"/>
                    </a:lnTo>
                    <a:lnTo>
                      <a:pt x="2098" y="2596"/>
                    </a:lnTo>
                    <a:lnTo>
                      <a:pt x="2150" y="2516"/>
                    </a:lnTo>
                    <a:lnTo>
                      <a:pt x="2203" y="2436"/>
                    </a:lnTo>
                    <a:lnTo>
                      <a:pt x="2255" y="2336"/>
                    </a:lnTo>
                    <a:lnTo>
                      <a:pt x="2307" y="2256"/>
                    </a:lnTo>
                    <a:lnTo>
                      <a:pt x="2359" y="2156"/>
                    </a:lnTo>
                    <a:lnTo>
                      <a:pt x="2411" y="2056"/>
                    </a:lnTo>
                    <a:lnTo>
                      <a:pt x="2446" y="1977"/>
                    </a:lnTo>
                    <a:lnTo>
                      <a:pt x="2498" y="1877"/>
                    </a:lnTo>
                    <a:lnTo>
                      <a:pt x="2532" y="1797"/>
                    </a:lnTo>
                    <a:lnTo>
                      <a:pt x="2567" y="1698"/>
                    </a:lnTo>
                    <a:lnTo>
                      <a:pt x="2601" y="1617"/>
                    </a:lnTo>
                    <a:lnTo>
                      <a:pt x="2619" y="1598"/>
                    </a:lnTo>
                    <a:lnTo>
                      <a:pt x="2636" y="1558"/>
                    </a:lnTo>
                    <a:lnTo>
                      <a:pt x="2671" y="1477"/>
                    </a:lnTo>
                    <a:lnTo>
                      <a:pt x="2723" y="1377"/>
                    </a:lnTo>
                    <a:lnTo>
                      <a:pt x="2775" y="1258"/>
                    </a:lnTo>
                    <a:lnTo>
                      <a:pt x="2827" y="1118"/>
                    </a:lnTo>
                    <a:lnTo>
                      <a:pt x="2897" y="958"/>
                    </a:lnTo>
                    <a:lnTo>
                      <a:pt x="2949" y="779"/>
                    </a:lnTo>
                    <a:lnTo>
                      <a:pt x="3000" y="599"/>
                    </a:lnTo>
                    <a:lnTo>
                      <a:pt x="3035" y="400"/>
                    </a:lnTo>
                    <a:lnTo>
                      <a:pt x="3070" y="20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6720" y="609480"/>
                <a:ext cx="2314800" cy="2006640"/>
              </a:xfrm>
              <a:custGeom>
                <a:avLst/>
                <a:gdLst/>
                <a:ahLst/>
                <a:rect l="l" t="t" r="r" b="b"/>
                <a:pathLst>
                  <a:path w="3070" h="5931">
                    <a:moveTo>
                      <a:pt x="0" y="5931"/>
                    </a:moveTo>
                    <a:lnTo>
                      <a:pt x="103" y="5831"/>
                    </a:lnTo>
                    <a:lnTo>
                      <a:pt x="329" y="5531"/>
                    </a:lnTo>
                    <a:lnTo>
                      <a:pt x="676" y="4912"/>
                    </a:lnTo>
                    <a:lnTo>
                      <a:pt x="711" y="4833"/>
                    </a:lnTo>
                    <a:lnTo>
                      <a:pt x="780" y="4612"/>
                    </a:lnTo>
                    <a:lnTo>
                      <a:pt x="902" y="4313"/>
                    </a:lnTo>
                    <a:lnTo>
                      <a:pt x="1057" y="3994"/>
                    </a:lnTo>
                    <a:lnTo>
                      <a:pt x="1248" y="3714"/>
                    </a:lnTo>
                    <a:lnTo>
                      <a:pt x="1283" y="3674"/>
                    </a:lnTo>
                    <a:lnTo>
                      <a:pt x="1335" y="3614"/>
                    </a:lnTo>
                    <a:lnTo>
                      <a:pt x="1370" y="3574"/>
                    </a:lnTo>
                    <a:lnTo>
                      <a:pt x="1422" y="3514"/>
                    </a:lnTo>
                    <a:lnTo>
                      <a:pt x="1474" y="3454"/>
                    </a:lnTo>
                    <a:lnTo>
                      <a:pt x="1509" y="3395"/>
                    </a:lnTo>
                    <a:lnTo>
                      <a:pt x="1560" y="3335"/>
                    </a:lnTo>
                    <a:lnTo>
                      <a:pt x="1612" y="3254"/>
                    </a:lnTo>
                    <a:lnTo>
                      <a:pt x="1665" y="3195"/>
                    </a:lnTo>
                    <a:lnTo>
                      <a:pt x="1717" y="3116"/>
                    </a:lnTo>
                    <a:lnTo>
                      <a:pt x="1769" y="3055"/>
                    </a:lnTo>
                    <a:lnTo>
                      <a:pt x="1838" y="2975"/>
                    </a:lnTo>
                    <a:lnTo>
                      <a:pt x="1891" y="2895"/>
                    </a:lnTo>
                    <a:lnTo>
                      <a:pt x="1943" y="2816"/>
                    </a:lnTo>
                    <a:lnTo>
                      <a:pt x="1995" y="2735"/>
                    </a:lnTo>
                    <a:lnTo>
                      <a:pt x="2046" y="2635"/>
                    </a:lnTo>
                    <a:lnTo>
                      <a:pt x="2098" y="2556"/>
                    </a:lnTo>
                    <a:lnTo>
                      <a:pt x="2150" y="2476"/>
                    </a:lnTo>
                    <a:lnTo>
                      <a:pt x="2203" y="2396"/>
                    </a:lnTo>
                    <a:lnTo>
                      <a:pt x="2255" y="2297"/>
                    </a:lnTo>
                    <a:lnTo>
                      <a:pt x="2307" y="2216"/>
                    </a:lnTo>
                    <a:lnTo>
                      <a:pt x="2359" y="2137"/>
                    </a:lnTo>
                    <a:lnTo>
                      <a:pt x="2411" y="2037"/>
                    </a:lnTo>
                    <a:lnTo>
                      <a:pt x="2446" y="1956"/>
                    </a:lnTo>
                    <a:lnTo>
                      <a:pt x="2498" y="1877"/>
                    </a:lnTo>
                    <a:lnTo>
                      <a:pt x="2532" y="1777"/>
                    </a:lnTo>
                    <a:lnTo>
                      <a:pt x="2567" y="1697"/>
                    </a:lnTo>
                    <a:lnTo>
                      <a:pt x="2601" y="1618"/>
                    </a:lnTo>
                    <a:lnTo>
                      <a:pt x="2619" y="1597"/>
                    </a:lnTo>
                    <a:lnTo>
                      <a:pt x="2636" y="1537"/>
                    </a:lnTo>
                    <a:lnTo>
                      <a:pt x="2688" y="1458"/>
                    </a:lnTo>
                    <a:lnTo>
                      <a:pt x="2740" y="1337"/>
                    </a:lnTo>
                    <a:lnTo>
                      <a:pt x="2793" y="1198"/>
                    </a:lnTo>
                    <a:lnTo>
                      <a:pt x="2845" y="1018"/>
                    </a:lnTo>
                    <a:lnTo>
                      <a:pt x="2914" y="839"/>
                    </a:lnTo>
                    <a:lnTo>
                      <a:pt x="2966" y="639"/>
                    </a:lnTo>
                    <a:lnTo>
                      <a:pt x="3019" y="439"/>
                    </a:lnTo>
                    <a:lnTo>
                      <a:pt x="3052" y="220"/>
                    </a:lnTo>
                    <a:lnTo>
                      <a:pt x="307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306720" y="1603440"/>
                <a:ext cx="1334520" cy="972000"/>
              </a:xfrm>
              <a:custGeom>
                <a:avLst/>
                <a:gdLst/>
                <a:ahLst/>
                <a:rect l="l" t="t" r="r" b="b"/>
                <a:pathLst>
                  <a:path w="1769" h="2875">
                    <a:moveTo>
                      <a:pt x="0" y="2875"/>
                    </a:moveTo>
                    <a:lnTo>
                      <a:pt x="103" y="2796"/>
                    </a:lnTo>
                    <a:lnTo>
                      <a:pt x="329" y="2496"/>
                    </a:lnTo>
                    <a:lnTo>
                      <a:pt x="676" y="1857"/>
                    </a:lnTo>
                    <a:lnTo>
                      <a:pt x="711" y="1777"/>
                    </a:lnTo>
                    <a:lnTo>
                      <a:pt x="780" y="1558"/>
                    </a:lnTo>
                    <a:lnTo>
                      <a:pt x="902" y="1258"/>
                    </a:lnTo>
                    <a:lnTo>
                      <a:pt x="1057" y="938"/>
                    </a:lnTo>
                    <a:lnTo>
                      <a:pt x="1248" y="659"/>
                    </a:lnTo>
                    <a:lnTo>
                      <a:pt x="1318" y="600"/>
                    </a:lnTo>
                    <a:lnTo>
                      <a:pt x="1388" y="519"/>
                    </a:lnTo>
                    <a:lnTo>
                      <a:pt x="1457" y="440"/>
                    </a:lnTo>
                    <a:lnTo>
                      <a:pt x="1527" y="340"/>
                    </a:lnTo>
                    <a:lnTo>
                      <a:pt x="1595" y="240"/>
                    </a:lnTo>
                    <a:lnTo>
                      <a:pt x="1682" y="120"/>
                    </a:lnTo>
                    <a:lnTo>
                      <a:pt x="176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267840" y="1967760"/>
                <a:ext cx="705240" cy="546840"/>
              </a:xfrm>
              <a:custGeom>
                <a:avLst/>
                <a:gdLst/>
                <a:ahLst/>
                <a:rect l="l" t="t" r="r" b="b"/>
                <a:pathLst>
                  <a:path w="936" h="1617">
                    <a:moveTo>
                      <a:pt x="0" y="1617"/>
                    </a:moveTo>
                    <a:lnTo>
                      <a:pt x="87" y="1557"/>
                    </a:lnTo>
                    <a:lnTo>
                      <a:pt x="312" y="1257"/>
                    </a:lnTo>
                    <a:lnTo>
                      <a:pt x="728" y="538"/>
                    </a:lnTo>
                    <a:lnTo>
                      <a:pt x="763" y="459"/>
                    </a:lnTo>
                    <a:lnTo>
                      <a:pt x="832" y="259"/>
                    </a:lnTo>
                    <a:lnTo>
                      <a:pt x="93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306720" y="2373840"/>
                <a:ext cx="784080" cy="729720"/>
              </a:xfrm>
              <a:custGeom>
                <a:avLst/>
                <a:gdLst/>
                <a:ahLst/>
                <a:rect l="l" t="t" r="r" b="b"/>
                <a:pathLst>
                  <a:path w="1041" h="2156">
                    <a:moveTo>
                      <a:pt x="0" y="2156"/>
                    </a:moveTo>
                    <a:lnTo>
                      <a:pt x="35" y="2076"/>
                    </a:lnTo>
                    <a:lnTo>
                      <a:pt x="69" y="1996"/>
                    </a:lnTo>
                    <a:lnTo>
                      <a:pt x="103" y="1896"/>
                    </a:lnTo>
                    <a:lnTo>
                      <a:pt x="155" y="1817"/>
                    </a:lnTo>
                    <a:lnTo>
                      <a:pt x="207" y="1717"/>
                    </a:lnTo>
                    <a:lnTo>
                      <a:pt x="277" y="1636"/>
                    </a:lnTo>
                    <a:lnTo>
                      <a:pt x="329" y="1536"/>
                    </a:lnTo>
                    <a:lnTo>
                      <a:pt x="381" y="1457"/>
                    </a:lnTo>
                    <a:lnTo>
                      <a:pt x="433" y="1398"/>
                    </a:lnTo>
                    <a:lnTo>
                      <a:pt x="468" y="1338"/>
                    </a:lnTo>
                    <a:lnTo>
                      <a:pt x="503" y="1298"/>
                    </a:lnTo>
                    <a:lnTo>
                      <a:pt x="520" y="1257"/>
                    </a:lnTo>
                    <a:lnTo>
                      <a:pt x="606" y="1138"/>
                    </a:lnTo>
                    <a:lnTo>
                      <a:pt x="676" y="1019"/>
                    </a:lnTo>
                    <a:lnTo>
                      <a:pt x="745" y="898"/>
                    </a:lnTo>
                    <a:lnTo>
                      <a:pt x="815" y="759"/>
                    </a:lnTo>
                    <a:lnTo>
                      <a:pt x="867" y="638"/>
                    </a:lnTo>
                    <a:lnTo>
                      <a:pt x="902" y="519"/>
                    </a:lnTo>
                    <a:lnTo>
                      <a:pt x="954" y="399"/>
                    </a:lnTo>
                    <a:lnTo>
                      <a:pt x="971" y="279"/>
                    </a:lnTo>
                    <a:lnTo>
                      <a:pt x="1006" y="200"/>
                    </a:lnTo>
                    <a:lnTo>
                      <a:pt x="1023" y="100"/>
                    </a:lnTo>
                    <a:lnTo>
                      <a:pt x="1041" y="40"/>
                    </a:lnTo>
                    <a:lnTo>
                      <a:pt x="1041" y="0"/>
                    </a:lnTo>
                    <a:lnTo>
                      <a:pt x="1006" y="79"/>
                    </a:lnTo>
                    <a:lnTo>
                      <a:pt x="902" y="319"/>
                    </a:lnTo>
                    <a:lnTo>
                      <a:pt x="711" y="638"/>
                    </a:lnTo>
                    <a:lnTo>
                      <a:pt x="416" y="958"/>
                    </a:lnTo>
                    <a:lnTo>
                      <a:pt x="381" y="998"/>
                    </a:lnTo>
                    <a:lnTo>
                      <a:pt x="329" y="1057"/>
                    </a:lnTo>
                    <a:lnTo>
                      <a:pt x="277" y="1138"/>
                    </a:lnTo>
                    <a:lnTo>
                      <a:pt x="207" y="1217"/>
                    </a:lnTo>
                    <a:lnTo>
                      <a:pt x="138" y="1298"/>
                    </a:lnTo>
                    <a:lnTo>
                      <a:pt x="87" y="1377"/>
                    </a:lnTo>
                    <a:lnTo>
                      <a:pt x="35" y="1438"/>
                    </a:lnTo>
                    <a:lnTo>
                      <a:pt x="0" y="1497"/>
                    </a:lnTo>
                    <a:lnTo>
                      <a:pt x="0" y="2156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306720" y="2475360"/>
                <a:ext cx="705600" cy="567360"/>
              </a:xfrm>
              <a:custGeom>
                <a:avLst/>
                <a:gdLst/>
                <a:ahLst/>
                <a:rect l="l" t="t" r="r" b="b"/>
                <a:pathLst>
                  <a:path w="937" h="1677">
                    <a:moveTo>
                      <a:pt x="0" y="1677"/>
                    </a:moveTo>
                    <a:lnTo>
                      <a:pt x="69" y="1518"/>
                    </a:lnTo>
                    <a:lnTo>
                      <a:pt x="190" y="1278"/>
                    </a:lnTo>
                    <a:lnTo>
                      <a:pt x="364" y="1018"/>
                    </a:lnTo>
                    <a:lnTo>
                      <a:pt x="433" y="918"/>
                    </a:lnTo>
                    <a:lnTo>
                      <a:pt x="503" y="839"/>
                    </a:lnTo>
                    <a:lnTo>
                      <a:pt x="571" y="758"/>
                    </a:lnTo>
                    <a:lnTo>
                      <a:pt x="624" y="659"/>
                    </a:lnTo>
                    <a:lnTo>
                      <a:pt x="676" y="579"/>
                    </a:lnTo>
                    <a:lnTo>
                      <a:pt x="745" y="499"/>
                    </a:lnTo>
                    <a:lnTo>
                      <a:pt x="780" y="399"/>
                    </a:lnTo>
                    <a:lnTo>
                      <a:pt x="832" y="299"/>
                    </a:lnTo>
                    <a:lnTo>
                      <a:pt x="867" y="220"/>
                    </a:lnTo>
                    <a:lnTo>
                      <a:pt x="902" y="100"/>
                    </a:lnTo>
                    <a:lnTo>
                      <a:pt x="93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6720" y="2495880"/>
                <a:ext cx="666360" cy="506160"/>
              </a:xfrm>
              <a:custGeom>
                <a:avLst/>
                <a:gdLst/>
                <a:ahLst/>
                <a:rect l="l" t="t" r="r" b="b"/>
                <a:pathLst>
                  <a:path w="884" h="1498">
                    <a:moveTo>
                      <a:pt x="0" y="1498"/>
                    </a:moveTo>
                    <a:lnTo>
                      <a:pt x="69" y="1338"/>
                    </a:lnTo>
                    <a:lnTo>
                      <a:pt x="173" y="1138"/>
                    </a:lnTo>
                    <a:lnTo>
                      <a:pt x="312" y="898"/>
                    </a:lnTo>
                    <a:lnTo>
                      <a:pt x="381" y="819"/>
                    </a:lnTo>
                    <a:lnTo>
                      <a:pt x="451" y="739"/>
                    </a:lnTo>
                    <a:lnTo>
                      <a:pt x="503" y="660"/>
                    </a:lnTo>
                    <a:lnTo>
                      <a:pt x="571" y="599"/>
                    </a:lnTo>
                    <a:lnTo>
                      <a:pt x="624" y="519"/>
                    </a:lnTo>
                    <a:lnTo>
                      <a:pt x="676" y="439"/>
                    </a:lnTo>
                    <a:lnTo>
                      <a:pt x="728" y="360"/>
                    </a:lnTo>
                    <a:lnTo>
                      <a:pt x="763" y="279"/>
                    </a:lnTo>
                    <a:lnTo>
                      <a:pt x="815" y="179"/>
                    </a:lnTo>
                    <a:lnTo>
                      <a:pt x="850" y="100"/>
                    </a:lnTo>
                    <a:lnTo>
                      <a:pt x="88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306720" y="2597400"/>
                <a:ext cx="509760" cy="364320"/>
              </a:xfrm>
              <a:custGeom>
                <a:avLst/>
                <a:gdLst/>
                <a:ahLst/>
                <a:rect l="l" t="t" r="r" b="b"/>
                <a:pathLst>
                  <a:path w="676" h="1077">
                    <a:moveTo>
                      <a:pt x="0" y="1077"/>
                    </a:moveTo>
                    <a:lnTo>
                      <a:pt x="69" y="918"/>
                    </a:lnTo>
                    <a:lnTo>
                      <a:pt x="173" y="739"/>
                    </a:lnTo>
                    <a:lnTo>
                      <a:pt x="312" y="539"/>
                    </a:lnTo>
                    <a:lnTo>
                      <a:pt x="381" y="439"/>
                    </a:lnTo>
                    <a:lnTo>
                      <a:pt x="451" y="360"/>
                    </a:lnTo>
                    <a:lnTo>
                      <a:pt x="503" y="279"/>
                    </a:lnTo>
                    <a:lnTo>
                      <a:pt x="571" y="179"/>
                    </a:lnTo>
                    <a:lnTo>
                      <a:pt x="624" y="100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306720" y="2677320"/>
                <a:ext cx="352800" cy="243360"/>
              </a:xfrm>
              <a:custGeom>
                <a:avLst/>
                <a:gdLst/>
                <a:ahLst/>
                <a:rect l="l" t="t" r="r" b="b"/>
                <a:pathLst>
                  <a:path w="468" h="719">
                    <a:moveTo>
                      <a:pt x="0" y="719"/>
                    </a:moveTo>
                    <a:lnTo>
                      <a:pt x="69" y="579"/>
                    </a:lnTo>
                    <a:lnTo>
                      <a:pt x="155" y="440"/>
                    </a:lnTo>
                    <a:lnTo>
                      <a:pt x="260" y="300"/>
                    </a:lnTo>
                    <a:lnTo>
                      <a:pt x="346" y="180"/>
                    </a:lnTo>
                    <a:lnTo>
                      <a:pt x="416" y="80"/>
                    </a:lnTo>
                    <a:lnTo>
                      <a:pt x="46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012680" y="304920"/>
                <a:ext cx="1465560" cy="750240"/>
              </a:xfrm>
              <a:custGeom>
                <a:avLst/>
                <a:gdLst/>
                <a:ahLst/>
                <a:rect l="l" t="t" r="r" b="b"/>
                <a:pathLst>
                  <a:path w="1943" h="2217">
                    <a:moveTo>
                      <a:pt x="1248" y="2097"/>
                    </a:moveTo>
                    <a:lnTo>
                      <a:pt x="1318" y="2038"/>
                    </a:lnTo>
                    <a:lnTo>
                      <a:pt x="1370" y="2017"/>
                    </a:lnTo>
                    <a:lnTo>
                      <a:pt x="1405" y="2038"/>
                    </a:lnTo>
                    <a:lnTo>
                      <a:pt x="1457" y="2038"/>
                    </a:lnTo>
                    <a:lnTo>
                      <a:pt x="1492" y="2038"/>
                    </a:lnTo>
                    <a:lnTo>
                      <a:pt x="1509" y="2038"/>
                    </a:lnTo>
                    <a:lnTo>
                      <a:pt x="1612" y="1957"/>
                    </a:lnTo>
                    <a:lnTo>
                      <a:pt x="1647" y="1898"/>
                    </a:lnTo>
                    <a:lnTo>
                      <a:pt x="1664" y="1838"/>
                    </a:lnTo>
                    <a:lnTo>
                      <a:pt x="1612" y="1798"/>
                    </a:lnTo>
                    <a:lnTo>
                      <a:pt x="1595" y="1757"/>
                    </a:lnTo>
                    <a:lnTo>
                      <a:pt x="1630" y="1718"/>
                    </a:lnTo>
                    <a:lnTo>
                      <a:pt x="1717" y="1738"/>
                    </a:lnTo>
                    <a:lnTo>
                      <a:pt x="1838" y="1678"/>
                    </a:lnTo>
                    <a:lnTo>
                      <a:pt x="1890" y="1578"/>
                    </a:lnTo>
                    <a:lnTo>
                      <a:pt x="1873" y="1498"/>
                    </a:lnTo>
                    <a:lnTo>
                      <a:pt x="1873" y="1419"/>
                    </a:lnTo>
                    <a:lnTo>
                      <a:pt x="1890" y="1338"/>
                    </a:lnTo>
                    <a:lnTo>
                      <a:pt x="1925" y="1259"/>
                    </a:lnTo>
                    <a:lnTo>
                      <a:pt x="1943" y="1159"/>
                    </a:lnTo>
                    <a:lnTo>
                      <a:pt x="1908" y="1059"/>
                    </a:lnTo>
                    <a:lnTo>
                      <a:pt x="1873" y="1019"/>
                    </a:lnTo>
                    <a:lnTo>
                      <a:pt x="1821" y="979"/>
                    </a:lnTo>
                    <a:lnTo>
                      <a:pt x="1786" y="940"/>
                    </a:lnTo>
                    <a:lnTo>
                      <a:pt x="1769" y="899"/>
                    </a:lnTo>
                    <a:lnTo>
                      <a:pt x="1717" y="840"/>
                    </a:lnTo>
                    <a:lnTo>
                      <a:pt x="1664" y="800"/>
                    </a:lnTo>
                    <a:lnTo>
                      <a:pt x="1612" y="779"/>
                    </a:lnTo>
                    <a:lnTo>
                      <a:pt x="1561" y="740"/>
                    </a:lnTo>
                    <a:lnTo>
                      <a:pt x="1526" y="719"/>
                    </a:lnTo>
                    <a:lnTo>
                      <a:pt x="1509" y="719"/>
                    </a:lnTo>
                    <a:lnTo>
                      <a:pt x="1492" y="640"/>
                    </a:lnTo>
                    <a:lnTo>
                      <a:pt x="1474" y="559"/>
                    </a:lnTo>
                    <a:lnTo>
                      <a:pt x="1457" y="540"/>
                    </a:lnTo>
                    <a:lnTo>
                      <a:pt x="1422" y="480"/>
                    </a:lnTo>
                    <a:lnTo>
                      <a:pt x="1370" y="400"/>
                    </a:lnTo>
                    <a:lnTo>
                      <a:pt x="1300" y="300"/>
                    </a:lnTo>
                    <a:lnTo>
                      <a:pt x="1248" y="180"/>
                    </a:lnTo>
                    <a:lnTo>
                      <a:pt x="1196" y="100"/>
                    </a:lnTo>
                    <a:lnTo>
                      <a:pt x="1161" y="21"/>
                    </a:lnTo>
                    <a:lnTo>
                      <a:pt x="1144" y="0"/>
                    </a:lnTo>
                    <a:lnTo>
                      <a:pt x="1058" y="80"/>
                    </a:lnTo>
                    <a:lnTo>
                      <a:pt x="936" y="161"/>
                    </a:lnTo>
                    <a:lnTo>
                      <a:pt x="797" y="200"/>
                    </a:lnTo>
                    <a:lnTo>
                      <a:pt x="675" y="240"/>
                    </a:lnTo>
                    <a:lnTo>
                      <a:pt x="555" y="221"/>
                    </a:lnTo>
                    <a:lnTo>
                      <a:pt x="485" y="260"/>
                    </a:lnTo>
                    <a:lnTo>
                      <a:pt x="468" y="300"/>
                    </a:lnTo>
                    <a:lnTo>
                      <a:pt x="433" y="321"/>
                    </a:lnTo>
                    <a:lnTo>
                      <a:pt x="381" y="340"/>
                    </a:lnTo>
                    <a:lnTo>
                      <a:pt x="364" y="360"/>
                    </a:lnTo>
                    <a:lnTo>
                      <a:pt x="277" y="380"/>
                    </a:lnTo>
                    <a:lnTo>
                      <a:pt x="207" y="440"/>
                    </a:lnTo>
                    <a:lnTo>
                      <a:pt x="155" y="540"/>
                    </a:lnTo>
                    <a:lnTo>
                      <a:pt x="139" y="600"/>
                    </a:lnTo>
                    <a:lnTo>
                      <a:pt x="120" y="680"/>
                    </a:lnTo>
                    <a:lnTo>
                      <a:pt x="104" y="719"/>
                    </a:lnTo>
                    <a:lnTo>
                      <a:pt x="17" y="779"/>
                    </a:lnTo>
                    <a:lnTo>
                      <a:pt x="0" y="859"/>
                    </a:lnTo>
                    <a:lnTo>
                      <a:pt x="0" y="899"/>
                    </a:lnTo>
                    <a:lnTo>
                      <a:pt x="0" y="959"/>
                    </a:lnTo>
                    <a:lnTo>
                      <a:pt x="0" y="999"/>
                    </a:lnTo>
                    <a:lnTo>
                      <a:pt x="0" y="1019"/>
                    </a:lnTo>
                    <a:lnTo>
                      <a:pt x="0" y="1179"/>
                    </a:lnTo>
                    <a:lnTo>
                      <a:pt x="34" y="1298"/>
                    </a:lnTo>
                    <a:lnTo>
                      <a:pt x="86" y="1359"/>
                    </a:lnTo>
                    <a:lnTo>
                      <a:pt x="104" y="1378"/>
                    </a:lnTo>
                    <a:lnTo>
                      <a:pt x="120" y="1478"/>
                    </a:lnTo>
                    <a:lnTo>
                      <a:pt x="139" y="1558"/>
                    </a:lnTo>
                    <a:lnTo>
                      <a:pt x="155" y="1619"/>
                    </a:lnTo>
                    <a:lnTo>
                      <a:pt x="172" y="1619"/>
                    </a:lnTo>
                    <a:lnTo>
                      <a:pt x="190" y="1638"/>
                    </a:lnTo>
                    <a:lnTo>
                      <a:pt x="207" y="1678"/>
                    </a:lnTo>
                    <a:lnTo>
                      <a:pt x="242" y="1718"/>
                    </a:lnTo>
                    <a:lnTo>
                      <a:pt x="294" y="1778"/>
                    </a:lnTo>
                    <a:lnTo>
                      <a:pt x="346" y="1817"/>
                    </a:lnTo>
                    <a:lnTo>
                      <a:pt x="398" y="1878"/>
                    </a:lnTo>
                    <a:lnTo>
                      <a:pt x="468" y="1938"/>
                    </a:lnTo>
                    <a:lnTo>
                      <a:pt x="520" y="1998"/>
                    </a:lnTo>
                    <a:lnTo>
                      <a:pt x="607" y="2057"/>
                    </a:lnTo>
                    <a:lnTo>
                      <a:pt x="675" y="2117"/>
                    </a:lnTo>
                    <a:lnTo>
                      <a:pt x="745" y="2157"/>
                    </a:lnTo>
                    <a:lnTo>
                      <a:pt x="832" y="2197"/>
                    </a:lnTo>
                    <a:lnTo>
                      <a:pt x="901" y="2217"/>
                    </a:lnTo>
                    <a:lnTo>
                      <a:pt x="971" y="2217"/>
                    </a:lnTo>
                    <a:lnTo>
                      <a:pt x="1058" y="2217"/>
                    </a:lnTo>
                    <a:lnTo>
                      <a:pt x="1126" y="2197"/>
                    </a:lnTo>
                    <a:lnTo>
                      <a:pt x="1196" y="2157"/>
                    </a:lnTo>
                    <a:lnTo>
                      <a:pt x="1248" y="2097"/>
                    </a:lnTo>
                    <a:close/>
                  </a:path>
                </a:pathLst>
              </a:custGeom>
              <a:solidFill>
                <a:srgbClr val="b27f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306720" y="1319040"/>
                <a:ext cx="941040" cy="1236240"/>
              </a:xfrm>
              <a:custGeom>
                <a:avLst/>
                <a:gdLst/>
                <a:ahLst/>
                <a:rect l="l" t="t" r="r" b="b"/>
                <a:pathLst>
                  <a:path w="1248" h="3653">
                    <a:moveTo>
                      <a:pt x="0" y="3534"/>
                    </a:moveTo>
                    <a:lnTo>
                      <a:pt x="0" y="3174"/>
                    </a:lnTo>
                    <a:lnTo>
                      <a:pt x="17" y="3134"/>
                    </a:lnTo>
                    <a:lnTo>
                      <a:pt x="52" y="3074"/>
                    </a:lnTo>
                    <a:lnTo>
                      <a:pt x="87" y="2955"/>
                    </a:lnTo>
                    <a:lnTo>
                      <a:pt x="155" y="2795"/>
                    </a:lnTo>
                    <a:lnTo>
                      <a:pt x="225" y="2636"/>
                    </a:lnTo>
                    <a:lnTo>
                      <a:pt x="294" y="2436"/>
                    </a:lnTo>
                    <a:lnTo>
                      <a:pt x="364" y="2236"/>
                    </a:lnTo>
                    <a:lnTo>
                      <a:pt x="433" y="2036"/>
                    </a:lnTo>
                    <a:lnTo>
                      <a:pt x="486" y="1857"/>
                    </a:lnTo>
                    <a:lnTo>
                      <a:pt x="520" y="1677"/>
                    </a:lnTo>
                    <a:lnTo>
                      <a:pt x="520" y="1257"/>
                    </a:lnTo>
                    <a:lnTo>
                      <a:pt x="571" y="1198"/>
                    </a:lnTo>
                    <a:lnTo>
                      <a:pt x="590" y="1178"/>
                    </a:lnTo>
                    <a:lnTo>
                      <a:pt x="606" y="1098"/>
                    </a:lnTo>
                    <a:lnTo>
                      <a:pt x="571" y="898"/>
                    </a:lnTo>
                    <a:lnTo>
                      <a:pt x="571" y="838"/>
                    </a:lnTo>
                    <a:lnTo>
                      <a:pt x="590" y="759"/>
                    </a:lnTo>
                    <a:lnTo>
                      <a:pt x="624" y="719"/>
                    </a:lnTo>
                    <a:lnTo>
                      <a:pt x="416" y="240"/>
                    </a:lnTo>
                    <a:lnTo>
                      <a:pt x="520" y="0"/>
                    </a:lnTo>
                    <a:lnTo>
                      <a:pt x="780" y="659"/>
                    </a:lnTo>
                    <a:lnTo>
                      <a:pt x="832" y="619"/>
                    </a:lnTo>
                    <a:lnTo>
                      <a:pt x="954" y="538"/>
                    </a:lnTo>
                    <a:lnTo>
                      <a:pt x="1144" y="538"/>
                    </a:lnTo>
                    <a:lnTo>
                      <a:pt x="1248" y="599"/>
                    </a:lnTo>
                    <a:lnTo>
                      <a:pt x="1214" y="638"/>
                    </a:lnTo>
                    <a:lnTo>
                      <a:pt x="1109" y="759"/>
                    </a:lnTo>
                    <a:lnTo>
                      <a:pt x="989" y="958"/>
                    </a:lnTo>
                    <a:lnTo>
                      <a:pt x="937" y="1198"/>
                    </a:lnTo>
                    <a:lnTo>
                      <a:pt x="867" y="1378"/>
                    </a:lnTo>
                    <a:lnTo>
                      <a:pt x="780" y="1497"/>
                    </a:lnTo>
                    <a:lnTo>
                      <a:pt x="797" y="1557"/>
                    </a:lnTo>
                    <a:lnTo>
                      <a:pt x="780" y="1697"/>
                    </a:lnTo>
                    <a:lnTo>
                      <a:pt x="728" y="1857"/>
                    </a:lnTo>
                    <a:lnTo>
                      <a:pt x="624" y="2096"/>
                    </a:lnTo>
                    <a:lnTo>
                      <a:pt x="624" y="2117"/>
                    </a:lnTo>
                    <a:lnTo>
                      <a:pt x="590" y="2196"/>
                    </a:lnTo>
                    <a:lnTo>
                      <a:pt x="555" y="2296"/>
                    </a:lnTo>
                    <a:lnTo>
                      <a:pt x="503" y="2436"/>
                    </a:lnTo>
                    <a:lnTo>
                      <a:pt x="451" y="2595"/>
                    </a:lnTo>
                    <a:lnTo>
                      <a:pt x="381" y="2775"/>
                    </a:lnTo>
                    <a:lnTo>
                      <a:pt x="312" y="2955"/>
                    </a:lnTo>
                    <a:lnTo>
                      <a:pt x="242" y="3134"/>
                    </a:lnTo>
                    <a:lnTo>
                      <a:pt x="173" y="3294"/>
                    </a:lnTo>
                    <a:lnTo>
                      <a:pt x="103" y="3434"/>
                    </a:lnTo>
                    <a:lnTo>
                      <a:pt x="52" y="3553"/>
                    </a:lnTo>
                    <a:lnTo>
                      <a:pt x="0" y="3653"/>
                    </a:lnTo>
                    <a:lnTo>
                      <a:pt x="0" y="3534"/>
                    </a:lnTo>
                    <a:close/>
                  </a:path>
                </a:pathLst>
              </a:custGeom>
              <a:solidFill>
                <a:srgbClr val="a5ff5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6720" y="1786320"/>
                <a:ext cx="536760" cy="709560"/>
              </a:xfrm>
              <a:custGeom>
                <a:avLst/>
                <a:gdLst/>
                <a:ahLst/>
                <a:rect l="l" t="t" r="r" b="b"/>
                <a:pathLst>
                  <a:path w="711" h="2096">
                    <a:moveTo>
                      <a:pt x="0" y="2096"/>
                    </a:moveTo>
                    <a:lnTo>
                      <a:pt x="35" y="2036"/>
                    </a:lnTo>
                    <a:lnTo>
                      <a:pt x="69" y="1956"/>
                    </a:lnTo>
                    <a:lnTo>
                      <a:pt x="103" y="1856"/>
                    </a:lnTo>
                    <a:lnTo>
                      <a:pt x="173" y="1577"/>
                    </a:lnTo>
                    <a:lnTo>
                      <a:pt x="329" y="1137"/>
                    </a:lnTo>
                    <a:lnTo>
                      <a:pt x="571" y="598"/>
                    </a:lnTo>
                    <a:lnTo>
                      <a:pt x="606" y="539"/>
                    </a:lnTo>
                    <a:lnTo>
                      <a:pt x="658" y="379"/>
                    </a:lnTo>
                    <a:lnTo>
                      <a:pt x="711" y="199"/>
                    </a:lnTo>
                    <a:lnTo>
                      <a:pt x="67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99120" y="1757520"/>
                <a:ext cx="235080" cy="128520"/>
              </a:xfrm>
              <a:custGeom>
                <a:avLst/>
                <a:gdLst/>
                <a:ahLst/>
                <a:rect l="l" t="t" r="r" b="b"/>
                <a:pathLst>
                  <a:path w="312" h="379">
                    <a:moveTo>
                      <a:pt x="312" y="199"/>
                    </a:moveTo>
                    <a:lnTo>
                      <a:pt x="295" y="140"/>
                    </a:lnTo>
                    <a:lnTo>
                      <a:pt x="243" y="59"/>
                    </a:lnTo>
                    <a:lnTo>
                      <a:pt x="156" y="19"/>
                    </a:lnTo>
                    <a:lnTo>
                      <a:pt x="121" y="0"/>
                    </a:lnTo>
                    <a:lnTo>
                      <a:pt x="86" y="59"/>
                    </a:lnTo>
                    <a:lnTo>
                      <a:pt x="51" y="140"/>
                    </a:lnTo>
                    <a:lnTo>
                      <a:pt x="51" y="219"/>
                    </a:lnTo>
                    <a:lnTo>
                      <a:pt x="18" y="319"/>
                    </a:lnTo>
                    <a:lnTo>
                      <a:pt x="0" y="3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77240" y="1562760"/>
                <a:ext cx="78120" cy="101520"/>
              </a:xfrm>
              <a:custGeom>
                <a:avLst/>
                <a:gdLst/>
                <a:ahLst/>
                <a:rect l="l" t="t" r="r" b="b"/>
                <a:pathLst>
                  <a:path w="104" h="300">
                    <a:moveTo>
                      <a:pt x="0" y="0"/>
                    </a:moveTo>
                    <a:lnTo>
                      <a:pt x="34" y="0"/>
                    </a:lnTo>
                    <a:lnTo>
                      <a:pt x="87" y="59"/>
                    </a:lnTo>
                    <a:lnTo>
                      <a:pt x="104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6480" y="1555920"/>
                <a:ext cx="117360" cy="47520"/>
              </a:xfrm>
              <a:custGeom>
                <a:avLst/>
                <a:gdLst/>
                <a:ahLst/>
                <a:rect l="l" t="t" r="r" b="b"/>
                <a:pathLst>
                  <a:path w="156" h="139">
                    <a:moveTo>
                      <a:pt x="0" y="20"/>
                    </a:moveTo>
                    <a:lnTo>
                      <a:pt x="35" y="0"/>
                    </a:lnTo>
                    <a:lnTo>
                      <a:pt x="104" y="20"/>
                    </a:lnTo>
                    <a:lnTo>
                      <a:pt x="156" y="1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24680" y="1723680"/>
                <a:ext cx="27000" cy="141840"/>
              </a:xfrm>
              <a:custGeom>
                <a:avLst/>
                <a:gdLst/>
                <a:ahLst/>
                <a:rect l="l" t="t" r="r" b="b"/>
                <a:pathLst>
                  <a:path w="35" h="419">
                    <a:moveTo>
                      <a:pt x="16" y="419"/>
                    </a:moveTo>
                    <a:lnTo>
                      <a:pt x="16" y="359"/>
                    </a:lnTo>
                    <a:lnTo>
                      <a:pt x="0" y="240"/>
                    </a:lnTo>
                    <a:lnTo>
                      <a:pt x="16" y="119"/>
                    </a:lnTo>
                    <a:lnTo>
                      <a:pt x="35" y="59"/>
                    </a:lnTo>
                    <a:lnTo>
                      <a:pt x="35" y="19"/>
                    </a:lnTo>
                    <a:lnTo>
                      <a:pt x="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816480" y="1461240"/>
                <a:ext cx="430920" cy="343800"/>
              </a:xfrm>
              <a:custGeom>
                <a:avLst/>
                <a:gdLst/>
                <a:ahLst/>
                <a:rect l="l" t="t" r="r" b="b"/>
                <a:pathLst>
                  <a:path w="572" h="1019">
                    <a:moveTo>
                      <a:pt x="0" y="838"/>
                    </a:moveTo>
                    <a:lnTo>
                      <a:pt x="0" y="798"/>
                    </a:lnTo>
                    <a:lnTo>
                      <a:pt x="0" y="679"/>
                    </a:lnTo>
                    <a:lnTo>
                      <a:pt x="104" y="479"/>
                    </a:lnTo>
                    <a:lnTo>
                      <a:pt x="121" y="379"/>
                    </a:lnTo>
                    <a:lnTo>
                      <a:pt x="156" y="180"/>
                    </a:lnTo>
                    <a:lnTo>
                      <a:pt x="156" y="0"/>
                    </a:lnTo>
                    <a:lnTo>
                      <a:pt x="243" y="21"/>
                    </a:lnTo>
                    <a:lnTo>
                      <a:pt x="433" y="80"/>
                    </a:lnTo>
                    <a:lnTo>
                      <a:pt x="572" y="180"/>
                    </a:lnTo>
                    <a:lnTo>
                      <a:pt x="538" y="219"/>
                    </a:lnTo>
                    <a:lnTo>
                      <a:pt x="433" y="340"/>
                    </a:lnTo>
                    <a:lnTo>
                      <a:pt x="365" y="539"/>
                    </a:lnTo>
                    <a:lnTo>
                      <a:pt x="278" y="719"/>
                    </a:lnTo>
                    <a:lnTo>
                      <a:pt x="208" y="919"/>
                    </a:lnTo>
                    <a:lnTo>
                      <a:pt x="156" y="1019"/>
                    </a:lnTo>
                    <a:lnTo>
                      <a:pt x="139" y="979"/>
                    </a:lnTo>
                    <a:lnTo>
                      <a:pt x="87" y="919"/>
                    </a:lnTo>
                    <a:lnTo>
                      <a:pt x="0" y="898"/>
                    </a:lnTo>
                    <a:lnTo>
                      <a:pt x="0" y="838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16240" y="507600"/>
                <a:ext cx="260640" cy="499320"/>
              </a:xfrm>
              <a:custGeom>
                <a:avLst/>
                <a:gdLst/>
                <a:ahLst/>
                <a:rect l="l" t="t" r="r" b="b"/>
                <a:pathLst>
                  <a:path w="347" h="1477">
                    <a:moveTo>
                      <a:pt x="191" y="0"/>
                    </a:moveTo>
                    <a:lnTo>
                      <a:pt x="174" y="80"/>
                    </a:lnTo>
                    <a:lnTo>
                      <a:pt x="122" y="279"/>
                    </a:lnTo>
                    <a:lnTo>
                      <a:pt x="87" y="479"/>
                    </a:lnTo>
                    <a:lnTo>
                      <a:pt x="52" y="638"/>
                    </a:lnTo>
                    <a:lnTo>
                      <a:pt x="0" y="1019"/>
                    </a:lnTo>
                    <a:lnTo>
                      <a:pt x="35" y="1438"/>
                    </a:lnTo>
                    <a:lnTo>
                      <a:pt x="52" y="1457"/>
                    </a:lnTo>
                    <a:lnTo>
                      <a:pt x="87" y="1477"/>
                    </a:lnTo>
                    <a:lnTo>
                      <a:pt x="191" y="1377"/>
                    </a:lnTo>
                    <a:lnTo>
                      <a:pt x="226" y="1238"/>
                    </a:lnTo>
                    <a:lnTo>
                      <a:pt x="294" y="859"/>
                    </a:lnTo>
                    <a:lnTo>
                      <a:pt x="294" y="359"/>
                    </a:lnTo>
                    <a:lnTo>
                      <a:pt x="347" y="179"/>
                    </a:lnTo>
                    <a:lnTo>
                      <a:pt x="347" y="140"/>
                    </a:lnTo>
                    <a:lnTo>
                      <a:pt x="313" y="100"/>
                    </a:lnTo>
                    <a:lnTo>
                      <a:pt x="243" y="59"/>
                    </a:lnTo>
                    <a:lnTo>
                      <a:pt x="191" y="0"/>
                    </a:lnTo>
                    <a:close/>
                  </a:path>
                </a:pathLst>
              </a:custGeom>
              <a:solidFill>
                <a:srgbClr val="f2bf00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  <a:lnTo>
                      <a:pt x="988" y="458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228600" y="819000"/>
                <a:ext cx="941040" cy="695880"/>
              </a:xfrm>
              <a:custGeom>
                <a:avLst/>
                <a:gdLst/>
                <a:ahLst/>
                <a:rect l="l" t="t" r="r" b="b"/>
                <a:pathLst>
                  <a:path w="1248" h="2056">
                    <a:moveTo>
                      <a:pt x="988" y="458"/>
                    </a:moveTo>
                    <a:lnTo>
                      <a:pt x="1006" y="338"/>
                    </a:lnTo>
                    <a:lnTo>
                      <a:pt x="1058" y="259"/>
                    </a:lnTo>
                    <a:lnTo>
                      <a:pt x="1127" y="219"/>
                    </a:lnTo>
                    <a:lnTo>
                      <a:pt x="1180" y="219"/>
                    </a:lnTo>
                    <a:lnTo>
                      <a:pt x="1196" y="219"/>
                    </a:lnTo>
                    <a:lnTo>
                      <a:pt x="1231" y="199"/>
                    </a:lnTo>
                    <a:lnTo>
                      <a:pt x="1248" y="159"/>
                    </a:lnTo>
                    <a:lnTo>
                      <a:pt x="1196" y="100"/>
                    </a:lnTo>
                    <a:lnTo>
                      <a:pt x="1093" y="19"/>
                    </a:lnTo>
                    <a:lnTo>
                      <a:pt x="1006" y="0"/>
                    </a:lnTo>
                    <a:lnTo>
                      <a:pt x="919" y="0"/>
                    </a:lnTo>
                    <a:lnTo>
                      <a:pt x="849" y="19"/>
                    </a:lnTo>
                    <a:lnTo>
                      <a:pt x="815" y="59"/>
                    </a:lnTo>
                    <a:lnTo>
                      <a:pt x="780" y="100"/>
                    </a:lnTo>
                    <a:lnTo>
                      <a:pt x="745" y="138"/>
                    </a:lnTo>
                    <a:lnTo>
                      <a:pt x="675" y="179"/>
                    </a:lnTo>
                    <a:lnTo>
                      <a:pt x="624" y="219"/>
                    </a:lnTo>
                    <a:lnTo>
                      <a:pt x="590" y="259"/>
                    </a:lnTo>
                    <a:lnTo>
                      <a:pt x="555" y="319"/>
                    </a:lnTo>
                    <a:lnTo>
                      <a:pt x="520" y="398"/>
                    </a:lnTo>
                    <a:lnTo>
                      <a:pt x="503" y="438"/>
                    </a:lnTo>
                    <a:lnTo>
                      <a:pt x="450" y="498"/>
                    </a:lnTo>
                    <a:lnTo>
                      <a:pt x="416" y="519"/>
                    </a:lnTo>
                    <a:lnTo>
                      <a:pt x="364" y="578"/>
                    </a:lnTo>
                    <a:lnTo>
                      <a:pt x="329" y="698"/>
                    </a:lnTo>
                    <a:lnTo>
                      <a:pt x="311" y="758"/>
                    </a:lnTo>
                    <a:lnTo>
                      <a:pt x="277" y="778"/>
                    </a:lnTo>
                    <a:lnTo>
                      <a:pt x="259" y="878"/>
                    </a:lnTo>
                    <a:lnTo>
                      <a:pt x="259" y="998"/>
                    </a:lnTo>
                    <a:lnTo>
                      <a:pt x="224" y="1117"/>
                    </a:lnTo>
                    <a:lnTo>
                      <a:pt x="156" y="1177"/>
                    </a:lnTo>
                    <a:lnTo>
                      <a:pt x="121" y="1237"/>
                    </a:lnTo>
                    <a:lnTo>
                      <a:pt x="86" y="1298"/>
                    </a:lnTo>
                    <a:lnTo>
                      <a:pt x="52" y="1357"/>
                    </a:lnTo>
                    <a:lnTo>
                      <a:pt x="69" y="1397"/>
                    </a:lnTo>
                    <a:lnTo>
                      <a:pt x="69" y="1436"/>
                    </a:lnTo>
                    <a:lnTo>
                      <a:pt x="52" y="1477"/>
                    </a:lnTo>
                    <a:lnTo>
                      <a:pt x="17" y="1517"/>
                    </a:lnTo>
                    <a:lnTo>
                      <a:pt x="0" y="1577"/>
                    </a:lnTo>
                    <a:lnTo>
                      <a:pt x="0" y="1596"/>
                    </a:lnTo>
                    <a:lnTo>
                      <a:pt x="17" y="1677"/>
                    </a:lnTo>
                    <a:lnTo>
                      <a:pt x="86" y="1696"/>
                    </a:lnTo>
                    <a:lnTo>
                      <a:pt x="156" y="1657"/>
                    </a:lnTo>
                    <a:lnTo>
                      <a:pt x="242" y="1657"/>
                    </a:lnTo>
                    <a:lnTo>
                      <a:pt x="294" y="1717"/>
                    </a:lnTo>
                    <a:lnTo>
                      <a:pt x="311" y="1776"/>
                    </a:lnTo>
                    <a:lnTo>
                      <a:pt x="311" y="1836"/>
                    </a:lnTo>
                    <a:lnTo>
                      <a:pt x="329" y="1876"/>
                    </a:lnTo>
                    <a:lnTo>
                      <a:pt x="364" y="1896"/>
                    </a:lnTo>
                    <a:lnTo>
                      <a:pt x="381" y="1917"/>
                    </a:lnTo>
                    <a:lnTo>
                      <a:pt x="398" y="1956"/>
                    </a:lnTo>
                    <a:lnTo>
                      <a:pt x="416" y="2015"/>
                    </a:lnTo>
                    <a:lnTo>
                      <a:pt x="485" y="2056"/>
                    </a:lnTo>
                    <a:lnTo>
                      <a:pt x="520" y="2056"/>
                    </a:lnTo>
                    <a:lnTo>
                      <a:pt x="520" y="2015"/>
                    </a:lnTo>
                    <a:lnTo>
                      <a:pt x="537" y="1976"/>
                    </a:lnTo>
                    <a:lnTo>
                      <a:pt x="555" y="1936"/>
                    </a:lnTo>
                    <a:lnTo>
                      <a:pt x="572" y="1896"/>
                    </a:lnTo>
                    <a:lnTo>
                      <a:pt x="624" y="1776"/>
                    </a:lnTo>
                    <a:lnTo>
                      <a:pt x="659" y="1636"/>
                    </a:lnTo>
                    <a:lnTo>
                      <a:pt x="675" y="1536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1404720" y="858600"/>
                <a:ext cx="287640" cy="114840"/>
              </a:xfrm>
              <a:custGeom>
                <a:avLst/>
                <a:gdLst/>
                <a:ahLst/>
                <a:rect l="l" t="t" r="r" b="b"/>
                <a:pathLst>
                  <a:path w="381" h="339">
                    <a:moveTo>
                      <a:pt x="364" y="339"/>
                    </a:moveTo>
                    <a:lnTo>
                      <a:pt x="381" y="219"/>
                    </a:lnTo>
                    <a:lnTo>
                      <a:pt x="381" y="140"/>
                    </a:lnTo>
                    <a:lnTo>
                      <a:pt x="347" y="80"/>
                    </a:lnTo>
                    <a:lnTo>
                      <a:pt x="295" y="40"/>
                    </a:lnTo>
                    <a:lnTo>
                      <a:pt x="242" y="0"/>
                    </a:lnTo>
                    <a:lnTo>
                      <a:pt x="173" y="0"/>
                    </a:lnTo>
                    <a:lnTo>
                      <a:pt x="121" y="19"/>
                    </a:lnTo>
                    <a:lnTo>
                      <a:pt x="52" y="40"/>
                    </a:lnTo>
                    <a:lnTo>
                      <a:pt x="0" y="100"/>
                    </a:lnTo>
                    <a:lnTo>
                      <a:pt x="70" y="140"/>
                    </a:lnTo>
                    <a:lnTo>
                      <a:pt x="103" y="160"/>
                    </a:lnTo>
                    <a:lnTo>
                      <a:pt x="121" y="140"/>
                    </a:lnTo>
                    <a:lnTo>
                      <a:pt x="173" y="140"/>
                    </a:lnTo>
                    <a:lnTo>
                      <a:pt x="208" y="160"/>
                    </a:lnTo>
                    <a:lnTo>
                      <a:pt x="260" y="179"/>
                    </a:lnTo>
                    <a:lnTo>
                      <a:pt x="277" y="240"/>
                    </a:lnTo>
                    <a:lnTo>
                      <a:pt x="260" y="279"/>
                    </a:lnTo>
                    <a:lnTo>
                      <a:pt x="277" y="279"/>
                    </a:lnTo>
                    <a:lnTo>
                      <a:pt x="295" y="260"/>
                    </a:lnTo>
                    <a:lnTo>
                      <a:pt x="312" y="279"/>
                    </a:lnTo>
                    <a:lnTo>
                      <a:pt x="329" y="279"/>
                    </a:lnTo>
                    <a:lnTo>
                      <a:pt x="364" y="319"/>
                    </a:lnTo>
                    <a:lnTo>
                      <a:pt x="364" y="339"/>
                    </a:lnTo>
                    <a:close/>
                  </a:path>
                </a:pathLst>
              </a:custGeom>
              <a:solidFill>
                <a:srgbClr val="ffd1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12800" y="865080"/>
                <a:ext cx="1281600" cy="683640"/>
              </a:xfrm>
              <a:custGeom>
                <a:avLst/>
                <a:gdLst/>
                <a:ahLst/>
                <a:rect l="l" t="t" r="r" b="b"/>
                <a:pathLst>
                  <a:path w="1699" h="2017">
                    <a:moveTo>
                      <a:pt x="1492" y="500"/>
                    </a:moveTo>
                    <a:lnTo>
                      <a:pt x="1508" y="481"/>
                    </a:lnTo>
                    <a:lnTo>
                      <a:pt x="1508" y="460"/>
                    </a:lnTo>
                    <a:lnTo>
                      <a:pt x="1492" y="440"/>
                    </a:lnTo>
                    <a:lnTo>
                      <a:pt x="1457" y="381"/>
                    </a:lnTo>
                    <a:lnTo>
                      <a:pt x="1422" y="360"/>
                    </a:lnTo>
                    <a:lnTo>
                      <a:pt x="1387" y="381"/>
                    </a:lnTo>
                    <a:lnTo>
                      <a:pt x="1335" y="341"/>
                    </a:lnTo>
                    <a:lnTo>
                      <a:pt x="1283" y="300"/>
                    </a:lnTo>
                    <a:lnTo>
                      <a:pt x="1231" y="260"/>
                    </a:lnTo>
                    <a:lnTo>
                      <a:pt x="1231" y="241"/>
                    </a:lnTo>
                    <a:lnTo>
                      <a:pt x="1214" y="241"/>
                    </a:lnTo>
                    <a:lnTo>
                      <a:pt x="1179" y="260"/>
                    </a:lnTo>
                    <a:lnTo>
                      <a:pt x="1144" y="281"/>
                    </a:lnTo>
                    <a:lnTo>
                      <a:pt x="1074" y="260"/>
                    </a:lnTo>
                    <a:lnTo>
                      <a:pt x="1022" y="260"/>
                    </a:lnTo>
                    <a:lnTo>
                      <a:pt x="1022" y="221"/>
                    </a:lnTo>
                    <a:lnTo>
                      <a:pt x="1022" y="160"/>
                    </a:lnTo>
                    <a:lnTo>
                      <a:pt x="1022" y="141"/>
                    </a:lnTo>
                    <a:lnTo>
                      <a:pt x="989" y="121"/>
                    </a:lnTo>
                    <a:lnTo>
                      <a:pt x="936" y="81"/>
                    </a:lnTo>
                    <a:lnTo>
                      <a:pt x="919" y="81"/>
                    </a:lnTo>
                    <a:lnTo>
                      <a:pt x="867" y="21"/>
                    </a:lnTo>
                    <a:lnTo>
                      <a:pt x="797" y="0"/>
                    </a:lnTo>
                    <a:lnTo>
                      <a:pt x="728" y="0"/>
                    </a:lnTo>
                    <a:lnTo>
                      <a:pt x="676" y="21"/>
                    </a:lnTo>
                    <a:lnTo>
                      <a:pt x="606" y="41"/>
                    </a:lnTo>
                    <a:lnTo>
                      <a:pt x="554" y="81"/>
                    </a:lnTo>
                    <a:lnTo>
                      <a:pt x="519" y="121"/>
                    </a:lnTo>
                    <a:lnTo>
                      <a:pt x="485" y="160"/>
                    </a:lnTo>
                    <a:lnTo>
                      <a:pt x="451" y="200"/>
                    </a:lnTo>
                    <a:lnTo>
                      <a:pt x="416" y="241"/>
                    </a:lnTo>
                    <a:lnTo>
                      <a:pt x="364" y="300"/>
                    </a:lnTo>
                    <a:lnTo>
                      <a:pt x="294" y="320"/>
                    </a:lnTo>
                    <a:lnTo>
                      <a:pt x="277" y="320"/>
                    </a:lnTo>
                    <a:lnTo>
                      <a:pt x="242" y="341"/>
                    </a:lnTo>
                    <a:lnTo>
                      <a:pt x="190" y="381"/>
                    </a:lnTo>
                    <a:lnTo>
                      <a:pt x="173" y="420"/>
                    </a:lnTo>
                    <a:lnTo>
                      <a:pt x="155" y="440"/>
                    </a:lnTo>
                    <a:lnTo>
                      <a:pt x="138" y="440"/>
                    </a:lnTo>
                    <a:lnTo>
                      <a:pt x="68" y="481"/>
                    </a:lnTo>
                    <a:lnTo>
                      <a:pt x="33" y="560"/>
                    </a:lnTo>
                    <a:lnTo>
                      <a:pt x="33" y="620"/>
                    </a:lnTo>
                    <a:lnTo>
                      <a:pt x="52" y="660"/>
                    </a:lnTo>
                    <a:lnTo>
                      <a:pt x="52" y="700"/>
                    </a:lnTo>
                    <a:lnTo>
                      <a:pt x="33" y="740"/>
                    </a:lnTo>
                    <a:lnTo>
                      <a:pt x="17" y="779"/>
                    </a:lnTo>
                    <a:lnTo>
                      <a:pt x="17" y="819"/>
                    </a:lnTo>
                    <a:lnTo>
                      <a:pt x="33" y="860"/>
                    </a:lnTo>
                    <a:lnTo>
                      <a:pt x="33" y="900"/>
                    </a:lnTo>
                    <a:lnTo>
                      <a:pt x="52" y="939"/>
                    </a:lnTo>
                    <a:lnTo>
                      <a:pt x="33" y="979"/>
                    </a:lnTo>
                    <a:lnTo>
                      <a:pt x="0" y="1019"/>
                    </a:lnTo>
                    <a:lnTo>
                      <a:pt x="17" y="1079"/>
                    </a:lnTo>
                    <a:lnTo>
                      <a:pt x="33" y="1160"/>
                    </a:lnTo>
                    <a:lnTo>
                      <a:pt x="33" y="1198"/>
                    </a:lnTo>
                    <a:lnTo>
                      <a:pt x="33" y="1239"/>
                    </a:lnTo>
                    <a:lnTo>
                      <a:pt x="33" y="1279"/>
                    </a:lnTo>
                    <a:lnTo>
                      <a:pt x="17" y="1298"/>
                    </a:lnTo>
                    <a:lnTo>
                      <a:pt x="17" y="1339"/>
                    </a:lnTo>
                    <a:lnTo>
                      <a:pt x="33" y="1398"/>
                    </a:lnTo>
                    <a:lnTo>
                      <a:pt x="52" y="1458"/>
                    </a:lnTo>
                    <a:lnTo>
                      <a:pt x="103" y="1519"/>
                    </a:lnTo>
                    <a:lnTo>
                      <a:pt x="138" y="1579"/>
                    </a:lnTo>
                    <a:lnTo>
                      <a:pt x="138" y="1598"/>
                    </a:lnTo>
                    <a:lnTo>
                      <a:pt x="138" y="1638"/>
                    </a:lnTo>
                    <a:lnTo>
                      <a:pt x="138" y="1698"/>
                    </a:lnTo>
                    <a:lnTo>
                      <a:pt x="190" y="1718"/>
                    </a:lnTo>
                    <a:lnTo>
                      <a:pt x="259" y="1758"/>
                    </a:lnTo>
                    <a:lnTo>
                      <a:pt x="294" y="1758"/>
                    </a:lnTo>
                    <a:lnTo>
                      <a:pt x="329" y="1779"/>
                    </a:lnTo>
                    <a:lnTo>
                      <a:pt x="364" y="1798"/>
                    </a:lnTo>
                    <a:lnTo>
                      <a:pt x="346" y="1818"/>
                    </a:lnTo>
                    <a:lnTo>
                      <a:pt x="381" y="1858"/>
                    </a:lnTo>
                    <a:lnTo>
                      <a:pt x="416" y="1877"/>
                    </a:lnTo>
                    <a:lnTo>
                      <a:pt x="451" y="1877"/>
                    </a:lnTo>
                    <a:lnTo>
                      <a:pt x="485" y="1877"/>
                    </a:lnTo>
                    <a:lnTo>
                      <a:pt x="503" y="1877"/>
                    </a:lnTo>
                    <a:lnTo>
                      <a:pt x="554" y="1918"/>
                    </a:lnTo>
                    <a:lnTo>
                      <a:pt x="571" y="1938"/>
                    </a:lnTo>
                    <a:lnTo>
                      <a:pt x="606" y="1938"/>
                    </a:lnTo>
                    <a:lnTo>
                      <a:pt x="658" y="1958"/>
                    </a:lnTo>
                    <a:lnTo>
                      <a:pt x="710" y="1977"/>
                    </a:lnTo>
                    <a:lnTo>
                      <a:pt x="763" y="1998"/>
                    </a:lnTo>
                    <a:lnTo>
                      <a:pt x="815" y="2017"/>
                    </a:lnTo>
                    <a:lnTo>
                      <a:pt x="850" y="2017"/>
                    </a:lnTo>
                    <a:lnTo>
                      <a:pt x="867" y="1998"/>
                    </a:lnTo>
                    <a:lnTo>
                      <a:pt x="919" y="1977"/>
                    </a:lnTo>
                    <a:lnTo>
                      <a:pt x="954" y="1958"/>
                    </a:lnTo>
                    <a:lnTo>
                      <a:pt x="1022" y="1938"/>
                    </a:lnTo>
                    <a:lnTo>
                      <a:pt x="1057" y="1958"/>
                    </a:lnTo>
                    <a:lnTo>
                      <a:pt x="1092" y="1958"/>
                    </a:lnTo>
                    <a:lnTo>
                      <a:pt x="1127" y="1938"/>
                    </a:lnTo>
                    <a:lnTo>
                      <a:pt x="1179" y="1918"/>
                    </a:lnTo>
                    <a:lnTo>
                      <a:pt x="1214" y="1918"/>
                    </a:lnTo>
                    <a:lnTo>
                      <a:pt x="1231" y="1938"/>
                    </a:lnTo>
                    <a:lnTo>
                      <a:pt x="1283" y="1938"/>
                    </a:lnTo>
                    <a:lnTo>
                      <a:pt x="1335" y="1898"/>
                    </a:lnTo>
                    <a:lnTo>
                      <a:pt x="1335" y="1877"/>
                    </a:lnTo>
                    <a:lnTo>
                      <a:pt x="1370" y="1838"/>
                    </a:lnTo>
                    <a:lnTo>
                      <a:pt x="1422" y="1818"/>
                    </a:lnTo>
                    <a:lnTo>
                      <a:pt x="1440" y="1818"/>
                    </a:lnTo>
                    <a:lnTo>
                      <a:pt x="1492" y="1779"/>
                    </a:lnTo>
                    <a:lnTo>
                      <a:pt x="1525" y="1679"/>
                    </a:lnTo>
                    <a:lnTo>
                      <a:pt x="1543" y="1638"/>
                    </a:lnTo>
                    <a:lnTo>
                      <a:pt x="1560" y="1579"/>
                    </a:lnTo>
                    <a:lnTo>
                      <a:pt x="1578" y="1479"/>
                    </a:lnTo>
                    <a:lnTo>
                      <a:pt x="1595" y="1398"/>
                    </a:lnTo>
                    <a:lnTo>
                      <a:pt x="1647" y="1319"/>
                    </a:lnTo>
                    <a:lnTo>
                      <a:pt x="1682" y="1179"/>
                    </a:lnTo>
                    <a:lnTo>
                      <a:pt x="1699" y="1039"/>
                    </a:lnTo>
                    <a:lnTo>
                      <a:pt x="1682" y="919"/>
                    </a:lnTo>
                    <a:lnTo>
                      <a:pt x="1665" y="879"/>
                    </a:lnTo>
                    <a:lnTo>
                      <a:pt x="1647" y="860"/>
                    </a:lnTo>
                    <a:lnTo>
                      <a:pt x="1612" y="779"/>
                    </a:lnTo>
                    <a:lnTo>
                      <a:pt x="1578" y="660"/>
                    </a:lnTo>
                    <a:lnTo>
                      <a:pt x="1543" y="560"/>
                    </a:lnTo>
                    <a:lnTo>
                      <a:pt x="1492" y="500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542160" y="865080"/>
                <a:ext cx="627480" cy="636480"/>
              </a:xfrm>
              <a:custGeom>
                <a:avLst/>
                <a:gdLst/>
                <a:ahLst/>
                <a:rect l="l" t="t" r="r" b="b"/>
                <a:pathLst>
                  <a:path w="832" h="1877">
                    <a:moveTo>
                      <a:pt x="52" y="1877"/>
                    </a:moveTo>
                    <a:lnTo>
                      <a:pt x="34" y="1598"/>
                    </a:lnTo>
                    <a:lnTo>
                      <a:pt x="87" y="960"/>
                    </a:lnTo>
                    <a:lnTo>
                      <a:pt x="312" y="260"/>
                    </a:lnTo>
                    <a:lnTo>
                      <a:pt x="346" y="221"/>
                    </a:lnTo>
                    <a:lnTo>
                      <a:pt x="451" y="121"/>
                    </a:lnTo>
                    <a:lnTo>
                      <a:pt x="625" y="41"/>
                    </a:lnTo>
                    <a:lnTo>
                      <a:pt x="832" y="21"/>
                    </a:lnTo>
                    <a:lnTo>
                      <a:pt x="711" y="0"/>
                    </a:lnTo>
                    <a:lnTo>
                      <a:pt x="590" y="0"/>
                    </a:lnTo>
                    <a:lnTo>
                      <a:pt x="485" y="41"/>
                    </a:lnTo>
                    <a:lnTo>
                      <a:pt x="416" y="100"/>
                    </a:lnTo>
                    <a:lnTo>
                      <a:pt x="364" y="141"/>
                    </a:lnTo>
                    <a:lnTo>
                      <a:pt x="329" y="181"/>
                    </a:lnTo>
                    <a:lnTo>
                      <a:pt x="312" y="200"/>
                    </a:lnTo>
                    <a:lnTo>
                      <a:pt x="226" y="360"/>
                    </a:lnTo>
                    <a:lnTo>
                      <a:pt x="156" y="520"/>
                    </a:lnTo>
                    <a:lnTo>
                      <a:pt x="104" y="700"/>
                    </a:lnTo>
                    <a:lnTo>
                      <a:pt x="69" y="860"/>
                    </a:lnTo>
                    <a:lnTo>
                      <a:pt x="34" y="1039"/>
                    </a:lnTo>
                    <a:lnTo>
                      <a:pt x="17" y="1198"/>
                    </a:lnTo>
                    <a:lnTo>
                      <a:pt x="0" y="1358"/>
                    </a:lnTo>
                    <a:lnTo>
                      <a:pt x="0" y="1498"/>
                    </a:lnTo>
                    <a:lnTo>
                      <a:pt x="0" y="1618"/>
                    </a:lnTo>
                    <a:lnTo>
                      <a:pt x="0" y="1718"/>
                    </a:lnTo>
                    <a:lnTo>
                      <a:pt x="0" y="1798"/>
                    </a:lnTo>
                    <a:lnTo>
                      <a:pt x="0" y="1858"/>
                    </a:lnTo>
                    <a:lnTo>
                      <a:pt x="0" y="1877"/>
                    </a:lnTo>
                    <a:lnTo>
                      <a:pt x="17" y="1877"/>
                    </a:lnTo>
                    <a:lnTo>
                      <a:pt x="34" y="1877"/>
                    </a:lnTo>
                    <a:lnTo>
                      <a:pt x="52" y="1877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443960" y="873360"/>
                <a:ext cx="39240" cy="39240"/>
              </a:xfrm>
              <a:custGeom>
                <a:avLst/>
                <a:gdLst/>
                <a:ahLst/>
                <a:rect l="l" t="t" r="r" b="b"/>
                <a:pathLst>
                  <a:path w="51" h="120">
                    <a:moveTo>
                      <a:pt x="0" y="0"/>
                    </a:moveTo>
                    <a:lnTo>
                      <a:pt x="18" y="0"/>
                    </a:lnTo>
                    <a:lnTo>
                      <a:pt x="51" y="60"/>
                    </a:lnTo>
                    <a:lnTo>
                      <a:pt x="51" y="1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522440" y="873360"/>
                <a:ext cx="13320" cy="1872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0"/>
                    </a:moveTo>
                    <a:lnTo>
                      <a:pt x="18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563120" y="873360"/>
                <a:ext cx="11880" cy="18720"/>
              </a:xfrm>
              <a:custGeom>
                <a:avLst/>
                <a:gdLst/>
                <a:ahLst/>
                <a:rect l="l" t="t" r="r" b="b"/>
                <a:pathLst>
                  <a:path w="17" h="60">
                    <a:moveTo>
                      <a:pt x="0" y="0"/>
                    </a:moveTo>
                    <a:lnTo>
                      <a:pt x="17" y="20"/>
                    </a:lnTo>
                    <a:lnTo>
                      <a:pt x="17" y="40"/>
                    </a:lnTo>
                    <a:lnTo>
                      <a:pt x="0" y="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 flipH="1">
                <a:off x="1601640" y="892080"/>
                <a:ext cx="39240" cy="20520"/>
              </a:xfrm>
              <a:prstGeom prst="line">
                <a:avLst/>
              </a:prstGeom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641600" y="91296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1641600" y="933120"/>
                <a:ext cx="37440" cy="1080"/>
              </a:xfrm>
              <a:custGeom>
                <a:avLst/>
                <a:gdLst/>
                <a:ahLst/>
                <a:rect l="l" t="t" r="r" b="b"/>
                <a:pathLst>
                  <a:path w="52" h="0">
                    <a:moveTo>
                      <a:pt x="0" y="0"/>
                    </a:moveTo>
                    <a:lnTo>
                      <a:pt x="17" y="0"/>
                    </a:lnTo>
                    <a:lnTo>
                      <a:pt x="35" y="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1365480" y="690480"/>
                <a:ext cx="340920" cy="182880"/>
              </a:xfrm>
              <a:custGeom>
                <a:avLst/>
                <a:gdLst/>
                <a:ahLst/>
                <a:rect l="l" t="t" r="r" b="b"/>
                <a:pathLst>
                  <a:path w="451" h="540">
                    <a:moveTo>
                      <a:pt x="155" y="481"/>
                    </a:moveTo>
                    <a:lnTo>
                      <a:pt x="190" y="481"/>
                    </a:lnTo>
                    <a:lnTo>
                      <a:pt x="277" y="500"/>
                    </a:lnTo>
                    <a:lnTo>
                      <a:pt x="364" y="540"/>
                    </a:lnTo>
                    <a:lnTo>
                      <a:pt x="381" y="440"/>
                    </a:lnTo>
                    <a:lnTo>
                      <a:pt x="399" y="240"/>
                    </a:lnTo>
                    <a:lnTo>
                      <a:pt x="416" y="121"/>
                    </a:lnTo>
                    <a:lnTo>
                      <a:pt x="451" y="81"/>
                    </a:lnTo>
                    <a:lnTo>
                      <a:pt x="451" y="61"/>
                    </a:lnTo>
                    <a:lnTo>
                      <a:pt x="416" y="61"/>
                    </a:lnTo>
                    <a:lnTo>
                      <a:pt x="399" y="41"/>
                    </a:lnTo>
                    <a:lnTo>
                      <a:pt x="312" y="41"/>
                    </a:lnTo>
                    <a:lnTo>
                      <a:pt x="207" y="0"/>
                    </a:lnTo>
                    <a:lnTo>
                      <a:pt x="173" y="0"/>
                    </a:lnTo>
                    <a:lnTo>
                      <a:pt x="69" y="61"/>
                    </a:lnTo>
                    <a:lnTo>
                      <a:pt x="0" y="240"/>
                    </a:lnTo>
                    <a:lnTo>
                      <a:pt x="52" y="400"/>
                    </a:lnTo>
                    <a:lnTo>
                      <a:pt x="122" y="460"/>
                    </a:lnTo>
                    <a:lnTo>
                      <a:pt x="155" y="481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1169640" y="622800"/>
                <a:ext cx="707040" cy="370800"/>
              </a:xfrm>
              <a:custGeom>
                <a:avLst/>
                <a:gdLst/>
                <a:ahLst/>
                <a:rect l="l" t="t" r="r" b="b"/>
                <a:pathLst>
                  <a:path w="937" h="1098">
                    <a:moveTo>
                      <a:pt x="781" y="1098"/>
                    </a:moveTo>
                    <a:lnTo>
                      <a:pt x="764" y="1017"/>
                    </a:lnTo>
                    <a:lnTo>
                      <a:pt x="816" y="998"/>
                    </a:lnTo>
                    <a:lnTo>
                      <a:pt x="886" y="977"/>
                    </a:lnTo>
                    <a:lnTo>
                      <a:pt x="937" y="917"/>
                    </a:lnTo>
                    <a:lnTo>
                      <a:pt x="868" y="858"/>
                    </a:lnTo>
                    <a:lnTo>
                      <a:pt x="729" y="798"/>
                    </a:lnTo>
                    <a:lnTo>
                      <a:pt x="660" y="717"/>
                    </a:lnTo>
                    <a:lnTo>
                      <a:pt x="642" y="618"/>
                    </a:lnTo>
                    <a:lnTo>
                      <a:pt x="677" y="558"/>
                    </a:lnTo>
                    <a:lnTo>
                      <a:pt x="694" y="498"/>
                    </a:lnTo>
                    <a:lnTo>
                      <a:pt x="694" y="438"/>
                    </a:lnTo>
                    <a:lnTo>
                      <a:pt x="677" y="379"/>
                    </a:lnTo>
                    <a:lnTo>
                      <a:pt x="694" y="358"/>
                    </a:lnTo>
                    <a:lnTo>
                      <a:pt x="712" y="338"/>
                    </a:lnTo>
                    <a:lnTo>
                      <a:pt x="729" y="319"/>
                    </a:lnTo>
                    <a:lnTo>
                      <a:pt x="816" y="259"/>
                    </a:lnTo>
                    <a:lnTo>
                      <a:pt x="868" y="159"/>
                    </a:lnTo>
                    <a:lnTo>
                      <a:pt x="886" y="79"/>
                    </a:lnTo>
                    <a:lnTo>
                      <a:pt x="902" y="0"/>
                    </a:lnTo>
                    <a:lnTo>
                      <a:pt x="886" y="0"/>
                    </a:lnTo>
                    <a:lnTo>
                      <a:pt x="834" y="79"/>
                    </a:lnTo>
                    <a:lnTo>
                      <a:pt x="747" y="198"/>
                    </a:lnTo>
                    <a:lnTo>
                      <a:pt x="625" y="239"/>
                    </a:lnTo>
                    <a:lnTo>
                      <a:pt x="521" y="198"/>
                    </a:lnTo>
                    <a:lnTo>
                      <a:pt x="451" y="179"/>
                    </a:lnTo>
                    <a:lnTo>
                      <a:pt x="400" y="198"/>
                    </a:lnTo>
                    <a:lnTo>
                      <a:pt x="313" y="259"/>
                    </a:lnTo>
                    <a:lnTo>
                      <a:pt x="244" y="379"/>
                    </a:lnTo>
                    <a:lnTo>
                      <a:pt x="244" y="498"/>
                    </a:lnTo>
                    <a:lnTo>
                      <a:pt x="261" y="558"/>
                    </a:lnTo>
                    <a:lnTo>
                      <a:pt x="261" y="618"/>
                    </a:lnTo>
                    <a:lnTo>
                      <a:pt x="209" y="638"/>
                    </a:lnTo>
                    <a:lnTo>
                      <a:pt x="157" y="618"/>
                    </a:lnTo>
                    <a:lnTo>
                      <a:pt x="70" y="638"/>
                    </a:lnTo>
                    <a:lnTo>
                      <a:pt x="18" y="698"/>
                    </a:lnTo>
                    <a:lnTo>
                      <a:pt x="0" y="738"/>
                    </a:lnTo>
                    <a:lnTo>
                      <a:pt x="18" y="738"/>
                    </a:lnTo>
                    <a:lnTo>
                      <a:pt x="35" y="738"/>
                    </a:lnTo>
                    <a:lnTo>
                      <a:pt x="52" y="738"/>
                    </a:lnTo>
                    <a:lnTo>
                      <a:pt x="104" y="717"/>
                    </a:lnTo>
                    <a:lnTo>
                      <a:pt x="191" y="698"/>
                    </a:lnTo>
                    <a:lnTo>
                      <a:pt x="313" y="738"/>
                    </a:lnTo>
                    <a:lnTo>
                      <a:pt x="348" y="717"/>
                    </a:lnTo>
                    <a:lnTo>
                      <a:pt x="416" y="698"/>
                    </a:lnTo>
                    <a:lnTo>
                      <a:pt x="468" y="679"/>
                    </a:lnTo>
                    <a:lnTo>
                      <a:pt x="434" y="658"/>
                    </a:lnTo>
                    <a:lnTo>
                      <a:pt x="383" y="598"/>
                    </a:lnTo>
                    <a:lnTo>
                      <a:pt x="313" y="498"/>
                    </a:lnTo>
                    <a:lnTo>
                      <a:pt x="313" y="419"/>
                    </a:lnTo>
                    <a:lnTo>
                      <a:pt x="348" y="298"/>
                    </a:lnTo>
                    <a:lnTo>
                      <a:pt x="468" y="198"/>
                    </a:lnTo>
                    <a:lnTo>
                      <a:pt x="503" y="219"/>
                    </a:lnTo>
                    <a:lnTo>
                      <a:pt x="573" y="239"/>
                    </a:lnTo>
                    <a:lnTo>
                      <a:pt x="625" y="259"/>
                    </a:lnTo>
                    <a:lnTo>
                      <a:pt x="660" y="239"/>
                    </a:lnTo>
                    <a:lnTo>
                      <a:pt x="694" y="239"/>
                    </a:lnTo>
                    <a:lnTo>
                      <a:pt x="677" y="259"/>
                    </a:lnTo>
                    <a:lnTo>
                      <a:pt x="660" y="298"/>
                    </a:lnTo>
                    <a:lnTo>
                      <a:pt x="642" y="319"/>
                    </a:lnTo>
                    <a:lnTo>
                      <a:pt x="625" y="319"/>
                    </a:lnTo>
                    <a:lnTo>
                      <a:pt x="625" y="338"/>
                    </a:lnTo>
                    <a:lnTo>
                      <a:pt x="642" y="379"/>
                    </a:lnTo>
                    <a:lnTo>
                      <a:pt x="625" y="438"/>
                    </a:lnTo>
                    <a:lnTo>
                      <a:pt x="625" y="479"/>
                    </a:lnTo>
                    <a:lnTo>
                      <a:pt x="608" y="558"/>
                    </a:lnTo>
                    <a:lnTo>
                      <a:pt x="573" y="618"/>
                    </a:lnTo>
                    <a:lnTo>
                      <a:pt x="573" y="638"/>
                    </a:lnTo>
                    <a:lnTo>
                      <a:pt x="590" y="679"/>
                    </a:lnTo>
                    <a:lnTo>
                      <a:pt x="625" y="738"/>
                    </a:lnTo>
                    <a:lnTo>
                      <a:pt x="660" y="758"/>
                    </a:lnTo>
                    <a:lnTo>
                      <a:pt x="712" y="838"/>
                    </a:lnTo>
                    <a:lnTo>
                      <a:pt x="729" y="917"/>
                    </a:lnTo>
                    <a:lnTo>
                      <a:pt x="712" y="998"/>
                    </a:lnTo>
                    <a:lnTo>
                      <a:pt x="712" y="1037"/>
                    </a:lnTo>
                    <a:lnTo>
                      <a:pt x="729" y="1037"/>
                    </a:lnTo>
                    <a:lnTo>
                      <a:pt x="781" y="1098"/>
                    </a:lnTo>
                    <a:close/>
                  </a:path>
                </a:pathLst>
              </a:custGeom>
              <a:solidFill>
                <a:srgbClr val="653299"/>
              </a:solidFill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1130040" y="365400"/>
                <a:ext cx="548640" cy="487440"/>
              </a:xfrm>
              <a:custGeom>
                <a:avLst/>
                <a:gdLst/>
                <a:ahLst/>
                <a:rect l="l" t="t" r="r" b="b"/>
                <a:pathLst>
                  <a:path w="729" h="1439">
                    <a:moveTo>
                      <a:pt x="52" y="1439"/>
                    </a:moveTo>
                    <a:lnTo>
                      <a:pt x="35" y="1398"/>
                    </a:lnTo>
                    <a:lnTo>
                      <a:pt x="17" y="1298"/>
                    </a:lnTo>
                    <a:lnTo>
                      <a:pt x="0" y="1139"/>
                    </a:lnTo>
                    <a:lnTo>
                      <a:pt x="17" y="919"/>
                    </a:lnTo>
                    <a:lnTo>
                      <a:pt x="122" y="660"/>
                    </a:lnTo>
                    <a:lnTo>
                      <a:pt x="313" y="360"/>
                    </a:lnTo>
                    <a:lnTo>
                      <a:pt x="330" y="339"/>
                    </a:lnTo>
                    <a:lnTo>
                      <a:pt x="382" y="279"/>
                    </a:lnTo>
                    <a:lnTo>
                      <a:pt x="435" y="220"/>
                    </a:lnTo>
                    <a:lnTo>
                      <a:pt x="520" y="160"/>
                    </a:lnTo>
                    <a:lnTo>
                      <a:pt x="590" y="80"/>
                    </a:lnTo>
                    <a:lnTo>
                      <a:pt x="677" y="2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1090800" y="385920"/>
                <a:ext cx="471960" cy="467280"/>
              </a:xfrm>
              <a:custGeom>
                <a:avLst/>
                <a:gdLst/>
                <a:ahLst/>
                <a:rect l="l" t="t" r="r" b="b"/>
                <a:pathLst>
                  <a:path w="624" h="1379">
                    <a:moveTo>
                      <a:pt x="51" y="1379"/>
                    </a:moveTo>
                    <a:lnTo>
                      <a:pt x="35" y="1338"/>
                    </a:lnTo>
                    <a:lnTo>
                      <a:pt x="16" y="1238"/>
                    </a:lnTo>
                    <a:lnTo>
                      <a:pt x="0" y="1058"/>
                    </a:lnTo>
                    <a:lnTo>
                      <a:pt x="16" y="859"/>
                    </a:lnTo>
                    <a:lnTo>
                      <a:pt x="121" y="600"/>
                    </a:lnTo>
                    <a:lnTo>
                      <a:pt x="312" y="300"/>
                    </a:lnTo>
                    <a:lnTo>
                      <a:pt x="364" y="240"/>
                    </a:lnTo>
                    <a:lnTo>
                      <a:pt x="468" y="120"/>
                    </a:lnTo>
                    <a:lnTo>
                      <a:pt x="62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1837440" y="304920"/>
                <a:ext cx="78120" cy="304560"/>
              </a:xfrm>
              <a:custGeom>
                <a:avLst/>
                <a:gdLst/>
                <a:ahLst/>
                <a:rect l="l" t="t" r="r" b="b"/>
                <a:pathLst>
                  <a:path w="103" h="899">
                    <a:moveTo>
                      <a:pt x="0" y="899"/>
                    </a:moveTo>
                    <a:lnTo>
                      <a:pt x="0" y="859"/>
                    </a:lnTo>
                    <a:lnTo>
                      <a:pt x="16" y="800"/>
                    </a:lnTo>
                    <a:lnTo>
                      <a:pt x="51" y="719"/>
                    </a:lnTo>
                    <a:lnTo>
                      <a:pt x="103" y="600"/>
                    </a:lnTo>
                    <a:lnTo>
                      <a:pt x="86" y="480"/>
                    </a:lnTo>
                    <a:lnTo>
                      <a:pt x="51" y="421"/>
                    </a:lnTo>
                    <a:lnTo>
                      <a:pt x="16" y="300"/>
                    </a:lnTo>
                    <a:lnTo>
                      <a:pt x="16" y="14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1837440" y="548280"/>
                <a:ext cx="430920" cy="465840"/>
              </a:xfrm>
              <a:custGeom>
                <a:avLst/>
                <a:gdLst/>
                <a:ahLst/>
                <a:rect l="l" t="t" r="r" b="b"/>
                <a:pathLst>
                  <a:path w="571" h="1378">
                    <a:moveTo>
                      <a:pt x="0" y="1378"/>
                    </a:moveTo>
                    <a:lnTo>
                      <a:pt x="51" y="1319"/>
                    </a:lnTo>
                    <a:lnTo>
                      <a:pt x="138" y="1198"/>
                    </a:lnTo>
                    <a:lnTo>
                      <a:pt x="259" y="1079"/>
                    </a:lnTo>
                    <a:lnTo>
                      <a:pt x="346" y="1019"/>
                    </a:lnTo>
                    <a:lnTo>
                      <a:pt x="451" y="919"/>
                    </a:lnTo>
                    <a:lnTo>
                      <a:pt x="519" y="819"/>
                    </a:lnTo>
                    <a:lnTo>
                      <a:pt x="571" y="679"/>
                    </a:lnTo>
                    <a:lnTo>
                      <a:pt x="571" y="540"/>
                    </a:lnTo>
                    <a:lnTo>
                      <a:pt x="537" y="300"/>
                    </a:lnTo>
                    <a:lnTo>
                      <a:pt x="502" y="18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1876680" y="568800"/>
                <a:ext cx="430920" cy="444960"/>
              </a:xfrm>
              <a:custGeom>
                <a:avLst/>
                <a:gdLst/>
                <a:ahLst/>
                <a:rect l="l" t="t" r="r" b="b"/>
                <a:pathLst>
                  <a:path w="573" h="1318">
                    <a:moveTo>
                      <a:pt x="0" y="1318"/>
                    </a:moveTo>
                    <a:lnTo>
                      <a:pt x="35" y="1278"/>
                    </a:lnTo>
                    <a:lnTo>
                      <a:pt x="139" y="1178"/>
                    </a:lnTo>
                    <a:lnTo>
                      <a:pt x="261" y="1078"/>
                    </a:lnTo>
                    <a:lnTo>
                      <a:pt x="330" y="1019"/>
                    </a:lnTo>
                    <a:lnTo>
                      <a:pt x="400" y="939"/>
                    </a:lnTo>
                    <a:lnTo>
                      <a:pt x="468" y="840"/>
                    </a:lnTo>
                    <a:lnTo>
                      <a:pt x="538" y="740"/>
                    </a:lnTo>
                    <a:lnTo>
                      <a:pt x="573" y="619"/>
                    </a:lnTo>
                    <a:lnTo>
                      <a:pt x="573" y="480"/>
                    </a:lnTo>
                    <a:lnTo>
                      <a:pt x="520" y="280"/>
                    </a:lnTo>
                    <a:lnTo>
                      <a:pt x="486" y="161"/>
                    </a:lnTo>
                    <a:lnTo>
                      <a:pt x="41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307960" y="629640"/>
                <a:ext cx="78120" cy="81360"/>
              </a:xfrm>
              <a:custGeom>
                <a:avLst/>
                <a:gdLst/>
                <a:ahLst/>
                <a:rect l="l" t="t" r="r" b="b"/>
                <a:pathLst>
                  <a:path w="104" h="240">
                    <a:moveTo>
                      <a:pt x="0" y="240"/>
                    </a:moveTo>
                    <a:lnTo>
                      <a:pt x="0" y="220"/>
                    </a:lnTo>
                    <a:lnTo>
                      <a:pt x="17" y="160"/>
                    </a:lnTo>
                    <a:lnTo>
                      <a:pt x="52" y="120"/>
                    </a:lnTo>
                    <a:lnTo>
                      <a:pt x="69" y="100"/>
                    </a:lnTo>
                    <a:lnTo>
                      <a:pt x="86" y="6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307960" y="64980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300">
                    <a:moveTo>
                      <a:pt x="0" y="300"/>
                    </a:moveTo>
                    <a:lnTo>
                      <a:pt x="17" y="279"/>
                    </a:lnTo>
                    <a:lnTo>
                      <a:pt x="34" y="219"/>
                    </a:lnTo>
                    <a:lnTo>
                      <a:pt x="52" y="180"/>
                    </a:lnTo>
                    <a:lnTo>
                      <a:pt x="104" y="140"/>
                    </a:lnTo>
                    <a:lnTo>
                      <a:pt x="156" y="60"/>
                    </a:lnTo>
                    <a:lnTo>
                      <a:pt x="15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2268720" y="690480"/>
                <a:ext cx="196200" cy="120600"/>
              </a:xfrm>
              <a:custGeom>
                <a:avLst/>
                <a:gdLst/>
                <a:ahLst/>
                <a:rect l="l" t="t" r="r" b="b"/>
                <a:pathLst>
                  <a:path w="261" h="360">
                    <a:moveTo>
                      <a:pt x="0" y="360"/>
                    </a:moveTo>
                    <a:lnTo>
                      <a:pt x="35" y="321"/>
                    </a:lnTo>
                    <a:lnTo>
                      <a:pt x="87" y="281"/>
                    </a:lnTo>
                    <a:lnTo>
                      <a:pt x="157" y="240"/>
                    </a:lnTo>
                    <a:lnTo>
                      <a:pt x="209" y="200"/>
                    </a:lnTo>
                    <a:lnTo>
                      <a:pt x="261" y="121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229480" y="792000"/>
                <a:ext cx="195840" cy="60840"/>
              </a:xfrm>
              <a:custGeom>
                <a:avLst/>
                <a:gdLst/>
                <a:ahLst/>
                <a:rect l="l" t="t" r="r" b="b"/>
                <a:pathLst>
                  <a:path w="261" h="181">
                    <a:moveTo>
                      <a:pt x="0" y="181"/>
                    </a:moveTo>
                    <a:lnTo>
                      <a:pt x="35" y="160"/>
                    </a:lnTo>
                    <a:lnTo>
                      <a:pt x="87" y="120"/>
                    </a:lnTo>
                    <a:lnTo>
                      <a:pt x="157" y="120"/>
                    </a:lnTo>
                    <a:lnTo>
                      <a:pt x="191" y="100"/>
                    </a:lnTo>
                    <a:lnTo>
                      <a:pt x="244" y="6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994400" y="933120"/>
                <a:ext cx="273960" cy="20160"/>
              </a:xfrm>
              <a:custGeom>
                <a:avLst/>
                <a:gdLst/>
                <a:ahLst/>
                <a:rect l="l" t="t" r="r" b="b"/>
                <a:pathLst>
                  <a:path w="364" h="60">
                    <a:moveTo>
                      <a:pt x="0" y="60"/>
                    </a:moveTo>
                    <a:lnTo>
                      <a:pt x="52" y="41"/>
                    </a:lnTo>
                    <a:lnTo>
                      <a:pt x="139" y="0"/>
                    </a:lnTo>
                    <a:lnTo>
                      <a:pt x="209" y="0"/>
                    </a:lnTo>
                    <a:lnTo>
                      <a:pt x="277" y="21"/>
                    </a:lnTo>
                    <a:lnTo>
                      <a:pt x="347" y="21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1837440" y="953280"/>
                <a:ext cx="39240" cy="60480"/>
              </a:xfrm>
              <a:custGeom>
                <a:avLst/>
                <a:gdLst/>
                <a:ahLst/>
                <a:rect l="l" t="t" r="r" b="b"/>
                <a:pathLst>
                  <a:path w="51" h="180">
                    <a:moveTo>
                      <a:pt x="51" y="0"/>
                    </a:moveTo>
                    <a:lnTo>
                      <a:pt x="33" y="40"/>
                    </a:lnTo>
                    <a:lnTo>
                      <a:pt x="0" y="100"/>
                    </a:lnTo>
                    <a:lnTo>
                      <a:pt x="0" y="18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  <a:close/>
                  </a:path>
                </a:pathLst>
              </a:custGeom>
              <a:solidFill>
                <a:srgbClr val="32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837440" y="1014120"/>
                <a:ext cx="600120" cy="689400"/>
              </a:xfrm>
              <a:custGeom>
                <a:avLst/>
                <a:gdLst/>
                <a:ahLst/>
                <a:rect l="l" t="t" r="r" b="b"/>
                <a:pathLst>
                  <a:path w="797" h="2037">
                    <a:moveTo>
                      <a:pt x="51" y="0"/>
                    </a:moveTo>
                    <a:lnTo>
                      <a:pt x="33" y="0"/>
                    </a:lnTo>
                    <a:lnTo>
                      <a:pt x="0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0" y="60"/>
                    </a:lnTo>
                    <a:lnTo>
                      <a:pt x="51" y="60"/>
                    </a:lnTo>
                    <a:lnTo>
                      <a:pt x="138" y="80"/>
                    </a:lnTo>
                    <a:lnTo>
                      <a:pt x="259" y="139"/>
                    </a:lnTo>
                    <a:lnTo>
                      <a:pt x="364" y="300"/>
                    </a:lnTo>
                    <a:lnTo>
                      <a:pt x="399" y="339"/>
                    </a:lnTo>
                    <a:lnTo>
                      <a:pt x="416" y="479"/>
                    </a:lnTo>
                    <a:lnTo>
                      <a:pt x="364" y="659"/>
                    </a:lnTo>
                    <a:lnTo>
                      <a:pt x="312" y="858"/>
                    </a:lnTo>
                    <a:lnTo>
                      <a:pt x="259" y="1099"/>
                    </a:lnTo>
                    <a:lnTo>
                      <a:pt x="259" y="1258"/>
                    </a:lnTo>
                    <a:lnTo>
                      <a:pt x="242" y="1339"/>
                    </a:lnTo>
                    <a:lnTo>
                      <a:pt x="225" y="1398"/>
                    </a:lnTo>
                    <a:lnTo>
                      <a:pt x="207" y="1437"/>
                    </a:lnTo>
                    <a:lnTo>
                      <a:pt x="155" y="1537"/>
                    </a:lnTo>
                    <a:lnTo>
                      <a:pt x="138" y="1637"/>
                    </a:lnTo>
                    <a:lnTo>
                      <a:pt x="155" y="1737"/>
                    </a:lnTo>
                    <a:lnTo>
                      <a:pt x="225" y="1797"/>
                    </a:lnTo>
                    <a:lnTo>
                      <a:pt x="259" y="1877"/>
                    </a:lnTo>
                    <a:lnTo>
                      <a:pt x="259" y="1918"/>
                    </a:lnTo>
                    <a:lnTo>
                      <a:pt x="259" y="1937"/>
                    </a:lnTo>
                    <a:lnTo>
                      <a:pt x="242" y="1977"/>
                    </a:lnTo>
                    <a:lnTo>
                      <a:pt x="259" y="2037"/>
                    </a:lnTo>
                    <a:lnTo>
                      <a:pt x="294" y="2017"/>
                    </a:lnTo>
                    <a:lnTo>
                      <a:pt x="312" y="1997"/>
                    </a:lnTo>
                    <a:lnTo>
                      <a:pt x="312" y="1977"/>
                    </a:lnTo>
                    <a:lnTo>
                      <a:pt x="346" y="1977"/>
                    </a:lnTo>
                    <a:lnTo>
                      <a:pt x="399" y="1956"/>
                    </a:lnTo>
                    <a:lnTo>
                      <a:pt x="468" y="1918"/>
                    </a:lnTo>
                    <a:lnTo>
                      <a:pt x="537" y="1857"/>
                    </a:lnTo>
                    <a:lnTo>
                      <a:pt x="606" y="1857"/>
                    </a:lnTo>
                    <a:lnTo>
                      <a:pt x="624" y="1857"/>
                    </a:lnTo>
                    <a:lnTo>
                      <a:pt x="728" y="1777"/>
                    </a:lnTo>
                    <a:lnTo>
                      <a:pt x="797" y="1637"/>
                    </a:lnTo>
                    <a:lnTo>
                      <a:pt x="797" y="1498"/>
                    </a:lnTo>
                    <a:lnTo>
                      <a:pt x="780" y="1437"/>
                    </a:lnTo>
                    <a:lnTo>
                      <a:pt x="745" y="1378"/>
                    </a:lnTo>
                    <a:lnTo>
                      <a:pt x="728" y="1339"/>
                    </a:lnTo>
                    <a:lnTo>
                      <a:pt x="728" y="1318"/>
                    </a:lnTo>
                    <a:lnTo>
                      <a:pt x="745" y="1278"/>
                    </a:lnTo>
                    <a:lnTo>
                      <a:pt x="763" y="1198"/>
                    </a:lnTo>
                    <a:lnTo>
                      <a:pt x="728" y="1079"/>
                    </a:lnTo>
                    <a:lnTo>
                      <a:pt x="676" y="899"/>
                    </a:lnTo>
                    <a:lnTo>
                      <a:pt x="676" y="739"/>
                    </a:lnTo>
                    <a:lnTo>
                      <a:pt x="676" y="659"/>
                    </a:lnTo>
                    <a:lnTo>
                      <a:pt x="658" y="539"/>
                    </a:lnTo>
                    <a:lnTo>
                      <a:pt x="641" y="420"/>
                    </a:lnTo>
                    <a:lnTo>
                      <a:pt x="606" y="320"/>
                    </a:lnTo>
                    <a:lnTo>
                      <a:pt x="554" y="239"/>
                    </a:lnTo>
                    <a:lnTo>
                      <a:pt x="502" y="180"/>
                    </a:lnTo>
                    <a:lnTo>
                      <a:pt x="433" y="139"/>
                    </a:lnTo>
                    <a:lnTo>
                      <a:pt x="381" y="80"/>
                    </a:lnTo>
                    <a:lnTo>
                      <a:pt x="329" y="60"/>
                    </a:lnTo>
                    <a:lnTo>
                      <a:pt x="277" y="41"/>
                    </a:lnTo>
                    <a:lnTo>
                      <a:pt x="225" y="20"/>
                    </a:lnTo>
                    <a:lnTo>
                      <a:pt x="190" y="0"/>
                    </a:lnTo>
                    <a:lnTo>
                      <a:pt x="173" y="0"/>
                    </a:lnTo>
                    <a:lnTo>
                      <a:pt x="155" y="0"/>
                    </a:lnTo>
                    <a:lnTo>
                      <a:pt x="138" y="0"/>
                    </a:lnTo>
                    <a:lnTo>
                      <a:pt x="86" y="0"/>
                    </a:lnTo>
                    <a:lnTo>
                      <a:pt x="5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1955160" y="966960"/>
                <a:ext cx="195840" cy="13320"/>
              </a:xfrm>
              <a:custGeom>
                <a:avLst/>
                <a:gdLst/>
                <a:ahLst/>
                <a:rect l="l" t="t" r="r" b="b"/>
                <a:pathLst>
                  <a:path w="261" h="41">
                    <a:moveTo>
                      <a:pt x="0" y="20"/>
                    </a:moveTo>
                    <a:lnTo>
                      <a:pt x="18" y="0"/>
                    </a:lnTo>
                    <a:lnTo>
                      <a:pt x="70" y="0"/>
                    </a:lnTo>
                    <a:lnTo>
                      <a:pt x="104" y="20"/>
                    </a:lnTo>
                    <a:lnTo>
                      <a:pt x="157" y="41"/>
                    </a:lnTo>
                    <a:lnTo>
                      <a:pt x="226" y="41"/>
                    </a:lnTo>
                    <a:lnTo>
                      <a:pt x="261" y="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718280" y="873360"/>
                <a:ext cx="236520" cy="79560"/>
              </a:xfrm>
              <a:custGeom>
                <a:avLst/>
                <a:gdLst/>
                <a:ahLst/>
                <a:rect l="l" t="t" r="r" b="b"/>
                <a:pathLst>
                  <a:path w="312" h="239">
                    <a:moveTo>
                      <a:pt x="312" y="239"/>
                    </a:moveTo>
                    <a:lnTo>
                      <a:pt x="295" y="160"/>
                    </a:lnTo>
                    <a:lnTo>
                      <a:pt x="225" y="2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718280" y="771840"/>
                <a:ext cx="313560" cy="140760"/>
              </a:xfrm>
              <a:custGeom>
                <a:avLst/>
                <a:gdLst/>
                <a:ahLst/>
                <a:rect l="l" t="t" r="r" b="b"/>
                <a:pathLst>
                  <a:path w="416" h="420">
                    <a:moveTo>
                      <a:pt x="0" y="0"/>
                    </a:moveTo>
                    <a:lnTo>
                      <a:pt x="0" y="20"/>
                    </a:lnTo>
                    <a:lnTo>
                      <a:pt x="18" y="81"/>
                    </a:lnTo>
                    <a:lnTo>
                      <a:pt x="52" y="120"/>
                    </a:lnTo>
                    <a:lnTo>
                      <a:pt x="87" y="160"/>
                    </a:lnTo>
                    <a:lnTo>
                      <a:pt x="157" y="200"/>
                    </a:lnTo>
                    <a:lnTo>
                      <a:pt x="208" y="241"/>
                    </a:lnTo>
                    <a:lnTo>
                      <a:pt x="312" y="260"/>
                    </a:lnTo>
                    <a:lnTo>
                      <a:pt x="399" y="320"/>
                    </a:lnTo>
                    <a:lnTo>
                      <a:pt x="416" y="42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798560" y="711000"/>
                <a:ext cx="273960" cy="181080"/>
              </a:xfrm>
              <a:custGeom>
                <a:avLst/>
                <a:gdLst/>
                <a:ahLst/>
                <a:rect l="l" t="t" r="r" b="b"/>
                <a:pathLst>
                  <a:path w="364" h="539">
                    <a:moveTo>
                      <a:pt x="0" y="0"/>
                    </a:moveTo>
                    <a:lnTo>
                      <a:pt x="17" y="39"/>
                    </a:lnTo>
                    <a:lnTo>
                      <a:pt x="52" y="139"/>
                    </a:lnTo>
                    <a:lnTo>
                      <a:pt x="103" y="239"/>
                    </a:lnTo>
                    <a:lnTo>
                      <a:pt x="172" y="279"/>
                    </a:lnTo>
                    <a:lnTo>
                      <a:pt x="242" y="299"/>
                    </a:lnTo>
                    <a:lnTo>
                      <a:pt x="259" y="299"/>
                    </a:lnTo>
                    <a:lnTo>
                      <a:pt x="329" y="339"/>
                    </a:lnTo>
                    <a:lnTo>
                      <a:pt x="364" y="420"/>
                    </a:lnTo>
                    <a:lnTo>
                      <a:pt x="364" y="53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876680" y="548280"/>
                <a:ext cx="260640" cy="343800"/>
              </a:xfrm>
              <a:custGeom>
                <a:avLst/>
                <a:gdLst/>
                <a:ahLst/>
                <a:rect l="l" t="t" r="r" b="b"/>
                <a:pathLst>
                  <a:path w="348" h="1019">
                    <a:moveTo>
                      <a:pt x="313" y="1019"/>
                    </a:moveTo>
                    <a:lnTo>
                      <a:pt x="330" y="959"/>
                    </a:lnTo>
                    <a:lnTo>
                      <a:pt x="348" y="839"/>
                    </a:lnTo>
                    <a:lnTo>
                      <a:pt x="313" y="719"/>
                    </a:lnTo>
                    <a:lnTo>
                      <a:pt x="261" y="640"/>
                    </a:lnTo>
                    <a:lnTo>
                      <a:pt x="208" y="559"/>
                    </a:lnTo>
                    <a:lnTo>
                      <a:pt x="139" y="440"/>
                    </a:lnTo>
                    <a:lnTo>
                      <a:pt x="69" y="300"/>
                    </a:lnTo>
                    <a:lnTo>
                      <a:pt x="35" y="16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1876680" y="406080"/>
                <a:ext cx="352800" cy="405000"/>
              </a:xfrm>
              <a:custGeom>
                <a:avLst/>
                <a:gdLst/>
                <a:ahLst/>
                <a:rect l="l" t="t" r="r" b="b"/>
                <a:pathLst>
                  <a:path w="468" h="1198">
                    <a:moveTo>
                      <a:pt x="468" y="1198"/>
                    </a:moveTo>
                    <a:lnTo>
                      <a:pt x="468" y="1138"/>
                    </a:lnTo>
                    <a:lnTo>
                      <a:pt x="433" y="1038"/>
                    </a:lnTo>
                    <a:lnTo>
                      <a:pt x="365" y="959"/>
                    </a:lnTo>
                    <a:lnTo>
                      <a:pt x="295" y="879"/>
                    </a:lnTo>
                    <a:lnTo>
                      <a:pt x="226" y="779"/>
                    </a:lnTo>
                    <a:lnTo>
                      <a:pt x="174" y="640"/>
                    </a:lnTo>
                    <a:lnTo>
                      <a:pt x="156" y="479"/>
                    </a:lnTo>
                    <a:lnTo>
                      <a:pt x="156" y="380"/>
                    </a:lnTo>
                    <a:lnTo>
                      <a:pt x="122" y="180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876680" y="345240"/>
                <a:ext cx="391680" cy="406080"/>
              </a:xfrm>
              <a:custGeom>
                <a:avLst/>
                <a:gdLst/>
                <a:ahLst/>
                <a:rect l="l" t="t" r="r" b="b"/>
                <a:pathLst>
                  <a:path w="520" h="1198">
                    <a:moveTo>
                      <a:pt x="0" y="0"/>
                    </a:moveTo>
                    <a:lnTo>
                      <a:pt x="17" y="19"/>
                    </a:lnTo>
                    <a:lnTo>
                      <a:pt x="52" y="100"/>
                    </a:lnTo>
                    <a:lnTo>
                      <a:pt x="104" y="179"/>
                    </a:lnTo>
                    <a:lnTo>
                      <a:pt x="174" y="300"/>
                    </a:lnTo>
                    <a:lnTo>
                      <a:pt x="261" y="498"/>
                    </a:lnTo>
                    <a:lnTo>
                      <a:pt x="313" y="658"/>
                    </a:lnTo>
                    <a:lnTo>
                      <a:pt x="330" y="819"/>
                    </a:lnTo>
                    <a:lnTo>
                      <a:pt x="400" y="1017"/>
                    </a:lnTo>
                    <a:lnTo>
                      <a:pt x="520" y="11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1876680" y="6703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6" h="299">
                    <a:moveTo>
                      <a:pt x="0" y="0"/>
                    </a:moveTo>
                    <a:lnTo>
                      <a:pt x="17" y="40"/>
                    </a:lnTo>
                    <a:lnTo>
                      <a:pt x="52" y="180"/>
                    </a:lnTo>
                    <a:lnTo>
                      <a:pt x="156" y="2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30040" y="629640"/>
                <a:ext cx="352800" cy="81360"/>
              </a:xfrm>
              <a:custGeom>
                <a:avLst/>
                <a:gdLst/>
                <a:ahLst/>
                <a:rect l="l" t="t" r="r" b="b"/>
                <a:pathLst>
                  <a:path w="468" h="240">
                    <a:moveTo>
                      <a:pt x="0" y="240"/>
                    </a:moveTo>
                    <a:lnTo>
                      <a:pt x="52" y="179"/>
                    </a:lnTo>
                    <a:lnTo>
                      <a:pt x="156" y="79"/>
                    </a:lnTo>
                    <a:lnTo>
                      <a:pt x="313" y="0"/>
                    </a:lnTo>
                    <a:lnTo>
                      <a:pt x="417" y="40"/>
                    </a:lnTo>
                    <a:lnTo>
                      <a:pt x="468" y="140"/>
                    </a:lnTo>
                    <a:lnTo>
                      <a:pt x="468" y="1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169640" y="711000"/>
                <a:ext cx="156600" cy="8100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179"/>
                    </a:lnTo>
                    <a:lnTo>
                      <a:pt x="87" y="60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169640" y="751680"/>
                <a:ext cx="156600" cy="79560"/>
              </a:xfrm>
              <a:custGeom>
                <a:avLst/>
                <a:gdLst/>
                <a:ahLst/>
                <a:rect l="l" t="t" r="r" b="b"/>
                <a:pathLst>
                  <a:path w="209" h="239">
                    <a:moveTo>
                      <a:pt x="0" y="239"/>
                    </a:moveTo>
                    <a:lnTo>
                      <a:pt x="18" y="200"/>
                    </a:lnTo>
                    <a:lnTo>
                      <a:pt x="52" y="119"/>
                    </a:lnTo>
                    <a:lnTo>
                      <a:pt x="104" y="59"/>
                    </a:lnTo>
                    <a:lnTo>
                      <a:pt x="157" y="40"/>
                    </a:lnTo>
                    <a:lnTo>
                      <a:pt x="191" y="19"/>
                    </a:lnTo>
                    <a:lnTo>
                      <a:pt x="20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169640" y="588960"/>
                <a:ext cx="628560" cy="81000"/>
              </a:xfrm>
              <a:custGeom>
                <a:avLst/>
                <a:gdLst/>
                <a:ahLst/>
                <a:rect l="l" t="t" r="r" b="b"/>
                <a:pathLst>
                  <a:path w="834" h="239">
                    <a:moveTo>
                      <a:pt x="0" y="239"/>
                    </a:moveTo>
                    <a:lnTo>
                      <a:pt x="35" y="179"/>
                    </a:lnTo>
                    <a:lnTo>
                      <a:pt x="122" y="79"/>
                    </a:lnTo>
                    <a:lnTo>
                      <a:pt x="209" y="0"/>
                    </a:lnTo>
                    <a:lnTo>
                      <a:pt x="348" y="19"/>
                    </a:lnTo>
                    <a:lnTo>
                      <a:pt x="451" y="59"/>
                    </a:lnTo>
                    <a:lnTo>
                      <a:pt x="521" y="119"/>
                    </a:lnTo>
                    <a:lnTo>
                      <a:pt x="608" y="139"/>
                    </a:lnTo>
                    <a:lnTo>
                      <a:pt x="729" y="139"/>
                    </a:lnTo>
                    <a:lnTo>
                      <a:pt x="834" y="5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1169640" y="528120"/>
                <a:ext cx="667800" cy="101520"/>
              </a:xfrm>
              <a:custGeom>
                <a:avLst/>
                <a:gdLst/>
                <a:ahLst/>
                <a:rect l="l" t="t" r="r" b="b"/>
                <a:pathLst>
                  <a:path w="886" h="300">
                    <a:moveTo>
                      <a:pt x="0" y="300"/>
                    </a:moveTo>
                    <a:lnTo>
                      <a:pt x="52" y="240"/>
                    </a:lnTo>
                    <a:lnTo>
                      <a:pt x="157" y="141"/>
                    </a:lnTo>
                    <a:lnTo>
                      <a:pt x="313" y="120"/>
                    </a:lnTo>
                    <a:lnTo>
                      <a:pt x="486" y="120"/>
                    </a:lnTo>
                    <a:lnTo>
                      <a:pt x="608" y="141"/>
                    </a:lnTo>
                    <a:lnTo>
                      <a:pt x="677" y="120"/>
                    </a:lnTo>
                    <a:lnTo>
                      <a:pt x="747" y="100"/>
                    </a:lnTo>
                    <a:lnTo>
                      <a:pt x="834" y="60"/>
                    </a:lnTo>
                    <a:lnTo>
                      <a:pt x="88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1247760" y="426600"/>
                <a:ext cx="589320" cy="121320"/>
              </a:xfrm>
              <a:custGeom>
                <a:avLst/>
                <a:gdLst/>
                <a:ahLst/>
                <a:rect l="l" t="t" r="r" b="b"/>
                <a:pathLst>
                  <a:path w="782" h="359">
                    <a:moveTo>
                      <a:pt x="0" y="359"/>
                    </a:moveTo>
                    <a:lnTo>
                      <a:pt x="53" y="320"/>
                    </a:lnTo>
                    <a:lnTo>
                      <a:pt x="192" y="280"/>
                    </a:lnTo>
                    <a:lnTo>
                      <a:pt x="312" y="240"/>
                    </a:lnTo>
                    <a:lnTo>
                      <a:pt x="469" y="240"/>
                    </a:lnTo>
                    <a:lnTo>
                      <a:pt x="643" y="180"/>
                    </a:lnTo>
                    <a:lnTo>
                      <a:pt x="78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1326240" y="365400"/>
                <a:ext cx="511200" cy="141840"/>
              </a:xfrm>
              <a:custGeom>
                <a:avLst/>
                <a:gdLst/>
                <a:ahLst/>
                <a:rect l="l" t="t" r="r" b="b"/>
                <a:pathLst>
                  <a:path w="677" h="420">
                    <a:moveTo>
                      <a:pt x="0" y="420"/>
                    </a:moveTo>
                    <a:lnTo>
                      <a:pt x="35" y="400"/>
                    </a:lnTo>
                    <a:lnTo>
                      <a:pt x="121" y="379"/>
                    </a:lnTo>
                    <a:lnTo>
                      <a:pt x="207" y="360"/>
                    </a:lnTo>
                    <a:lnTo>
                      <a:pt x="312" y="320"/>
                    </a:lnTo>
                    <a:lnTo>
                      <a:pt x="416" y="279"/>
                    </a:lnTo>
                    <a:lnTo>
                      <a:pt x="468" y="241"/>
                    </a:lnTo>
                    <a:lnTo>
                      <a:pt x="555" y="141"/>
                    </a:lnTo>
                    <a:lnTo>
                      <a:pt x="625" y="41"/>
                    </a:lnTo>
                    <a:lnTo>
                      <a:pt x="677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1169640" y="385920"/>
                <a:ext cx="313560" cy="162360"/>
              </a:xfrm>
              <a:custGeom>
                <a:avLst/>
                <a:gdLst/>
                <a:ahLst/>
                <a:rect l="l" t="t" r="r" b="b"/>
                <a:pathLst>
                  <a:path w="416" h="479">
                    <a:moveTo>
                      <a:pt x="0" y="479"/>
                    </a:moveTo>
                    <a:lnTo>
                      <a:pt x="18" y="379"/>
                    </a:lnTo>
                    <a:lnTo>
                      <a:pt x="139" y="181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1090800" y="467280"/>
                <a:ext cx="78480" cy="182520"/>
              </a:xfrm>
              <a:custGeom>
                <a:avLst/>
                <a:gdLst/>
                <a:ahLst/>
                <a:rect l="l" t="t" r="r" b="b"/>
                <a:pathLst>
                  <a:path w="103" h="539">
                    <a:moveTo>
                      <a:pt x="0" y="539"/>
                    </a:moveTo>
                    <a:lnTo>
                      <a:pt x="0" y="439"/>
                    </a:lnTo>
                    <a:lnTo>
                      <a:pt x="16" y="220"/>
                    </a:lnTo>
                    <a:lnTo>
                      <a:pt x="103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1038240" y="548280"/>
                <a:ext cx="52560" cy="182880"/>
              </a:xfrm>
              <a:custGeom>
                <a:avLst/>
                <a:gdLst/>
                <a:ahLst/>
                <a:rect l="l" t="t" r="r" b="b"/>
                <a:pathLst>
                  <a:path w="70" h="540">
                    <a:moveTo>
                      <a:pt x="70" y="540"/>
                    </a:moveTo>
                    <a:lnTo>
                      <a:pt x="52" y="460"/>
                    </a:lnTo>
                    <a:lnTo>
                      <a:pt x="0" y="26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1602000" y="731160"/>
                <a:ext cx="76680" cy="121680"/>
              </a:xfrm>
              <a:custGeom>
                <a:avLst/>
                <a:gdLst/>
                <a:ahLst/>
                <a:rect l="l" t="t" r="r" b="b"/>
                <a:pathLst>
                  <a:path w="104" h="360">
                    <a:moveTo>
                      <a:pt x="0" y="360"/>
                    </a:moveTo>
                    <a:lnTo>
                      <a:pt x="0" y="339"/>
                    </a:lnTo>
                    <a:lnTo>
                      <a:pt x="0" y="319"/>
                    </a:lnTo>
                    <a:lnTo>
                      <a:pt x="0" y="299"/>
                    </a:lnTo>
                    <a:lnTo>
                      <a:pt x="35" y="200"/>
                    </a:lnTo>
                    <a:lnTo>
                      <a:pt x="52" y="119"/>
                    </a:lnTo>
                    <a:lnTo>
                      <a:pt x="52" y="60"/>
                    </a:lnTo>
                    <a:lnTo>
                      <a:pt x="52" y="39"/>
                    </a:lnTo>
                    <a:lnTo>
                      <a:pt x="69" y="0"/>
                    </a:lnTo>
                    <a:lnTo>
                      <a:pt x="104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1483200" y="7110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20">
                    <a:moveTo>
                      <a:pt x="52" y="420"/>
                    </a:moveTo>
                    <a:lnTo>
                      <a:pt x="35" y="359"/>
                    </a:lnTo>
                    <a:lnTo>
                      <a:pt x="18" y="279"/>
                    </a:lnTo>
                    <a:lnTo>
                      <a:pt x="0" y="179"/>
                    </a:lnTo>
                    <a:lnTo>
                      <a:pt x="18" y="99"/>
                    </a:lnTo>
                    <a:lnTo>
                      <a:pt x="35" y="3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1563120" y="731160"/>
                <a:ext cx="38880" cy="121680"/>
              </a:xfrm>
              <a:custGeom>
                <a:avLst/>
                <a:gdLst/>
                <a:ahLst/>
                <a:rect l="l" t="t" r="r" b="b"/>
                <a:pathLst>
                  <a:path w="52" h="360">
                    <a:moveTo>
                      <a:pt x="52" y="0"/>
                    </a:moveTo>
                    <a:lnTo>
                      <a:pt x="52" y="19"/>
                    </a:lnTo>
                    <a:lnTo>
                      <a:pt x="52" y="60"/>
                    </a:lnTo>
                    <a:lnTo>
                      <a:pt x="17" y="139"/>
                    </a:lnTo>
                    <a:lnTo>
                      <a:pt x="0" y="239"/>
                    </a:lnTo>
                    <a:lnTo>
                      <a:pt x="0" y="36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894960" y="1542240"/>
                <a:ext cx="313560" cy="243720"/>
              </a:xfrm>
              <a:custGeom>
                <a:avLst/>
                <a:gdLst/>
                <a:ahLst/>
                <a:rect l="l" t="t" r="r" b="b"/>
                <a:pathLst>
                  <a:path w="416" h="719">
                    <a:moveTo>
                      <a:pt x="0" y="719"/>
                    </a:moveTo>
                    <a:lnTo>
                      <a:pt x="35" y="658"/>
                    </a:lnTo>
                    <a:lnTo>
                      <a:pt x="87" y="519"/>
                    </a:lnTo>
                    <a:lnTo>
                      <a:pt x="191" y="319"/>
                    </a:lnTo>
                    <a:lnTo>
                      <a:pt x="296" y="13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55720" y="1542240"/>
                <a:ext cx="31392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299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16480" y="1522080"/>
                <a:ext cx="313560" cy="221760"/>
              </a:xfrm>
              <a:custGeom>
                <a:avLst/>
                <a:gdLst/>
                <a:ahLst/>
                <a:rect l="l" t="t" r="r" b="b"/>
                <a:pathLst>
                  <a:path w="416" h="658">
                    <a:moveTo>
                      <a:pt x="0" y="658"/>
                    </a:moveTo>
                    <a:lnTo>
                      <a:pt x="35" y="558"/>
                    </a:lnTo>
                    <a:lnTo>
                      <a:pt x="156" y="320"/>
                    </a:lnTo>
                    <a:lnTo>
                      <a:pt x="41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4960" y="1522080"/>
                <a:ext cx="235080" cy="120240"/>
              </a:xfrm>
              <a:custGeom>
                <a:avLst/>
                <a:gdLst/>
                <a:ahLst/>
                <a:rect l="l" t="t" r="r" b="b"/>
                <a:pathLst>
                  <a:path w="312" h="359">
                    <a:moveTo>
                      <a:pt x="0" y="359"/>
                    </a:moveTo>
                    <a:lnTo>
                      <a:pt x="17" y="320"/>
                    </a:lnTo>
                    <a:lnTo>
                      <a:pt x="104" y="199"/>
                    </a:lnTo>
                    <a:lnTo>
                      <a:pt x="31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4960" y="1501920"/>
                <a:ext cx="195840" cy="101520"/>
              </a:xfrm>
              <a:custGeom>
                <a:avLst/>
                <a:gdLst/>
                <a:ahLst/>
                <a:rect l="l" t="t" r="r" b="b"/>
                <a:pathLst>
                  <a:path w="261" h="300">
                    <a:moveTo>
                      <a:pt x="0" y="300"/>
                    </a:moveTo>
                    <a:lnTo>
                      <a:pt x="35" y="240"/>
                    </a:lnTo>
                    <a:lnTo>
                      <a:pt x="139" y="100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34200" y="1501920"/>
                <a:ext cx="78120" cy="40320"/>
              </a:xfrm>
              <a:custGeom>
                <a:avLst/>
                <a:gdLst/>
                <a:ahLst/>
                <a:rect l="l" t="t" r="r" b="b"/>
                <a:pathLst>
                  <a:path w="105" h="121">
                    <a:moveTo>
                      <a:pt x="0" y="121"/>
                    </a:moveTo>
                    <a:lnTo>
                      <a:pt x="0" y="100"/>
                    </a:lnTo>
                    <a:lnTo>
                      <a:pt x="35" y="41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934200" y="1481400"/>
                <a:ext cx="38880" cy="20160"/>
              </a:xfrm>
              <a:custGeom>
                <a:avLst/>
                <a:gdLst/>
                <a:ahLst/>
                <a:rect l="l" t="t" r="r" b="b"/>
                <a:pathLst>
                  <a:path w="52" h="59">
                    <a:moveTo>
                      <a:pt x="0" y="59"/>
                    </a:moveTo>
                    <a:lnTo>
                      <a:pt x="0" y="40"/>
                    </a:lnTo>
                    <a:lnTo>
                      <a:pt x="18" y="2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81400" y="548280"/>
                <a:ext cx="156600" cy="364320"/>
              </a:xfrm>
              <a:custGeom>
                <a:avLst/>
                <a:gdLst/>
                <a:ahLst/>
                <a:rect l="l" t="t" r="r" b="b"/>
                <a:pathLst>
                  <a:path w="207" h="1079">
                    <a:moveTo>
                      <a:pt x="207" y="0"/>
                    </a:moveTo>
                    <a:lnTo>
                      <a:pt x="207" y="21"/>
                    </a:lnTo>
                    <a:lnTo>
                      <a:pt x="207" y="100"/>
                    </a:lnTo>
                    <a:lnTo>
                      <a:pt x="156" y="180"/>
                    </a:lnTo>
                    <a:lnTo>
                      <a:pt x="87" y="240"/>
                    </a:lnTo>
                    <a:lnTo>
                      <a:pt x="35" y="340"/>
                    </a:lnTo>
                    <a:lnTo>
                      <a:pt x="0" y="480"/>
                    </a:lnTo>
                    <a:lnTo>
                      <a:pt x="0" y="600"/>
                    </a:lnTo>
                    <a:lnTo>
                      <a:pt x="35" y="740"/>
                    </a:lnTo>
                    <a:lnTo>
                      <a:pt x="87" y="900"/>
                    </a:lnTo>
                    <a:lnTo>
                      <a:pt x="104" y="107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620640" y="853200"/>
                <a:ext cx="1080" cy="100080"/>
              </a:xfrm>
              <a:custGeom>
                <a:avLst/>
                <a:gdLst/>
                <a:ahLst/>
                <a:rect l="l" t="t" r="r" b="b"/>
                <a:pathLst>
                  <a:path w="0" h="298">
                    <a:moveTo>
                      <a:pt x="0" y="0"/>
                    </a:moveTo>
                    <a:lnTo>
                      <a:pt x="0" y="59"/>
                    </a:lnTo>
                    <a:lnTo>
                      <a:pt x="0" y="179"/>
                    </a:lnTo>
                    <a:lnTo>
                      <a:pt x="0" y="298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581400" y="831600"/>
                <a:ext cx="39240" cy="141840"/>
              </a:xfrm>
              <a:custGeom>
                <a:avLst/>
                <a:gdLst/>
                <a:ahLst/>
                <a:rect l="l" t="t" r="r" b="b"/>
                <a:pathLst>
                  <a:path w="52" h="419">
                    <a:moveTo>
                      <a:pt x="0" y="419"/>
                    </a:moveTo>
                    <a:lnTo>
                      <a:pt x="0" y="340"/>
                    </a:lnTo>
                    <a:lnTo>
                      <a:pt x="17" y="180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567720" y="792000"/>
                <a:ext cx="13320" cy="201600"/>
              </a:xfrm>
              <a:custGeom>
                <a:avLst/>
                <a:gdLst/>
                <a:ahLst/>
                <a:rect l="l" t="t" r="r" b="b"/>
                <a:pathLst>
                  <a:path w="18" h="600">
                    <a:moveTo>
                      <a:pt x="18" y="600"/>
                    </a:moveTo>
                    <a:lnTo>
                      <a:pt x="18" y="500"/>
                    </a:lnTo>
                    <a:lnTo>
                      <a:pt x="0" y="280"/>
                    </a:lnTo>
                    <a:lnTo>
                      <a:pt x="1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542160" y="751680"/>
                <a:ext cx="39240" cy="242280"/>
              </a:xfrm>
              <a:custGeom>
                <a:avLst/>
                <a:gdLst/>
                <a:ahLst/>
                <a:rect l="l" t="t" r="r" b="b"/>
                <a:pathLst>
                  <a:path w="52" h="719">
                    <a:moveTo>
                      <a:pt x="0" y="719"/>
                    </a:moveTo>
                    <a:lnTo>
                      <a:pt x="0" y="598"/>
                    </a:lnTo>
                    <a:lnTo>
                      <a:pt x="0" y="319"/>
                    </a:lnTo>
                    <a:lnTo>
                      <a:pt x="52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20640" y="588960"/>
                <a:ext cx="1080" cy="40320"/>
              </a:xfrm>
              <a:custGeom>
                <a:avLst/>
                <a:gdLst/>
                <a:ahLst/>
                <a:rect l="l" t="t" r="r" b="b"/>
                <a:pathLst>
                  <a:path w="0" h="119">
                    <a:moveTo>
                      <a:pt x="0" y="0"/>
                    </a:moveTo>
                    <a:lnTo>
                      <a:pt x="0" y="19"/>
                    </a:lnTo>
                    <a:lnTo>
                      <a:pt x="0" y="79"/>
                    </a:lnTo>
                    <a:lnTo>
                      <a:pt x="0" y="1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20640" y="507600"/>
                <a:ext cx="91800" cy="121680"/>
              </a:xfrm>
              <a:custGeom>
                <a:avLst/>
                <a:gdLst/>
                <a:ahLst/>
                <a:rect l="l" t="t" r="r" b="b"/>
                <a:pathLst>
                  <a:path w="122" h="359">
                    <a:moveTo>
                      <a:pt x="104" y="240"/>
                    </a:moveTo>
                    <a:lnTo>
                      <a:pt x="122" y="119"/>
                    </a:lnTo>
                    <a:lnTo>
                      <a:pt x="122" y="80"/>
                    </a:lnTo>
                    <a:lnTo>
                      <a:pt x="104" y="59"/>
                    </a:lnTo>
                    <a:lnTo>
                      <a:pt x="52" y="0"/>
                    </a:lnTo>
                    <a:lnTo>
                      <a:pt x="52" y="40"/>
                    </a:lnTo>
                    <a:lnTo>
                      <a:pt x="17" y="159"/>
                    </a:lnTo>
                    <a:lnTo>
                      <a:pt x="0" y="240"/>
                    </a:lnTo>
                    <a:lnTo>
                      <a:pt x="0" y="259"/>
                    </a:lnTo>
                    <a:lnTo>
                      <a:pt x="0" y="319"/>
                    </a:lnTo>
                    <a:lnTo>
                      <a:pt x="0" y="359"/>
                    </a:lnTo>
                    <a:lnTo>
                      <a:pt x="17" y="340"/>
                    </a:lnTo>
                    <a:lnTo>
                      <a:pt x="35" y="319"/>
                    </a:lnTo>
                    <a:lnTo>
                      <a:pt x="52" y="299"/>
                    </a:lnTo>
                    <a:lnTo>
                      <a:pt x="87" y="259"/>
                    </a:lnTo>
                    <a:lnTo>
                      <a:pt x="104" y="24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59520" y="751680"/>
                <a:ext cx="39240" cy="121680"/>
              </a:xfrm>
              <a:custGeom>
                <a:avLst/>
                <a:gdLst/>
                <a:ahLst/>
                <a:rect l="l" t="t" r="r" b="b"/>
                <a:pathLst>
                  <a:path w="52" h="359">
                    <a:moveTo>
                      <a:pt x="52" y="359"/>
                    </a:moveTo>
                    <a:lnTo>
                      <a:pt x="52" y="300"/>
                    </a:lnTo>
                    <a:lnTo>
                      <a:pt x="52" y="179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99120" y="690480"/>
                <a:ext cx="38880" cy="101520"/>
              </a:xfrm>
              <a:custGeom>
                <a:avLst/>
                <a:gdLst/>
                <a:ahLst/>
                <a:rect l="l" t="t" r="r" b="b"/>
                <a:pathLst>
                  <a:path w="51" h="300">
                    <a:moveTo>
                      <a:pt x="51" y="300"/>
                    </a:moveTo>
                    <a:lnTo>
                      <a:pt x="51" y="240"/>
                    </a:lnTo>
                    <a:lnTo>
                      <a:pt x="35" y="121"/>
                    </a:lnTo>
                    <a:lnTo>
                      <a:pt x="0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2112120" y="1095480"/>
                <a:ext cx="78120" cy="141840"/>
              </a:xfrm>
              <a:custGeom>
                <a:avLst/>
                <a:gdLst/>
                <a:ahLst/>
                <a:rect l="l" t="t" r="r" b="b"/>
                <a:pathLst>
                  <a:path w="104" h="420">
                    <a:moveTo>
                      <a:pt x="52" y="0"/>
                    </a:moveTo>
                    <a:lnTo>
                      <a:pt x="69" y="61"/>
                    </a:lnTo>
                    <a:lnTo>
                      <a:pt x="104" y="200"/>
                    </a:lnTo>
                    <a:lnTo>
                      <a:pt x="52" y="360"/>
                    </a:lnTo>
                    <a:lnTo>
                      <a:pt x="0" y="42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2031840" y="1217520"/>
                <a:ext cx="197640" cy="243720"/>
              </a:xfrm>
              <a:custGeom>
                <a:avLst/>
                <a:gdLst/>
                <a:ahLst/>
                <a:rect l="l" t="t" r="r" b="b"/>
                <a:pathLst>
                  <a:path w="260" h="719">
                    <a:moveTo>
                      <a:pt x="260" y="0"/>
                    </a:moveTo>
                    <a:lnTo>
                      <a:pt x="243" y="60"/>
                    </a:lnTo>
                    <a:lnTo>
                      <a:pt x="209" y="200"/>
                    </a:lnTo>
                    <a:lnTo>
                      <a:pt x="157" y="359"/>
                    </a:lnTo>
                    <a:lnTo>
                      <a:pt x="87" y="459"/>
                    </a:lnTo>
                    <a:lnTo>
                      <a:pt x="70" y="540"/>
                    </a:lnTo>
                    <a:lnTo>
                      <a:pt x="53" y="599"/>
                    </a:lnTo>
                    <a:lnTo>
                      <a:pt x="70" y="619"/>
                    </a:lnTo>
                    <a:lnTo>
                      <a:pt x="35" y="679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1994400" y="1278360"/>
                <a:ext cx="235080" cy="243720"/>
              </a:xfrm>
              <a:custGeom>
                <a:avLst/>
                <a:gdLst/>
                <a:ahLst/>
                <a:rect l="l" t="t" r="r" b="b"/>
                <a:pathLst>
                  <a:path w="312" h="719">
                    <a:moveTo>
                      <a:pt x="312" y="0"/>
                    </a:moveTo>
                    <a:lnTo>
                      <a:pt x="312" y="60"/>
                    </a:lnTo>
                    <a:lnTo>
                      <a:pt x="295" y="160"/>
                    </a:lnTo>
                    <a:lnTo>
                      <a:pt x="261" y="239"/>
                    </a:lnTo>
                    <a:lnTo>
                      <a:pt x="244" y="300"/>
                    </a:lnTo>
                    <a:lnTo>
                      <a:pt x="226" y="379"/>
                    </a:lnTo>
                    <a:lnTo>
                      <a:pt x="209" y="479"/>
                    </a:lnTo>
                    <a:lnTo>
                      <a:pt x="157" y="560"/>
                    </a:lnTo>
                    <a:lnTo>
                      <a:pt x="70" y="658"/>
                    </a:lnTo>
                    <a:lnTo>
                      <a:pt x="0" y="7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2031840" y="1379880"/>
                <a:ext cx="197640" cy="242280"/>
              </a:xfrm>
              <a:custGeom>
                <a:avLst/>
                <a:gdLst/>
                <a:ahLst/>
                <a:rect l="l" t="t" r="r" b="b"/>
                <a:pathLst>
                  <a:path w="260" h="718">
                    <a:moveTo>
                      <a:pt x="260" y="0"/>
                    </a:moveTo>
                    <a:lnTo>
                      <a:pt x="260" y="60"/>
                    </a:lnTo>
                    <a:lnTo>
                      <a:pt x="225" y="179"/>
                    </a:lnTo>
                    <a:lnTo>
                      <a:pt x="157" y="299"/>
                    </a:lnTo>
                    <a:lnTo>
                      <a:pt x="87" y="419"/>
                    </a:lnTo>
                    <a:lnTo>
                      <a:pt x="18" y="579"/>
                    </a:lnTo>
                    <a:lnTo>
                      <a:pt x="0" y="71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072520" y="1461240"/>
                <a:ext cx="156960" cy="223200"/>
              </a:xfrm>
              <a:custGeom>
                <a:avLst/>
                <a:gdLst/>
                <a:ahLst/>
                <a:rect l="l" t="t" r="r" b="b"/>
                <a:pathLst>
                  <a:path w="207" h="659">
                    <a:moveTo>
                      <a:pt x="207" y="0"/>
                    </a:moveTo>
                    <a:lnTo>
                      <a:pt x="207" y="60"/>
                    </a:lnTo>
                    <a:lnTo>
                      <a:pt x="190" y="219"/>
                    </a:lnTo>
                    <a:lnTo>
                      <a:pt x="104" y="419"/>
                    </a:lnTo>
                    <a:lnTo>
                      <a:pt x="87" y="440"/>
                    </a:lnTo>
                    <a:lnTo>
                      <a:pt x="34" y="539"/>
                    </a:lnTo>
                    <a:lnTo>
                      <a:pt x="0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2190240" y="1542240"/>
                <a:ext cx="78120" cy="100080"/>
              </a:xfrm>
              <a:custGeom>
                <a:avLst/>
                <a:gdLst/>
                <a:ahLst/>
                <a:rect l="l" t="t" r="r" b="b"/>
                <a:pathLst>
                  <a:path w="103" h="299">
                    <a:moveTo>
                      <a:pt x="103" y="0"/>
                    </a:moveTo>
                    <a:lnTo>
                      <a:pt x="103" y="40"/>
                    </a:lnTo>
                    <a:lnTo>
                      <a:pt x="69" y="160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2307960" y="1542240"/>
                <a:ext cx="117360" cy="20160"/>
              </a:xfrm>
              <a:custGeom>
                <a:avLst/>
                <a:gdLst/>
                <a:ahLst/>
                <a:rect l="l" t="t" r="r" b="b"/>
                <a:pathLst>
                  <a:path w="156" h="60">
                    <a:moveTo>
                      <a:pt x="0" y="0"/>
                    </a:moveTo>
                    <a:lnTo>
                      <a:pt x="34" y="19"/>
                    </a:lnTo>
                    <a:lnTo>
                      <a:pt x="86" y="60"/>
                    </a:lnTo>
                    <a:lnTo>
                      <a:pt x="156" y="6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2307960" y="148140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6" h="180">
                    <a:moveTo>
                      <a:pt x="0" y="0"/>
                    </a:moveTo>
                    <a:lnTo>
                      <a:pt x="17" y="20"/>
                    </a:lnTo>
                    <a:lnTo>
                      <a:pt x="34" y="40"/>
                    </a:lnTo>
                    <a:lnTo>
                      <a:pt x="52" y="59"/>
                    </a:lnTo>
                    <a:lnTo>
                      <a:pt x="121" y="80"/>
                    </a:lnTo>
                    <a:lnTo>
                      <a:pt x="156" y="120"/>
                    </a:lnTo>
                    <a:lnTo>
                      <a:pt x="156" y="18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2268720" y="1379880"/>
                <a:ext cx="117360" cy="60480"/>
              </a:xfrm>
              <a:custGeom>
                <a:avLst/>
                <a:gdLst/>
                <a:ahLst/>
                <a:rect l="l" t="t" r="r" b="b"/>
                <a:pathLst>
                  <a:path w="157" h="179">
                    <a:moveTo>
                      <a:pt x="0" y="0"/>
                    </a:moveTo>
                    <a:lnTo>
                      <a:pt x="18" y="39"/>
                    </a:lnTo>
                    <a:lnTo>
                      <a:pt x="70" y="119"/>
                    </a:lnTo>
                    <a:lnTo>
                      <a:pt x="157" y="17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2268720" y="1197000"/>
                <a:ext cx="39240" cy="101160"/>
              </a:xfrm>
              <a:custGeom>
                <a:avLst/>
                <a:gdLst/>
                <a:ahLst/>
                <a:rect l="l" t="t" r="r" b="b"/>
                <a:pathLst>
                  <a:path w="53" h="300">
                    <a:moveTo>
                      <a:pt x="0" y="0"/>
                    </a:moveTo>
                    <a:lnTo>
                      <a:pt x="18" y="40"/>
                    </a:lnTo>
                    <a:lnTo>
                      <a:pt x="53" y="160"/>
                    </a:lnTo>
                    <a:lnTo>
                      <a:pt x="53" y="3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63680" y="1257840"/>
                <a:ext cx="78120" cy="162360"/>
              </a:xfrm>
              <a:custGeom>
                <a:avLst/>
                <a:gdLst/>
                <a:ahLst/>
                <a:rect l="l" t="t" r="r" b="b"/>
                <a:pathLst>
                  <a:path w="105" h="478">
                    <a:moveTo>
                      <a:pt x="0" y="478"/>
                    </a:moveTo>
                    <a:lnTo>
                      <a:pt x="0" y="419"/>
                    </a:lnTo>
                    <a:lnTo>
                      <a:pt x="18" y="298"/>
                    </a:lnTo>
                    <a:lnTo>
                      <a:pt x="53" y="179"/>
                    </a:lnTo>
                    <a:lnTo>
                      <a:pt x="105" y="79"/>
                    </a:lnTo>
                    <a:lnTo>
                      <a:pt x="105" y="19"/>
                    </a:lnTo>
                    <a:lnTo>
                      <a:pt x="10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581400" y="1278360"/>
                <a:ext cx="78120" cy="182880"/>
              </a:xfrm>
              <a:custGeom>
                <a:avLst/>
                <a:gdLst/>
                <a:ahLst/>
                <a:rect l="l" t="t" r="r" b="b"/>
                <a:pathLst>
                  <a:path w="104" h="539">
                    <a:moveTo>
                      <a:pt x="0" y="0"/>
                    </a:moveTo>
                    <a:lnTo>
                      <a:pt x="17" y="20"/>
                    </a:lnTo>
                    <a:lnTo>
                      <a:pt x="35" y="100"/>
                    </a:lnTo>
                    <a:lnTo>
                      <a:pt x="52" y="179"/>
                    </a:lnTo>
                    <a:lnTo>
                      <a:pt x="87" y="239"/>
                    </a:lnTo>
                    <a:lnTo>
                      <a:pt x="104" y="379"/>
                    </a:lnTo>
                    <a:lnTo>
                      <a:pt x="104" y="53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318960" y="1156320"/>
                <a:ext cx="262080" cy="223560"/>
              </a:xfrm>
              <a:custGeom>
                <a:avLst/>
                <a:gdLst/>
                <a:ahLst/>
                <a:rect l="l" t="t" r="r" b="b"/>
                <a:pathLst>
                  <a:path w="347" h="659">
                    <a:moveTo>
                      <a:pt x="347" y="0"/>
                    </a:moveTo>
                    <a:lnTo>
                      <a:pt x="329" y="19"/>
                    </a:lnTo>
                    <a:lnTo>
                      <a:pt x="277" y="100"/>
                    </a:lnTo>
                    <a:lnTo>
                      <a:pt x="243" y="179"/>
                    </a:lnTo>
                    <a:lnTo>
                      <a:pt x="190" y="279"/>
                    </a:lnTo>
                    <a:lnTo>
                      <a:pt x="156" y="359"/>
                    </a:lnTo>
                    <a:lnTo>
                      <a:pt x="86" y="419"/>
                    </a:lnTo>
                    <a:lnTo>
                      <a:pt x="35" y="479"/>
                    </a:lnTo>
                    <a:lnTo>
                      <a:pt x="0" y="579"/>
                    </a:lnTo>
                    <a:lnTo>
                      <a:pt x="35" y="65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20640" y="1156320"/>
                <a:ext cx="78120" cy="203040"/>
              </a:xfrm>
              <a:custGeom>
                <a:avLst/>
                <a:gdLst/>
                <a:ahLst/>
                <a:rect l="l" t="t" r="r" b="b"/>
                <a:pathLst>
                  <a:path w="104" h="598">
                    <a:moveTo>
                      <a:pt x="0" y="0"/>
                    </a:moveTo>
                    <a:lnTo>
                      <a:pt x="0" y="59"/>
                    </a:lnTo>
                    <a:lnTo>
                      <a:pt x="0" y="219"/>
                    </a:lnTo>
                    <a:lnTo>
                      <a:pt x="0" y="359"/>
                    </a:lnTo>
                    <a:lnTo>
                      <a:pt x="52" y="419"/>
                    </a:lnTo>
                    <a:lnTo>
                      <a:pt x="104" y="519"/>
                    </a:lnTo>
                    <a:lnTo>
                      <a:pt x="104" y="598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385560" y="1055160"/>
                <a:ext cx="273960" cy="162360"/>
              </a:xfrm>
              <a:custGeom>
                <a:avLst/>
                <a:gdLst/>
                <a:ahLst/>
                <a:rect l="l" t="t" r="r" b="b"/>
                <a:pathLst>
                  <a:path w="365" h="479">
                    <a:moveTo>
                      <a:pt x="0" y="479"/>
                    </a:moveTo>
                    <a:lnTo>
                      <a:pt x="35" y="459"/>
                    </a:lnTo>
                    <a:lnTo>
                      <a:pt x="87" y="379"/>
                    </a:lnTo>
                    <a:lnTo>
                      <a:pt x="104" y="300"/>
                    </a:lnTo>
                    <a:lnTo>
                      <a:pt x="157" y="240"/>
                    </a:lnTo>
                    <a:lnTo>
                      <a:pt x="243" y="160"/>
                    </a:lnTo>
                    <a:lnTo>
                      <a:pt x="313" y="119"/>
                    </a:lnTo>
                    <a:lnTo>
                      <a:pt x="348" y="60"/>
                    </a:lnTo>
                    <a:lnTo>
                      <a:pt x="365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99120" y="1055160"/>
                <a:ext cx="38880" cy="141840"/>
              </a:xfrm>
              <a:custGeom>
                <a:avLst/>
                <a:gdLst/>
                <a:ahLst/>
                <a:rect l="l" t="t" r="r" b="b"/>
                <a:pathLst>
                  <a:path w="51" h="419">
                    <a:moveTo>
                      <a:pt x="0" y="0"/>
                    </a:moveTo>
                    <a:lnTo>
                      <a:pt x="0" y="80"/>
                    </a:lnTo>
                    <a:lnTo>
                      <a:pt x="0" y="259"/>
                    </a:lnTo>
                    <a:lnTo>
                      <a:pt x="51" y="41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63680" y="993960"/>
                <a:ext cx="273960" cy="81360"/>
              </a:xfrm>
              <a:custGeom>
                <a:avLst/>
                <a:gdLst/>
                <a:ahLst/>
                <a:rect l="l" t="t" r="r" b="b"/>
                <a:pathLst>
                  <a:path w="364" h="239">
                    <a:moveTo>
                      <a:pt x="0" y="239"/>
                    </a:moveTo>
                    <a:lnTo>
                      <a:pt x="18" y="219"/>
                    </a:lnTo>
                    <a:lnTo>
                      <a:pt x="70" y="179"/>
                    </a:lnTo>
                    <a:lnTo>
                      <a:pt x="105" y="119"/>
                    </a:lnTo>
                    <a:lnTo>
                      <a:pt x="122" y="79"/>
                    </a:lnTo>
                    <a:lnTo>
                      <a:pt x="174" y="59"/>
                    </a:lnTo>
                    <a:lnTo>
                      <a:pt x="209" y="59"/>
                    </a:lnTo>
                    <a:lnTo>
                      <a:pt x="279" y="19"/>
                    </a:lnTo>
                    <a:lnTo>
                      <a:pt x="348" y="0"/>
                    </a:lnTo>
                    <a:lnTo>
                      <a:pt x="364" y="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59520" y="865080"/>
                <a:ext cx="313560" cy="67680"/>
              </a:xfrm>
              <a:custGeom>
                <a:avLst/>
                <a:gdLst/>
                <a:ahLst/>
                <a:rect l="l" t="t" r="r" b="b"/>
                <a:pathLst>
                  <a:path w="416" h="200">
                    <a:moveTo>
                      <a:pt x="416" y="21"/>
                    </a:moveTo>
                    <a:lnTo>
                      <a:pt x="399" y="0"/>
                    </a:lnTo>
                    <a:lnTo>
                      <a:pt x="364" y="0"/>
                    </a:lnTo>
                    <a:lnTo>
                      <a:pt x="312" y="21"/>
                    </a:lnTo>
                    <a:lnTo>
                      <a:pt x="208" y="61"/>
                    </a:lnTo>
                    <a:lnTo>
                      <a:pt x="70" y="121"/>
                    </a:lnTo>
                    <a:lnTo>
                      <a:pt x="0" y="200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16480" y="912960"/>
                <a:ext cx="78120" cy="101160"/>
              </a:xfrm>
              <a:custGeom>
                <a:avLst/>
                <a:gdLst/>
                <a:ahLst/>
                <a:rect l="l" t="t" r="r" b="b"/>
                <a:pathLst>
                  <a:path w="104" h="299">
                    <a:moveTo>
                      <a:pt x="104" y="0"/>
                    </a:moveTo>
                    <a:lnTo>
                      <a:pt x="87" y="40"/>
                    </a:lnTo>
                    <a:lnTo>
                      <a:pt x="35" y="159"/>
                    </a:lnTo>
                    <a:lnTo>
                      <a:pt x="0" y="299"/>
                    </a:lnTo>
                  </a:path>
                </a:pathLst>
              </a:custGeom>
              <a:noFill/>
              <a:ln w="1440">
                <a:solidFill>
                  <a:srgbClr val="9965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1863000" y="1014120"/>
                <a:ext cx="523080" cy="608040"/>
              </a:xfrm>
              <a:custGeom>
                <a:avLst/>
                <a:gdLst/>
                <a:ahLst/>
                <a:rect l="l" t="t" r="r" b="b"/>
                <a:pathLst>
                  <a:path w="695" h="1797">
                    <a:moveTo>
                      <a:pt x="18" y="60"/>
                    </a:moveTo>
                    <a:lnTo>
                      <a:pt x="105" y="60"/>
                    </a:lnTo>
                    <a:lnTo>
                      <a:pt x="296" y="139"/>
                    </a:lnTo>
                    <a:lnTo>
                      <a:pt x="435" y="360"/>
                    </a:lnTo>
                    <a:lnTo>
                      <a:pt x="504" y="679"/>
                    </a:lnTo>
                    <a:lnTo>
                      <a:pt x="521" y="939"/>
                    </a:lnTo>
                    <a:lnTo>
                      <a:pt x="486" y="1139"/>
                    </a:lnTo>
                    <a:lnTo>
                      <a:pt x="504" y="1318"/>
                    </a:lnTo>
                    <a:lnTo>
                      <a:pt x="556" y="1577"/>
                    </a:lnTo>
                    <a:lnTo>
                      <a:pt x="643" y="1797"/>
                    </a:lnTo>
                    <a:lnTo>
                      <a:pt x="677" y="1797"/>
                    </a:lnTo>
                    <a:lnTo>
                      <a:pt x="695" y="1797"/>
                    </a:lnTo>
                    <a:lnTo>
                      <a:pt x="608" y="1577"/>
                    </a:lnTo>
                    <a:lnTo>
                      <a:pt x="556" y="1298"/>
                    </a:lnTo>
                    <a:lnTo>
                      <a:pt x="538" y="1079"/>
                    </a:lnTo>
                    <a:lnTo>
                      <a:pt x="573" y="918"/>
                    </a:lnTo>
                    <a:lnTo>
                      <a:pt x="556" y="659"/>
                    </a:lnTo>
                    <a:lnTo>
                      <a:pt x="486" y="360"/>
                    </a:lnTo>
                    <a:lnTo>
                      <a:pt x="435" y="239"/>
                    </a:lnTo>
                    <a:lnTo>
                      <a:pt x="366" y="160"/>
                    </a:lnTo>
                    <a:lnTo>
                      <a:pt x="296" y="100"/>
                    </a:lnTo>
                    <a:lnTo>
                      <a:pt x="209" y="60"/>
                    </a:lnTo>
                    <a:lnTo>
                      <a:pt x="140" y="60"/>
                    </a:lnTo>
                    <a:lnTo>
                      <a:pt x="87" y="60"/>
                    </a:lnTo>
                    <a:lnTo>
                      <a:pt x="70" y="60"/>
                    </a:lnTo>
                    <a:lnTo>
                      <a:pt x="53" y="41"/>
                    </a:lnTo>
                    <a:lnTo>
                      <a:pt x="35" y="20"/>
                    </a:lnTo>
                    <a:lnTo>
                      <a:pt x="18" y="0"/>
                    </a:lnTo>
                    <a:lnTo>
                      <a:pt x="0" y="20"/>
                    </a:lnTo>
                    <a:lnTo>
                      <a:pt x="0" y="41"/>
                    </a:lnTo>
                    <a:lnTo>
                      <a:pt x="18" y="60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724680" y="873360"/>
                <a:ext cx="1243800" cy="668520"/>
              </a:xfrm>
              <a:custGeom>
                <a:avLst/>
                <a:gdLst/>
                <a:ahLst/>
                <a:rect l="l" t="t" r="r" b="b"/>
                <a:pathLst>
                  <a:path w="1648" h="1977">
                    <a:moveTo>
                      <a:pt x="1475" y="479"/>
                    </a:moveTo>
                    <a:lnTo>
                      <a:pt x="1475" y="460"/>
                    </a:lnTo>
                    <a:lnTo>
                      <a:pt x="1475" y="439"/>
                    </a:lnTo>
                    <a:lnTo>
                      <a:pt x="1475" y="419"/>
                    </a:lnTo>
                    <a:lnTo>
                      <a:pt x="1440" y="379"/>
                    </a:lnTo>
                    <a:lnTo>
                      <a:pt x="1405" y="360"/>
                    </a:lnTo>
                    <a:lnTo>
                      <a:pt x="1370" y="360"/>
                    </a:lnTo>
                    <a:lnTo>
                      <a:pt x="1301" y="339"/>
                    </a:lnTo>
                    <a:lnTo>
                      <a:pt x="1249" y="299"/>
                    </a:lnTo>
                    <a:lnTo>
                      <a:pt x="1214" y="299"/>
                    </a:lnTo>
                    <a:lnTo>
                      <a:pt x="1197" y="260"/>
                    </a:lnTo>
                    <a:lnTo>
                      <a:pt x="1179" y="239"/>
                    </a:lnTo>
                    <a:lnTo>
                      <a:pt x="1162" y="239"/>
                    </a:lnTo>
                    <a:lnTo>
                      <a:pt x="1127" y="260"/>
                    </a:lnTo>
                    <a:lnTo>
                      <a:pt x="1057" y="260"/>
                    </a:lnTo>
                    <a:lnTo>
                      <a:pt x="1005" y="239"/>
                    </a:lnTo>
                    <a:lnTo>
                      <a:pt x="1005" y="200"/>
                    </a:lnTo>
                    <a:lnTo>
                      <a:pt x="1005" y="139"/>
                    </a:lnTo>
                    <a:lnTo>
                      <a:pt x="1005" y="120"/>
                    </a:lnTo>
                    <a:lnTo>
                      <a:pt x="972" y="100"/>
                    </a:lnTo>
                    <a:lnTo>
                      <a:pt x="919" y="79"/>
                    </a:lnTo>
                    <a:lnTo>
                      <a:pt x="902" y="60"/>
                    </a:lnTo>
                    <a:lnTo>
                      <a:pt x="833" y="0"/>
                    </a:lnTo>
                    <a:lnTo>
                      <a:pt x="763" y="0"/>
                    </a:lnTo>
                    <a:lnTo>
                      <a:pt x="693" y="0"/>
                    </a:lnTo>
                    <a:lnTo>
                      <a:pt x="624" y="20"/>
                    </a:lnTo>
                    <a:lnTo>
                      <a:pt x="554" y="60"/>
                    </a:lnTo>
                    <a:lnTo>
                      <a:pt x="502" y="100"/>
                    </a:lnTo>
                    <a:lnTo>
                      <a:pt x="468" y="139"/>
                    </a:lnTo>
                    <a:lnTo>
                      <a:pt x="434" y="179"/>
                    </a:lnTo>
                    <a:lnTo>
                      <a:pt x="399" y="239"/>
                    </a:lnTo>
                    <a:lnTo>
                      <a:pt x="347" y="279"/>
                    </a:lnTo>
                    <a:lnTo>
                      <a:pt x="277" y="299"/>
                    </a:lnTo>
                    <a:lnTo>
                      <a:pt x="260" y="320"/>
                    </a:lnTo>
                    <a:lnTo>
                      <a:pt x="242" y="339"/>
                    </a:lnTo>
                    <a:lnTo>
                      <a:pt x="225" y="360"/>
                    </a:lnTo>
                    <a:lnTo>
                      <a:pt x="190" y="399"/>
                    </a:lnTo>
                    <a:lnTo>
                      <a:pt x="138" y="419"/>
                    </a:lnTo>
                    <a:lnTo>
                      <a:pt x="121" y="419"/>
                    </a:lnTo>
                    <a:lnTo>
                      <a:pt x="51" y="460"/>
                    </a:lnTo>
                    <a:lnTo>
                      <a:pt x="35" y="539"/>
                    </a:lnTo>
                    <a:lnTo>
                      <a:pt x="16" y="599"/>
                    </a:lnTo>
                    <a:lnTo>
                      <a:pt x="51" y="639"/>
                    </a:lnTo>
                    <a:lnTo>
                      <a:pt x="51" y="679"/>
                    </a:lnTo>
                    <a:lnTo>
                      <a:pt x="16" y="719"/>
                    </a:lnTo>
                    <a:lnTo>
                      <a:pt x="0" y="758"/>
                    </a:lnTo>
                    <a:lnTo>
                      <a:pt x="0" y="798"/>
                    </a:lnTo>
                    <a:lnTo>
                      <a:pt x="16" y="839"/>
                    </a:lnTo>
                    <a:lnTo>
                      <a:pt x="35" y="879"/>
                    </a:lnTo>
                    <a:lnTo>
                      <a:pt x="35" y="918"/>
                    </a:lnTo>
                    <a:lnTo>
                      <a:pt x="16" y="958"/>
                    </a:lnTo>
                    <a:lnTo>
                      <a:pt x="0" y="998"/>
                    </a:lnTo>
                    <a:lnTo>
                      <a:pt x="0" y="1039"/>
                    </a:lnTo>
                    <a:lnTo>
                      <a:pt x="16" y="1078"/>
                    </a:lnTo>
                    <a:lnTo>
                      <a:pt x="16" y="1139"/>
                    </a:lnTo>
                    <a:lnTo>
                      <a:pt x="16" y="1177"/>
                    </a:lnTo>
                    <a:lnTo>
                      <a:pt x="16" y="1198"/>
                    </a:lnTo>
                    <a:lnTo>
                      <a:pt x="16" y="1238"/>
                    </a:lnTo>
                    <a:lnTo>
                      <a:pt x="16" y="1298"/>
                    </a:lnTo>
                    <a:lnTo>
                      <a:pt x="16" y="1377"/>
                    </a:lnTo>
                    <a:lnTo>
                      <a:pt x="51" y="1437"/>
                    </a:lnTo>
                    <a:lnTo>
                      <a:pt x="86" y="1458"/>
                    </a:lnTo>
                    <a:lnTo>
                      <a:pt x="121" y="1498"/>
                    </a:lnTo>
                    <a:lnTo>
                      <a:pt x="138" y="1537"/>
                    </a:lnTo>
                    <a:lnTo>
                      <a:pt x="138" y="1577"/>
                    </a:lnTo>
                    <a:lnTo>
                      <a:pt x="121" y="1617"/>
                    </a:lnTo>
                    <a:lnTo>
                      <a:pt x="190" y="1677"/>
                    </a:lnTo>
                    <a:lnTo>
                      <a:pt x="242" y="1717"/>
                    </a:lnTo>
                    <a:lnTo>
                      <a:pt x="277" y="1737"/>
                    </a:lnTo>
                    <a:lnTo>
                      <a:pt x="329" y="1737"/>
                    </a:lnTo>
                    <a:lnTo>
                      <a:pt x="364" y="1758"/>
                    </a:lnTo>
                    <a:lnTo>
                      <a:pt x="382" y="1797"/>
                    </a:lnTo>
                    <a:lnTo>
                      <a:pt x="382" y="1817"/>
                    </a:lnTo>
                    <a:lnTo>
                      <a:pt x="416" y="1837"/>
                    </a:lnTo>
                    <a:lnTo>
                      <a:pt x="434" y="1856"/>
                    </a:lnTo>
                    <a:lnTo>
                      <a:pt x="468" y="1837"/>
                    </a:lnTo>
                    <a:lnTo>
                      <a:pt x="502" y="1837"/>
                    </a:lnTo>
                    <a:lnTo>
                      <a:pt x="537" y="1856"/>
                    </a:lnTo>
                    <a:lnTo>
                      <a:pt x="554" y="1877"/>
                    </a:lnTo>
                    <a:lnTo>
                      <a:pt x="572" y="1897"/>
                    </a:lnTo>
                    <a:lnTo>
                      <a:pt x="589" y="1917"/>
                    </a:lnTo>
                    <a:lnTo>
                      <a:pt x="641" y="1917"/>
                    </a:lnTo>
                    <a:lnTo>
                      <a:pt x="693" y="1937"/>
                    </a:lnTo>
                    <a:lnTo>
                      <a:pt x="746" y="1977"/>
                    </a:lnTo>
                    <a:lnTo>
                      <a:pt x="798" y="1977"/>
                    </a:lnTo>
                    <a:lnTo>
                      <a:pt x="833" y="1977"/>
                    </a:lnTo>
                    <a:lnTo>
                      <a:pt x="850" y="1977"/>
                    </a:lnTo>
                    <a:lnTo>
                      <a:pt x="885" y="1937"/>
                    </a:lnTo>
                    <a:lnTo>
                      <a:pt x="937" y="1917"/>
                    </a:lnTo>
                    <a:lnTo>
                      <a:pt x="1005" y="1917"/>
                    </a:lnTo>
                    <a:lnTo>
                      <a:pt x="1040" y="1917"/>
                    </a:lnTo>
                    <a:lnTo>
                      <a:pt x="1075" y="1897"/>
                    </a:lnTo>
                    <a:lnTo>
                      <a:pt x="1110" y="1856"/>
                    </a:lnTo>
                    <a:lnTo>
                      <a:pt x="1162" y="1856"/>
                    </a:lnTo>
                    <a:lnTo>
                      <a:pt x="1197" y="1856"/>
                    </a:lnTo>
                    <a:lnTo>
                      <a:pt x="1214" y="1856"/>
                    </a:lnTo>
                    <a:lnTo>
                      <a:pt x="1249" y="1856"/>
                    </a:lnTo>
                    <a:lnTo>
                      <a:pt x="1301" y="1837"/>
                    </a:lnTo>
                    <a:lnTo>
                      <a:pt x="1318" y="1797"/>
                    </a:lnTo>
                    <a:lnTo>
                      <a:pt x="1336" y="1777"/>
                    </a:lnTo>
                    <a:lnTo>
                      <a:pt x="1370" y="1777"/>
                    </a:lnTo>
                    <a:lnTo>
                      <a:pt x="1370" y="1797"/>
                    </a:lnTo>
                    <a:lnTo>
                      <a:pt x="1457" y="1737"/>
                    </a:lnTo>
                    <a:lnTo>
                      <a:pt x="1508" y="1658"/>
                    </a:lnTo>
                    <a:lnTo>
                      <a:pt x="1526" y="1617"/>
                    </a:lnTo>
                    <a:lnTo>
                      <a:pt x="1543" y="1558"/>
                    </a:lnTo>
                    <a:lnTo>
                      <a:pt x="1561" y="1437"/>
                    </a:lnTo>
                    <a:lnTo>
                      <a:pt x="1578" y="1377"/>
                    </a:lnTo>
                    <a:lnTo>
                      <a:pt x="1613" y="1277"/>
                    </a:lnTo>
                    <a:lnTo>
                      <a:pt x="1648" y="1158"/>
                    </a:lnTo>
                    <a:lnTo>
                      <a:pt x="1630" y="1018"/>
                    </a:lnTo>
                    <a:lnTo>
                      <a:pt x="1630" y="898"/>
                    </a:lnTo>
                    <a:lnTo>
                      <a:pt x="1613" y="858"/>
                    </a:lnTo>
                    <a:lnTo>
                      <a:pt x="1578" y="839"/>
                    </a:lnTo>
                    <a:lnTo>
                      <a:pt x="1561" y="758"/>
                    </a:lnTo>
                    <a:lnTo>
                      <a:pt x="1526" y="658"/>
                    </a:lnTo>
                    <a:lnTo>
                      <a:pt x="1475" y="539"/>
                    </a:lnTo>
                    <a:lnTo>
                      <a:pt x="1475" y="479"/>
                    </a:lnTo>
                    <a:close/>
                  </a:path>
                </a:pathLst>
              </a:custGeom>
              <a:solidFill>
                <a:srgbClr val="996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763560" y="919440"/>
                <a:ext cx="1152000" cy="609120"/>
              </a:xfrm>
              <a:custGeom>
                <a:avLst/>
                <a:gdLst/>
                <a:ahLst/>
                <a:rect l="l" t="t" r="r" b="b"/>
                <a:pathLst>
                  <a:path w="1527" h="1798">
                    <a:moveTo>
                      <a:pt x="851" y="40"/>
                    </a:moveTo>
                    <a:lnTo>
                      <a:pt x="868" y="61"/>
                    </a:lnTo>
                    <a:lnTo>
                      <a:pt x="886" y="100"/>
                    </a:lnTo>
                    <a:lnTo>
                      <a:pt x="903" y="100"/>
                    </a:lnTo>
                    <a:lnTo>
                      <a:pt x="903" y="121"/>
                    </a:lnTo>
                    <a:lnTo>
                      <a:pt x="921" y="181"/>
                    </a:lnTo>
                    <a:lnTo>
                      <a:pt x="954" y="221"/>
                    </a:lnTo>
                    <a:lnTo>
                      <a:pt x="972" y="240"/>
                    </a:lnTo>
                    <a:lnTo>
                      <a:pt x="1024" y="240"/>
                    </a:lnTo>
                    <a:lnTo>
                      <a:pt x="1059" y="221"/>
                    </a:lnTo>
                    <a:lnTo>
                      <a:pt x="1076" y="221"/>
                    </a:lnTo>
                    <a:lnTo>
                      <a:pt x="1093" y="240"/>
                    </a:lnTo>
                    <a:lnTo>
                      <a:pt x="1111" y="280"/>
                    </a:lnTo>
                    <a:lnTo>
                      <a:pt x="1146" y="280"/>
                    </a:lnTo>
                    <a:lnTo>
                      <a:pt x="1180" y="300"/>
                    </a:lnTo>
                    <a:lnTo>
                      <a:pt x="1215" y="340"/>
                    </a:lnTo>
                    <a:lnTo>
                      <a:pt x="1267" y="340"/>
                    </a:lnTo>
                    <a:lnTo>
                      <a:pt x="1302" y="360"/>
                    </a:lnTo>
                    <a:lnTo>
                      <a:pt x="1319" y="400"/>
                    </a:lnTo>
                    <a:lnTo>
                      <a:pt x="1337" y="419"/>
                    </a:lnTo>
                    <a:lnTo>
                      <a:pt x="1337" y="440"/>
                    </a:lnTo>
                    <a:lnTo>
                      <a:pt x="1319" y="460"/>
                    </a:lnTo>
                    <a:lnTo>
                      <a:pt x="1372" y="519"/>
                    </a:lnTo>
                    <a:lnTo>
                      <a:pt x="1406" y="600"/>
                    </a:lnTo>
                    <a:lnTo>
                      <a:pt x="1424" y="700"/>
                    </a:lnTo>
                    <a:lnTo>
                      <a:pt x="1424" y="759"/>
                    </a:lnTo>
                    <a:lnTo>
                      <a:pt x="1475" y="779"/>
                    </a:lnTo>
                    <a:lnTo>
                      <a:pt x="1510" y="819"/>
                    </a:lnTo>
                    <a:lnTo>
                      <a:pt x="1527" y="939"/>
                    </a:lnTo>
                    <a:lnTo>
                      <a:pt x="1510" y="1059"/>
                    </a:lnTo>
                    <a:lnTo>
                      <a:pt x="1475" y="1159"/>
                    </a:lnTo>
                    <a:lnTo>
                      <a:pt x="1424" y="1238"/>
                    </a:lnTo>
                    <a:lnTo>
                      <a:pt x="1406" y="1319"/>
                    </a:lnTo>
                    <a:lnTo>
                      <a:pt x="1389" y="1419"/>
                    </a:lnTo>
                    <a:lnTo>
                      <a:pt x="1372" y="1478"/>
                    </a:lnTo>
                    <a:lnTo>
                      <a:pt x="1354" y="1519"/>
                    </a:lnTo>
                    <a:lnTo>
                      <a:pt x="1319" y="1578"/>
                    </a:lnTo>
                    <a:lnTo>
                      <a:pt x="1267" y="1598"/>
                    </a:lnTo>
                    <a:lnTo>
                      <a:pt x="1250" y="1598"/>
                    </a:lnTo>
                    <a:lnTo>
                      <a:pt x="1232" y="1619"/>
                    </a:lnTo>
                    <a:lnTo>
                      <a:pt x="1215" y="1658"/>
                    </a:lnTo>
                    <a:lnTo>
                      <a:pt x="1198" y="1678"/>
                    </a:lnTo>
                    <a:lnTo>
                      <a:pt x="1146" y="1717"/>
                    </a:lnTo>
                    <a:lnTo>
                      <a:pt x="1111" y="1717"/>
                    </a:lnTo>
                    <a:lnTo>
                      <a:pt x="1093" y="1698"/>
                    </a:lnTo>
                    <a:lnTo>
                      <a:pt x="1059" y="1698"/>
                    </a:lnTo>
                    <a:lnTo>
                      <a:pt x="1006" y="1717"/>
                    </a:lnTo>
                    <a:lnTo>
                      <a:pt x="972" y="1738"/>
                    </a:lnTo>
                    <a:lnTo>
                      <a:pt x="938" y="1738"/>
                    </a:lnTo>
                    <a:lnTo>
                      <a:pt x="903" y="1717"/>
                    </a:lnTo>
                    <a:lnTo>
                      <a:pt x="851" y="1738"/>
                    </a:lnTo>
                    <a:lnTo>
                      <a:pt x="816" y="1758"/>
                    </a:lnTo>
                    <a:lnTo>
                      <a:pt x="799" y="1778"/>
                    </a:lnTo>
                    <a:lnTo>
                      <a:pt x="764" y="1798"/>
                    </a:lnTo>
                    <a:lnTo>
                      <a:pt x="729" y="1798"/>
                    </a:lnTo>
                    <a:lnTo>
                      <a:pt x="695" y="1778"/>
                    </a:lnTo>
                    <a:lnTo>
                      <a:pt x="642" y="1758"/>
                    </a:lnTo>
                    <a:lnTo>
                      <a:pt x="573" y="1738"/>
                    </a:lnTo>
                    <a:lnTo>
                      <a:pt x="538" y="1717"/>
                    </a:lnTo>
                    <a:lnTo>
                      <a:pt x="521" y="1717"/>
                    </a:lnTo>
                    <a:lnTo>
                      <a:pt x="503" y="1698"/>
                    </a:lnTo>
                    <a:lnTo>
                      <a:pt x="486" y="1658"/>
                    </a:lnTo>
                    <a:lnTo>
                      <a:pt x="451" y="1658"/>
                    </a:lnTo>
                    <a:lnTo>
                      <a:pt x="435" y="1658"/>
                    </a:lnTo>
                    <a:lnTo>
                      <a:pt x="383" y="1658"/>
                    </a:lnTo>
                    <a:lnTo>
                      <a:pt x="365" y="1658"/>
                    </a:lnTo>
                    <a:lnTo>
                      <a:pt x="348" y="1658"/>
                    </a:lnTo>
                    <a:lnTo>
                      <a:pt x="331" y="1658"/>
                    </a:lnTo>
                    <a:lnTo>
                      <a:pt x="331" y="1598"/>
                    </a:lnTo>
                    <a:lnTo>
                      <a:pt x="313" y="1578"/>
                    </a:lnTo>
                    <a:lnTo>
                      <a:pt x="278" y="1598"/>
                    </a:lnTo>
                    <a:lnTo>
                      <a:pt x="244" y="1558"/>
                    </a:lnTo>
                    <a:lnTo>
                      <a:pt x="174" y="1519"/>
                    </a:lnTo>
                    <a:lnTo>
                      <a:pt x="122" y="1478"/>
                    </a:lnTo>
                    <a:lnTo>
                      <a:pt x="122" y="1438"/>
                    </a:lnTo>
                    <a:lnTo>
                      <a:pt x="139" y="1398"/>
                    </a:lnTo>
                    <a:lnTo>
                      <a:pt x="122" y="1359"/>
                    </a:lnTo>
                    <a:lnTo>
                      <a:pt x="87" y="1338"/>
                    </a:lnTo>
                    <a:lnTo>
                      <a:pt x="52" y="1298"/>
                    </a:lnTo>
                    <a:lnTo>
                      <a:pt x="18" y="1238"/>
                    </a:lnTo>
                    <a:lnTo>
                      <a:pt x="18" y="1198"/>
                    </a:lnTo>
                    <a:lnTo>
                      <a:pt x="18" y="1138"/>
                    </a:lnTo>
                    <a:lnTo>
                      <a:pt x="18" y="1119"/>
                    </a:lnTo>
                    <a:lnTo>
                      <a:pt x="18" y="1099"/>
                    </a:lnTo>
                    <a:lnTo>
                      <a:pt x="18" y="1038"/>
                    </a:lnTo>
                    <a:lnTo>
                      <a:pt x="18" y="1000"/>
                    </a:lnTo>
                    <a:lnTo>
                      <a:pt x="0" y="959"/>
                    </a:lnTo>
                    <a:lnTo>
                      <a:pt x="0" y="900"/>
                    </a:lnTo>
                    <a:lnTo>
                      <a:pt x="18" y="879"/>
                    </a:lnTo>
                    <a:lnTo>
                      <a:pt x="35" y="840"/>
                    </a:lnTo>
                    <a:lnTo>
                      <a:pt x="35" y="800"/>
                    </a:lnTo>
                    <a:lnTo>
                      <a:pt x="18" y="759"/>
                    </a:lnTo>
                    <a:lnTo>
                      <a:pt x="18" y="740"/>
                    </a:lnTo>
                    <a:lnTo>
                      <a:pt x="18" y="700"/>
                    </a:lnTo>
                    <a:lnTo>
                      <a:pt x="35" y="640"/>
                    </a:lnTo>
                    <a:lnTo>
                      <a:pt x="52" y="600"/>
                    </a:lnTo>
                    <a:lnTo>
                      <a:pt x="18" y="580"/>
                    </a:lnTo>
                    <a:lnTo>
                      <a:pt x="35" y="519"/>
                    </a:lnTo>
                    <a:lnTo>
                      <a:pt x="52" y="440"/>
                    </a:lnTo>
                    <a:lnTo>
                      <a:pt x="122" y="400"/>
                    </a:lnTo>
                    <a:lnTo>
                      <a:pt x="139" y="400"/>
                    </a:lnTo>
                    <a:lnTo>
                      <a:pt x="157" y="380"/>
                    </a:lnTo>
                    <a:lnTo>
                      <a:pt x="174" y="340"/>
                    </a:lnTo>
                    <a:lnTo>
                      <a:pt x="209" y="321"/>
                    </a:lnTo>
                    <a:lnTo>
                      <a:pt x="244" y="300"/>
                    </a:lnTo>
                    <a:lnTo>
                      <a:pt x="278" y="280"/>
                    </a:lnTo>
                    <a:lnTo>
                      <a:pt x="331" y="260"/>
                    </a:lnTo>
                    <a:lnTo>
                      <a:pt x="383" y="221"/>
                    </a:lnTo>
                    <a:lnTo>
                      <a:pt x="435" y="160"/>
                    </a:lnTo>
                    <a:lnTo>
                      <a:pt x="486" y="100"/>
                    </a:lnTo>
                    <a:lnTo>
                      <a:pt x="573" y="21"/>
                    </a:lnTo>
                    <a:lnTo>
                      <a:pt x="712" y="0"/>
                    </a:lnTo>
                    <a:lnTo>
                      <a:pt x="851" y="40"/>
                    </a:lnTo>
                    <a:close/>
                  </a:path>
                </a:pathLst>
              </a:custGeom>
              <a:solidFill>
                <a:srgbClr val="8e5b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02800" y="973440"/>
                <a:ext cx="1034280" cy="548280"/>
              </a:xfrm>
              <a:custGeom>
                <a:avLst/>
                <a:gdLst/>
                <a:ahLst/>
                <a:rect l="l" t="t" r="r" b="b"/>
                <a:pathLst>
                  <a:path w="1372" h="1618">
                    <a:moveTo>
                      <a:pt x="747" y="61"/>
                    </a:moveTo>
                    <a:lnTo>
                      <a:pt x="764" y="61"/>
                    </a:lnTo>
                    <a:lnTo>
                      <a:pt x="799" y="100"/>
                    </a:lnTo>
                    <a:lnTo>
                      <a:pt x="851" y="120"/>
                    </a:lnTo>
                    <a:lnTo>
                      <a:pt x="851" y="140"/>
                    </a:lnTo>
                    <a:lnTo>
                      <a:pt x="851" y="161"/>
                    </a:lnTo>
                    <a:lnTo>
                      <a:pt x="851" y="180"/>
                    </a:lnTo>
                    <a:lnTo>
                      <a:pt x="886" y="200"/>
                    </a:lnTo>
                    <a:lnTo>
                      <a:pt x="920" y="200"/>
                    </a:lnTo>
                    <a:lnTo>
                      <a:pt x="954" y="180"/>
                    </a:lnTo>
                    <a:lnTo>
                      <a:pt x="972" y="180"/>
                    </a:lnTo>
                    <a:lnTo>
                      <a:pt x="989" y="200"/>
                    </a:lnTo>
                    <a:lnTo>
                      <a:pt x="1007" y="240"/>
                    </a:lnTo>
                    <a:lnTo>
                      <a:pt x="1041" y="240"/>
                    </a:lnTo>
                    <a:lnTo>
                      <a:pt x="1076" y="259"/>
                    </a:lnTo>
                    <a:lnTo>
                      <a:pt x="1111" y="300"/>
                    </a:lnTo>
                    <a:lnTo>
                      <a:pt x="1146" y="300"/>
                    </a:lnTo>
                    <a:lnTo>
                      <a:pt x="1180" y="300"/>
                    </a:lnTo>
                    <a:lnTo>
                      <a:pt x="1215" y="359"/>
                    </a:lnTo>
                    <a:lnTo>
                      <a:pt x="1215" y="380"/>
                    </a:lnTo>
                    <a:lnTo>
                      <a:pt x="1215" y="420"/>
                    </a:lnTo>
                    <a:lnTo>
                      <a:pt x="1267" y="519"/>
                    </a:lnTo>
                    <a:lnTo>
                      <a:pt x="1302" y="619"/>
                    </a:lnTo>
                    <a:lnTo>
                      <a:pt x="1320" y="659"/>
                    </a:lnTo>
                    <a:lnTo>
                      <a:pt x="1337" y="680"/>
                    </a:lnTo>
                    <a:lnTo>
                      <a:pt x="1354" y="740"/>
                    </a:lnTo>
                    <a:lnTo>
                      <a:pt x="1372" y="840"/>
                    </a:lnTo>
                    <a:lnTo>
                      <a:pt x="1354" y="939"/>
                    </a:lnTo>
                    <a:lnTo>
                      <a:pt x="1320" y="1038"/>
                    </a:lnTo>
                    <a:lnTo>
                      <a:pt x="1267" y="1078"/>
                    </a:lnTo>
                    <a:lnTo>
                      <a:pt x="1267" y="1159"/>
                    </a:lnTo>
                    <a:lnTo>
                      <a:pt x="1267" y="1259"/>
                    </a:lnTo>
                    <a:lnTo>
                      <a:pt x="1267" y="1318"/>
                    </a:lnTo>
                    <a:lnTo>
                      <a:pt x="1250" y="1338"/>
                    </a:lnTo>
                    <a:lnTo>
                      <a:pt x="1198" y="1418"/>
                    </a:lnTo>
                    <a:lnTo>
                      <a:pt x="1111" y="1438"/>
                    </a:lnTo>
                    <a:lnTo>
                      <a:pt x="1111" y="1459"/>
                    </a:lnTo>
                    <a:lnTo>
                      <a:pt x="1111" y="1498"/>
                    </a:lnTo>
                    <a:lnTo>
                      <a:pt x="1076" y="1498"/>
                    </a:lnTo>
                    <a:lnTo>
                      <a:pt x="1041" y="1518"/>
                    </a:lnTo>
                    <a:lnTo>
                      <a:pt x="1007" y="1498"/>
                    </a:lnTo>
                    <a:lnTo>
                      <a:pt x="989" y="1498"/>
                    </a:lnTo>
                    <a:lnTo>
                      <a:pt x="954" y="1518"/>
                    </a:lnTo>
                    <a:lnTo>
                      <a:pt x="902" y="1557"/>
                    </a:lnTo>
                    <a:lnTo>
                      <a:pt x="886" y="1557"/>
                    </a:lnTo>
                    <a:lnTo>
                      <a:pt x="851" y="1557"/>
                    </a:lnTo>
                    <a:lnTo>
                      <a:pt x="799" y="1557"/>
                    </a:lnTo>
                    <a:lnTo>
                      <a:pt x="764" y="1557"/>
                    </a:lnTo>
                    <a:lnTo>
                      <a:pt x="730" y="1578"/>
                    </a:lnTo>
                    <a:lnTo>
                      <a:pt x="695" y="1618"/>
                    </a:lnTo>
                    <a:lnTo>
                      <a:pt x="677" y="1618"/>
                    </a:lnTo>
                    <a:lnTo>
                      <a:pt x="643" y="1618"/>
                    </a:lnTo>
                    <a:lnTo>
                      <a:pt x="590" y="1618"/>
                    </a:lnTo>
                    <a:lnTo>
                      <a:pt x="556" y="1578"/>
                    </a:lnTo>
                    <a:lnTo>
                      <a:pt x="521" y="1557"/>
                    </a:lnTo>
                    <a:lnTo>
                      <a:pt x="486" y="1557"/>
                    </a:lnTo>
                    <a:lnTo>
                      <a:pt x="469" y="1538"/>
                    </a:lnTo>
                    <a:lnTo>
                      <a:pt x="451" y="1518"/>
                    </a:lnTo>
                    <a:lnTo>
                      <a:pt x="434" y="1498"/>
                    </a:lnTo>
                    <a:lnTo>
                      <a:pt x="418" y="1498"/>
                    </a:lnTo>
                    <a:lnTo>
                      <a:pt x="399" y="1498"/>
                    </a:lnTo>
                    <a:lnTo>
                      <a:pt x="383" y="1498"/>
                    </a:lnTo>
                    <a:lnTo>
                      <a:pt x="348" y="1478"/>
                    </a:lnTo>
                    <a:lnTo>
                      <a:pt x="331" y="1478"/>
                    </a:lnTo>
                    <a:lnTo>
                      <a:pt x="331" y="1438"/>
                    </a:lnTo>
                    <a:lnTo>
                      <a:pt x="313" y="1418"/>
                    </a:lnTo>
                    <a:lnTo>
                      <a:pt x="279" y="1398"/>
                    </a:lnTo>
                    <a:lnTo>
                      <a:pt x="226" y="1378"/>
                    </a:lnTo>
                    <a:lnTo>
                      <a:pt x="209" y="1378"/>
                    </a:lnTo>
                    <a:lnTo>
                      <a:pt x="157" y="1359"/>
                    </a:lnTo>
                    <a:lnTo>
                      <a:pt x="122" y="1318"/>
                    </a:lnTo>
                    <a:lnTo>
                      <a:pt x="122" y="1278"/>
                    </a:lnTo>
                    <a:lnTo>
                      <a:pt x="122" y="1259"/>
                    </a:lnTo>
                    <a:lnTo>
                      <a:pt x="87" y="1199"/>
                    </a:lnTo>
                    <a:lnTo>
                      <a:pt x="53" y="1159"/>
                    </a:lnTo>
                    <a:lnTo>
                      <a:pt x="18" y="1078"/>
                    </a:lnTo>
                    <a:lnTo>
                      <a:pt x="18" y="1059"/>
                    </a:lnTo>
                    <a:lnTo>
                      <a:pt x="18" y="1019"/>
                    </a:lnTo>
                    <a:lnTo>
                      <a:pt x="18" y="999"/>
                    </a:lnTo>
                    <a:lnTo>
                      <a:pt x="18" y="939"/>
                    </a:lnTo>
                    <a:lnTo>
                      <a:pt x="18" y="899"/>
                    </a:lnTo>
                    <a:lnTo>
                      <a:pt x="18" y="859"/>
                    </a:lnTo>
                    <a:lnTo>
                      <a:pt x="0" y="799"/>
                    </a:lnTo>
                    <a:lnTo>
                      <a:pt x="18" y="779"/>
                    </a:lnTo>
                    <a:lnTo>
                      <a:pt x="35" y="740"/>
                    </a:lnTo>
                    <a:lnTo>
                      <a:pt x="35" y="719"/>
                    </a:lnTo>
                    <a:lnTo>
                      <a:pt x="18" y="719"/>
                    </a:lnTo>
                    <a:lnTo>
                      <a:pt x="18" y="659"/>
                    </a:lnTo>
                    <a:lnTo>
                      <a:pt x="18" y="619"/>
                    </a:lnTo>
                    <a:lnTo>
                      <a:pt x="18" y="599"/>
                    </a:lnTo>
                    <a:lnTo>
                      <a:pt x="35" y="559"/>
                    </a:lnTo>
                    <a:lnTo>
                      <a:pt x="53" y="519"/>
                    </a:lnTo>
                    <a:lnTo>
                      <a:pt x="18" y="480"/>
                    </a:lnTo>
                    <a:lnTo>
                      <a:pt x="35" y="440"/>
                    </a:lnTo>
                    <a:lnTo>
                      <a:pt x="53" y="380"/>
                    </a:lnTo>
                    <a:lnTo>
                      <a:pt x="122" y="359"/>
                    </a:lnTo>
                    <a:lnTo>
                      <a:pt x="139" y="340"/>
                    </a:lnTo>
                    <a:lnTo>
                      <a:pt x="157" y="320"/>
                    </a:lnTo>
                    <a:lnTo>
                      <a:pt x="174" y="300"/>
                    </a:lnTo>
                    <a:lnTo>
                      <a:pt x="209" y="280"/>
                    </a:lnTo>
                    <a:lnTo>
                      <a:pt x="244" y="259"/>
                    </a:lnTo>
                    <a:lnTo>
                      <a:pt x="279" y="240"/>
                    </a:lnTo>
                    <a:lnTo>
                      <a:pt x="296" y="220"/>
                    </a:lnTo>
                    <a:lnTo>
                      <a:pt x="348" y="180"/>
                    </a:lnTo>
                    <a:lnTo>
                      <a:pt x="383" y="120"/>
                    </a:lnTo>
                    <a:lnTo>
                      <a:pt x="451" y="61"/>
                    </a:lnTo>
                    <a:lnTo>
                      <a:pt x="590" y="0"/>
                    </a:lnTo>
                    <a:lnTo>
                      <a:pt x="747" y="61"/>
                    </a:lnTo>
                    <a:close/>
                  </a:path>
                </a:pathLst>
              </a:custGeom>
              <a:solidFill>
                <a:srgbClr val="8350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43480" y="1020960"/>
                <a:ext cx="913680" cy="487440"/>
              </a:xfrm>
              <a:custGeom>
                <a:avLst/>
                <a:gdLst/>
                <a:ahLst/>
                <a:rect l="l" t="t" r="r" b="b"/>
                <a:pathLst>
                  <a:path w="1214" h="1438">
                    <a:moveTo>
                      <a:pt x="642" y="40"/>
                    </a:moveTo>
                    <a:lnTo>
                      <a:pt x="659" y="40"/>
                    </a:lnTo>
                    <a:lnTo>
                      <a:pt x="711" y="80"/>
                    </a:lnTo>
                    <a:lnTo>
                      <a:pt x="746" y="100"/>
                    </a:lnTo>
                    <a:lnTo>
                      <a:pt x="746" y="119"/>
                    </a:lnTo>
                    <a:lnTo>
                      <a:pt x="746" y="140"/>
                    </a:lnTo>
                    <a:lnTo>
                      <a:pt x="746" y="160"/>
                    </a:lnTo>
                    <a:lnTo>
                      <a:pt x="781" y="180"/>
                    </a:lnTo>
                    <a:lnTo>
                      <a:pt x="816" y="180"/>
                    </a:lnTo>
                    <a:lnTo>
                      <a:pt x="849" y="160"/>
                    </a:lnTo>
                    <a:lnTo>
                      <a:pt x="867" y="160"/>
                    </a:lnTo>
                    <a:lnTo>
                      <a:pt x="884" y="180"/>
                    </a:lnTo>
                    <a:lnTo>
                      <a:pt x="901" y="219"/>
                    </a:lnTo>
                    <a:lnTo>
                      <a:pt x="919" y="219"/>
                    </a:lnTo>
                    <a:lnTo>
                      <a:pt x="954" y="240"/>
                    </a:lnTo>
                    <a:lnTo>
                      <a:pt x="1006" y="280"/>
                    </a:lnTo>
                    <a:lnTo>
                      <a:pt x="1023" y="260"/>
                    </a:lnTo>
                    <a:lnTo>
                      <a:pt x="1041" y="280"/>
                    </a:lnTo>
                    <a:lnTo>
                      <a:pt x="1058" y="340"/>
                    </a:lnTo>
                    <a:lnTo>
                      <a:pt x="1075" y="340"/>
                    </a:lnTo>
                    <a:lnTo>
                      <a:pt x="1058" y="340"/>
                    </a:lnTo>
                    <a:lnTo>
                      <a:pt x="1110" y="400"/>
                    </a:lnTo>
                    <a:lnTo>
                      <a:pt x="1127" y="479"/>
                    </a:lnTo>
                    <a:lnTo>
                      <a:pt x="1145" y="559"/>
                    </a:lnTo>
                    <a:lnTo>
                      <a:pt x="1162" y="639"/>
                    </a:lnTo>
                    <a:lnTo>
                      <a:pt x="1180" y="639"/>
                    </a:lnTo>
                    <a:lnTo>
                      <a:pt x="1197" y="659"/>
                    </a:lnTo>
                    <a:lnTo>
                      <a:pt x="1214" y="759"/>
                    </a:lnTo>
                    <a:lnTo>
                      <a:pt x="1197" y="838"/>
                    </a:lnTo>
                    <a:lnTo>
                      <a:pt x="1180" y="938"/>
                    </a:lnTo>
                    <a:lnTo>
                      <a:pt x="1162" y="998"/>
                    </a:lnTo>
                    <a:lnTo>
                      <a:pt x="1145" y="1059"/>
                    </a:lnTo>
                    <a:lnTo>
                      <a:pt x="1127" y="1138"/>
                    </a:lnTo>
                    <a:lnTo>
                      <a:pt x="1110" y="1178"/>
                    </a:lnTo>
                    <a:lnTo>
                      <a:pt x="1093" y="1198"/>
                    </a:lnTo>
                    <a:lnTo>
                      <a:pt x="1058" y="1258"/>
                    </a:lnTo>
                    <a:lnTo>
                      <a:pt x="1006" y="1298"/>
                    </a:lnTo>
                    <a:lnTo>
                      <a:pt x="971" y="1298"/>
                    </a:lnTo>
                    <a:lnTo>
                      <a:pt x="954" y="1298"/>
                    </a:lnTo>
                    <a:lnTo>
                      <a:pt x="954" y="1338"/>
                    </a:lnTo>
                    <a:lnTo>
                      <a:pt x="901" y="1358"/>
                    </a:lnTo>
                    <a:lnTo>
                      <a:pt x="849" y="1358"/>
                    </a:lnTo>
                    <a:lnTo>
                      <a:pt x="833" y="1338"/>
                    </a:lnTo>
                    <a:lnTo>
                      <a:pt x="798" y="1358"/>
                    </a:lnTo>
                    <a:lnTo>
                      <a:pt x="781" y="1378"/>
                    </a:lnTo>
                    <a:lnTo>
                      <a:pt x="763" y="1398"/>
                    </a:lnTo>
                    <a:lnTo>
                      <a:pt x="746" y="1417"/>
                    </a:lnTo>
                    <a:lnTo>
                      <a:pt x="694" y="1398"/>
                    </a:lnTo>
                    <a:lnTo>
                      <a:pt x="659" y="1398"/>
                    </a:lnTo>
                    <a:lnTo>
                      <a:pt x="642" y="1417"/>
                    </a:lnTo>
                    <a:lnTo>
                      <a:pt x="624" y="1438"/>
                    </a:lnTo>
                    <a:lnTo>
                      <a:pt x="572" y="1438"/>
                    </a:lnTo>
                    <a:lnTo>
                      <a:pt x="537" y="1417"/>
                    </a:lnTo>
                    <a:lnTo>
                      <a:pt x="503" y="1398"/>
                    </a:lnTo>
                    <a:lnTo>
                      <a:pt x="468" y="1378"/>
                    </a:lnTo>
                    <a:lnTo>
                      <a:pt x="433" y="1358"/>
                    </a:lnTo>
                    <a:lnTo>
                      <a:pt x="416" y="1358"/>
                    </a:lnTo>
                    <a:lnTo>
                      <a:pt x="398" y="1358"/>
                    </a:lnTo>
                    <a:lnTo>
                      <a:pt x="381" y="1358"/>
                    </a:lnTo>
                    <a:lnTo>
                      <a:pt x="365" y="1338"/>
                    </a:lnTo>
                    <a:lnTo>
                      <a:pt x="346" y="1338"/>
                    </a:lnTo>
                    <a:lnTo>
                      <a:pt x="330" y="1358"/>
                    </a:lnTo>
                    <a:lnTo>
                      <a:pt x="312" y="1338"/>
                    </a:lnTo>
                    <a:lnTo>
                      <a:pt x="295" y="1319"/>
                    </a:lnTo>
                    <a:lnTo>
                      <a:pt x="278" y="1298"/>
                    </a:lnTo>
                    <a:lnTo>
                      <a:pt x="278" y="1278"/>
                    </a:lnTo>
                    <a:lnTo>
                      <a:pt x="243" y="1258"/>
                    </a:lnTo>
                    <a:lnTo>
                      <a:pt x="226" y="1238"/>
                    </a:lnTo>
                    <a:lnTo>
                      <a:pt x="191" y="1238"/>
                    </a:lnTo>
                    <a:lnTo>
                      <a:pt x="156" y="1219"/>
                    </a:lnTo>
                    <a:lnTo>
                      <a:pt x="121" y="1178"/>
                    </a:lnTo>
                    <a:lnTo>
                      <a:pt x="121" y="1158"/>
                    </a:lnTo>
                    <a:lnTo>
                      <a:pt x="121" y="1119"/>
                    </a:lnTo>
                    <a:lnTo>
                      <a:pt x="86" y="1079"/>
                    </a:lnTo>
                    <a:lnTo>
                      <a:pt x="52" y="1038"/>
                    </a:lnTo>
                    <a:lnTo>
                      <a:pt x="17" y="998"/>
                    </a:lnTo>
                    <a:lnTo>
                      <a:pt x="17" y="959"/>
                    </a:lnTo>
                    <a:lnTo>
                      <a:pt x="17" y="919"/>
                    </a:lnTo>
                    <a:lnTo>
                      <a:pt x="17" y="879"/>
                    </a:lnTo>
                    <a:lnTo>
                      <a:pt x="17" y="859"/>
                    </a:lnTo>
                    <a:lnTo>
                      <a:pt x="17" y="838"/>
                    </a:lnTo>
                    <a:lnTo>
                      <a:pt x="17" y="819"/>
                    </a:lnTo>
                    <a:lnTo>
                      <a:pt x="17" y="759"/>
                    </a:lnTo>
                    <a:lnTo>
                      <a:pt x="0" y="719"/>
                    </a:lnTo>
                    <a:lnTo>
                      <a:pt x="17" y="700"/>
                    </a:lnTo>
                    <a:lnTo>
                      <a:pt x="34" y="659"/>
                    </a:lnTo>
                    <a:lnTo>
                      <a:pt x="34" y="639"/>
                    </a:lnTo>
                    <a:lnTo>
                      <a:pt x="17" y="639"/>
                    </a:lnTo>
                    <a:lnTo>
                      <a:pt x="17" y="600"/>
                    </a:lnTo>
                    <a:lnTo>
                      <a:pt x="17" y="559"/>
                    </a:lnTo>
                    <a:lnTo>
                      <a:pt x="17" y="519"/>
                    </a:lnTo>
                    <a:lnTo>
                      <a:pt x="34" y="500"/>
                    </a:lnTo>
                    <a:lnTo>
                      <a:pt x="34" y="479"/>
                    </a:lnTo>
                    <a:lnTo>
                      <a:pt x="17" y="459"/>
                    </a:lnTo>
                    <a:lnTo>
                      <a:pt x="34" y="400"/>
                    </a:lnTo>
                    <a:lnTo>
                      <a:pt x="34" y="359"/>
                    </a:lnTo>
                    <a:lnTo>
                      <a:pt x="69" y="340"/>
                    </a:lnTo>
                    <a:lnTo>
                      <a:pt x="86" y="319"/>
                    </a:lnTo>
                    <a:lnTo>
                      <a:pt x="139" y="300"/>
                    </a:lnTo>
                    <a:lnTo>
                      <a:pt x="173" y="280"/>
                    </a:lnTo>
                    <a:lnTo>
                      <a:pt x="191" y="260"/>
                    </a:lnTo>
                    <a:lnTo>
                      <a:pt x="208" y="240"/>
                    </a:lnTo>
                    <a:lnTo>
                      <a:pt x="226" y="219"/>
                    </a:lnTo>
                    <a:lnTo>
                      <a:pt x="260" y="200"/>
                    </a:lnTo>
                    <a:lnTo>
                      <a:pt x="312" y="160"/>
                    </a:lnTo>
                    <a:lnTo>
                      <a:pt x="330" y="100"/>
                    </a:lnTo>
                    <a:lnTo>
                      <a:pt x="398" y="40"/>
                    </a:lnTo>
                    <a:lnTo>
                      <a:pt x="520" y="0"/>
                    </a:lnTo>
                    <a:lnTo>
                      <a:pt x="642" y="40"/>
                    </a:lnTo>
                    <a:close/>
                  </a:path>
                </a:pathLst>
              </a:custGeom>
              <a:solidFill>
                <a:srgbClr val="7845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4960" y="1068480"/>
                <a:ext cx="784080" cy="433080"/>
              </a:xfrm>
              <a:custGeom>
                <a:avLst/>
                <a:gdLst/>
                <a:ahLst/>
                <a:rect l="l" t="t" r="r" b="b"/>
                <a:pathLst>
                  <a:path w="1041" h="1277">
                    <a:moveTo>
                      <a:pt x="573" y="20"/>
                    </a:moveTo>
                    <a:lnTo>
                      <a:pt x="590" y="40"/>
                    </a:lnTo>
                    <a:lnTo>
                      <a:pt x="608" y="60"/>
                    </a:lnTo>
                    <a:lnTo>
                      <a:pt x="625" y="79"/>
                    </a:lnTo>
                    <a:lnTo>
                      <a:pt x="625" y="100"/>
                    </a:lnTo>
                    <a:lnTo>
                      <a:pt x="625" y="120"/>
                    </a:lnTo>
                    <a:lnTo>
                      <a:pt x="625" y="140"/>
                    </a:lnTo>
                    <a:lnTo>
                      <a:pt x="660" y="160"/>
                    </a:lnTo>
                    <a:lnTo>
                      <a:pt x="712" y="179"/>
                    </a:lnTo>
                    <a:lnTo>
                      <a:pt x="729" y="200"/>
                    </a:lnTo>
                    <a:lnTo>
                      <a:pt x="747" y="160"/>
                    </a:lnTo>
                    <a:lnTo>
                      <a:pt x="764" y="160"/>
                    </a:lnTo>
                    <a:lnTo>
                      <a:pt x="780" y="200"/>
                    </a:lnTo>
                    <a:lnTo>
                      <a:pt x="798" y="200"/>
                    </a:lnTo>
                    <a:lnTo>
                      <a:pt x="815" y="219"/>
                    </a:lnTo>
                    <a:lnTo>
                      <a:pt x="832" y="260"/>
                    </a:lnTo>
                    <a:lnTo>
                      <a:pt x="867" y="239"/>
                    </a:lnTo>
                    <a:lnTo>
                      <a:pt x="902" y="260"/>
                    </a:lnTo>
                    <a:lnTo>
                      <a:pt x="937" y="319"/>
                    </a:lnTo>
                    <a:lnTo>
                      <a:pt x="937" y="300"/>
                    </a:lnTo>
                    <a:lnTo>
                      <a:pt x="937" y="319"/>
                    </a:lnTo>
                    <a:lnTo>
                      <a:pt x="972" y="419"/>
                    </a:lnTo>
                    <a:lnTo>
                      <a:pt x="989" y="499"/>
                    </a:lnTo>
                    <a:lnTo>
                      <a:pt x="989" y="560"/>
                    </a:lnTo>
                    <a:lnTo>
                      <a:pt x="1024" y="560"/>
                    </a:lnTo>
                    <a:lnTo>
                      <a:pt x="1041" y="579"/>
                    </a:lnTo>
                    <a:lnTo>
                      <a:pt x="1041" y="679"/>
                    </a:lnTo>
                    <a:lnTo>
                      <a:pt x="1041" y="739"/>
                    </a:lnTo>
                    <a:lnTo>
                      <a:pt x="1024" y="819"/>
                    </a:lnTo>
                    <a:lnTo>
                      <a:pt x="989" y="858"/>
                    </a:lnTo>
                    <a:lnTo>
                      <a:pt x="972" y="919"/>
                    </a:lnTo>
                    <a:lnTo>
                      <a:pt x="954" y="998"/>
                    </a:lnTo>
                    <a:lnTo>
                      <a:pt x="937" y="1038"/>
                    </a:lnTo>
                    <a:lnTo>
                      <a:pt x="937" y="1058"/>
                    </a:lnTo>
                    <a:lnTo>
                      <a:pt x="919" y="1118"/>
                    </a:lnTo>
                    <a:lnTo>
                      <a:pt x="885" y="1158"/>
                    </a:lnTo>
                    <a:lnTo>
                      <a:pt x="867" y="1158"/>
                    </a:lnTo>
                    <a:lnTo>
                      <a:pt x="850" y="1138"/>
                    </a:lnTo>
                    <a:lnTo>
                      <a:pt x="832" y="1158"/>
                    </a:lnTo>
                    <a:lnTo>
                      <a:pt x="815" y="1179"/>
                    </a:lnTo>
                    <a:lnTo>
                      <a:pt x="780" y="1198"/>
                    </a:lnTo>
                    <a:lnTo>
                      <a:pt x="729" y="1218"/>
                    </a:lnTo>
                    <a:lnTo>
                      <a:pt x="729" y="1198"/>
                    </a:lnTo>
                    <a:lnTo>
                      <a:pt x="712" y="1198"/>
                    </a:lnTo>
                    <a:lnTo>
                      <a:pt x="677" y="1218"/>
                    </a:lnTo>
                    <a:lnTo>
                      <a:pt x="660" y="1218"/>
                    </a:lnTo>
                    <a:lnTo>
                      <a:pt x="625" y="1218"/>
                    </a:lnTo>
                    <a:lnTo>
                      <a:pt x="590" y="1218"/>
                    </a:lnTo>
                    <a:lnTo>
                      <a:pt x="555" y="1238"/>
                    </a:lnTo>
                    <a:lnTo>
                      <a:pt x="521" y="1277"/>
                    </a:lnTo>
                    <a:lnTo>
                      <a:pt x="521" y="1258"/>
                    </a:lnTo>
                    <a:lnTo>
                      <a:pt x="503" y="1277"/>
                    </a:lnTo>
                    <a:lnTo>
                      <a:pt x="468" y="1277"/>
                    </a:lnTo>
                    <a:lnTo>
                      <a:pt x="434" y="1238"/>
                    </a:lnTo>
                    <a:lnTo>
                      <a:pt x="399" y="1218"/>
                    </a:lnTo>
                    <a:lnTo>
                      <a:pt x="364" y="1218"/>
                    </a:lnTo>
                    <a:lnTo>
                      <a:pt x="347" y="1198"/>
                    </a:lnTo>
                    <a:lnTo>
                      <a:pt x="347" y="1179"/>
                    </a:lnTo>
                    <a:lnTo>
                      <a:pt x="312" y="1158"/>
                    </a:lnTo>
                    <a:lnTo>
                      <a:pt x="296" y="1158"/>
                    </a:lnTo>
                    <a:lnTo>
                      <a:pt x="261" y="1158"/>
                    </a:lnTo>
                    <a:lnTo>
                      <a:pt x="226" y="1158"/>
                    </a:lnTo>
                    <a:lnTo>
                      <a:pt x="209" y="1158"/>
                    </a:lnTo>
                    <a:lnTo>
                      <a:pt x="226" y="1118"/>
                    </a:lnTo>
                    <a:lnTo>
                      <a:pt x="209" y="1098"/>
                    </a:lnTo>
                    <a:lnTo>
                      <a:pt x="174" y="1098"/>
                    </a:lnTo>
                    <a:lnTo>
                      <a:pt x="122" y="1058"/>
                    </a:lnTo>
                    <a:lnTo>
                      <a:pt x="104" y="1038"/>
                    </a:lnTo>
                    <a:lnTo>
                      <a:pt x="87" y="1018"/>
                    </a:lnTo>
                    <a:lnTo>
                      <a:pt x="87" y="998"/>
                    </a:lnTo>
                    <a:lnTo>
                      <a:pt x="52" y="979"/>
                    </a:lnTo>
                    <a:lnTo>
                      <a:pt x="52" y="939"/>
                    </a:lnTo>
                    <a:lnTo>
                      <a:pt x="35" y="919"/>
                    </a:lnTo>
                    <a:lnTo>
                      <a:pt x="0" y="858"/>
                    </a:lnTo>
                    <a:lnTo>
                      <a:pt x="0" y="839"/>
                    </a:lnTo>
                    <a:lnTo>
                      <a:pt x="0" y="798"/>
                    </a:lnTo>
                    <a:lnTo>
                      <a:pt x="0" y="779"/>
                    </a:lnTo>
                    <a:lnTo>
                      <a:pt x="17" y="739"/>
                    </a:lnTo>
                    <a:lnTo>
                      <a:pt x="0" y="739"/>
                    </a:lnTo>
                    <a:lnTo>
                      <a:pt x="0" y="679"/>
                    </a:lnTo>
                    <a:lnTo>
                      <a:pt x="0" y="639"/>
                    </a:lnTo>
                    <a:lnTo>
                      <a:pt x="0" y="619"/>
                    </a:lnTo>
                    <a:lnTo>
                      <a:pt x="17" y="579"/>
                    </a:lnTo>
                    <a:lnTo>
                      <a:pt x="17" y="560"/>
                    </a:lnTo>
                    <a:lnTo>
                      <a:pt x="0" y="560"/>
                    </a:lnTo>
                    <a:lnTo>
                      <a:pt x="0" y="519"/>
                    </a:lnTo>
                    <a:lnTo>
                      <a:pt x="0" y="499"/>
                    </a:lnTo>
                    <a:lnTo>
                      <a:pt x="17" y="460"/>
                    </a:lnTo>
                    <a:lnTo>
                      <a:pt x="17" y="419"/>
                    </a:lnTo>
                    <a:lnTo>
                      <a:pt x="0" y="379"/>
                    </a:lnTo>
                    <a:lnTo>
                      <a:pt x="17" y="360"/>
                    </a:lnTo>
                    <a:lnTo>
                      <a:pt x="35" y="300"/>
                    </a:lnTo>
                    <a:lnTo>
                      <a:pt x="52" y="260"/>
                    </a:lnTo>
                    <a:lnTo>
                      <a:pt x="70" y="260"/>
                    </a:lnTo>
                    <a:lnTo>
                      <a:pt x="104" y="260"/>
                    </a:lnTo>
                    <a:lnTo>
                      <a:pt x="139" y="219"/>
                    </a:lnTo>
                    <a:lnTo>
                      <a:pt x="174" y="219"/>
                    </a:lnTo>
                    <a:lnTo>
                      <a:pt x="209" y="200"/>
                    </a:lnTo>
                    <a:lnTo>
                      <a:pt x="226" y="200"/>
                    </a:lnTo>
                    <a:lnTo>
                      <a:pt x="261" y="160"/>
                    </a:lnTo>
                    <a:lnTo>
                      <a:pt x="261" y="140"/>
                    </a:lnTo>
                    <a:lnTo>
                      <a:pt x="347" y="60"/>
                    </a:lnTo>
                    <a:lnTo>
                      <a:pt x="451" y="0"/>
                    </a:lnTo>
                    <a:lnTo>
                      <a:pt x="573" y="20"/>
                    </a:lnTo>
                    <a:close/>
                  </a:path>
                </a:pathLst>
              </a:custGeom>
              <a:solidFill>
                <a:srgbClr val="6d3a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34200" y="1122480"/>
                <a:ext cx="667800" cy="358920"/>
              </a:xfrm>
              <a:custGeom>
                <a:avLst/>
                <a:gdLst/>
                <a:ahLst/>
                <a:rect l="l" t="t" r="r" b="b"/>
                <a:pathLst>
                  <a:path w="885" h="1058">
                    <a:moveTo>
                      <a:pt x="469" y="40"/>
                    </a:moveTo>
                    <a:lnTo>
                      <a:pt x="486" y="40"/>
                    </a:lnTo>
                    <a:lnTo>
                      <a:pt x="521" y="40"/>
                    </a:lnTo>
                    <a:lnTo>
                      <a:pt x="538" y="59"/>
                    </a:lnTo>
                    <a:lnTo>
                      <a:pt x="556" y="100"/>
                    </a:lnTo>
                    <a:lnTo>
                      <a:pt x="573" y="159"/>
                    </a:lnTo>
                    <a:lnTo>
                      <a:pt x="590" y="140"/>
                    </a:lnTo>
                    <a:lnTo>
                      <a:pt x="608" y="140"/>
                    </a:lnTo>
                    <a:lnTo>
                      <a:pt x="625" y="159"/>
                    </a:lnTo>
                    <a:lnTo>
                      <a:pt x="642" y="140"/>
                    </a:lnTo>
                    <a:lnTo>
                      <a:pt x="660" y="140"/>
                    </a:lnTo>
                    <a:lnTo>
                      <a:pt x="677" y="159"/>
                    </a:lnTo>
                    <a:lnTo>
                      <a:pt x="695" y="159"/>
                    </a:lnTo>
                    <a:lnTo>
                      <a:pt x="712" y="159"/>
                    </a:lnTo>
                    <a:lnTo>
                      <a:pt x="728" y="159"/>
                    </a:lnTo>
                    <a:lnTo>
                      <a:pt x="746" y="179"/>
                    </a:lnTo>
                    <a:lnTo>
                      <a:pt x="763" y="200"/>
                    </a:lnTo>
                    <a:lnTo>
                      <a:pt x="780" y="219"/>
                    </a:lnTo>
                    <a:lnTo>
                      <a:pt x="798" y="240"/>
                    </a:lnTo>
                    <a:lnTo>
                      <a:pt x="798" y="259"/>
                    </a:lnTo>
                    <a:lnTo>
                      <a:pt x="780" y="279"/>
                    </a:lnTo>
                    <a:lnTo>
                      <a:pt x="833" y="339"/>
                    </a:lnTo>
                    <a:lnTo>
                      <a:pt x="850" y="419"/>
                    </a:lnTo>
                    <a:lnTo>
                      <a:pt x="885" y="459"/>
                    </a:lnTo>
                    <a:lnTo>
                      <a:pt x="885" y="479"/>
                    </a:lnTo>
                    <a:lnTo>
                      <a:pt x="885" y="519"/>
                    </a:lnTo>
                    <a:lnTo>
                      <a:pt x="885" y="619"/>
                    </a:lnTo>
                    <a:lnTo>
                      <a:pt x="867" y="698"/>
                    </a:lnTo>
                    <a:lnTo>
                      <a:pt x="833" y="759"/>
                    </a:lnTo>
                    <a:lnTo>
                      <a:pt x="833" y="779"/>
                    </a:lnTo>
                    <a:lnTo>
                      <a:pt x="833" y="838"/>
                    </a:lnTo>
                    <a:lnTo>
                      <a:pt x="833" y="878"/>
                    </a:lnTo>
                    <a:lnTo>
                      <a:pt x="815" y="898"/>
                    </a:lnTo>
                    <a:lnTo>
                      <a:pt x="780" y="938"/>
                    </a:lnTo>
                    <a:lnTo>
                      <a:pt x="728" y="938"/>
                    </a:lnTo>
                    <a:lnTo>
                      <a:pt x="728" y="958"/>
                    </a:lnTo>
                    <a:lnTo>
                      <a:pt x="728" y="998"/>
                    </a:lnTo>
                    <a:lnTo>
                      <a:pt x="712" y="998"/>
                    </a:lnTo>
                    <a:lnTo>
                      <a:pt x="677" y="1019"/>
                    </a:lnTo>
                    <a:lnTo>
                      <a:pt x="625" y="998"/>
                    </a:lnTo>
                    <a:lnTo>
                      <a:pt x="608" y="998"/>
                    </a:lnTo>
                    <a:lnTo>
                      <a:pt x="573" y="998"/>
                    </a:lnTo>
                    <a:lnTo>
                      <a:pt x="573" y="1019"/>
                    </a:lnTo>
                    <a:lnTo>
                      <a:pt x="556" y="1038"/>
                    </a:lnTo>
                    <a:lnTo>
                      <a:pt x="521" y="1058"/>
                    </a:lnTo>
                    <a:lnTo>
                      <a:pt x="503" y="1038"/>
                    </a:lnTo>
                    <a:lnTo>
                      <a:pt x="486" y="1038"/>
                    </a:lnTo>
                    <a:lnTo>
                      <a:pt x="469" y="1058"/>
                    </a:lnTo>
                    <a:lnTo>
                      <a:pt x="451" y="1058"/>
                    </a:lnTo>
                    <a:lnTo>
                      <a:pt x="434" y="1058"/>
                    </a:lnTo>
                    <a:lnTo>
                      <a:pt x="416" y="1058"/>
                    </a:lnTo>
                    <a:lnTo>
                      <a:pt x="382" y="1038"/>
                    </a:lnTo>
                    <a:lnTo>
                      <a:pt x="347" y="1038"/>
                    </a:lnTo>
                    <a:lnTo>
                      <a:pt x="312" y="1058"/>
                    </a:lnTo>
                    <a:lnTo>
                      <a:pt x="312" y="1038"/>
                    </a:lnTo>
                    <a:lnTo>
                      <a:pt x="295" y="1019"/>
                    </a:lnTo>
                    <a:lnTo>
                      <a:pt x="260" y="998"/>
                    </a:lnTo>
                    <a:lnTo>
                      <a:pt x="225" y="998"/>
                    </a:lnTo>
                    <a:lnTo>
                      <a:pt x="209" y="998"/>
                    </a:lnTo>
                    <a:lnTo>
                      <a:pt x="191" y="958"/>
                    </a:lnTo>
                    <a:lnTo>
                      <a:pt x="174" y="938"/>
                    </a:lnTo>
                    <a:lnTo>
                      <a:pt x="157" y="938"/>
                    </a:lnTo>
                    <a:lnTo>
                      <a:pt x="139" y="919"/>
                    </a:lnTo>
                    <a:lnTo>
                      <a:pt x="105" y="898"/>
                    </a:lnTo>
                    <a:lnTo>
                      <a:pt x="52" y="878"/>
                    </a:lnTo>
                    <a:lnTo>
                      <a:pt x="70" y="858"/>
                    </a:lnTo>
                    <a:lnTo>
                      <a:pt x="70" y="838"/>
                    </a:lnTo>
                    <a:lnTo>
                      <a:pt x="52" y="819"/>
                    </a:lnTo>
                    <a:lnTo>
                      <a:pt x="52" y="798"/>
                    </a:lnTo>
                    <a:lnTo>
                      <a:pt x="35" y="779"/>
                    </a:lnTo>
                    <a:lnTo>
                      <a:pt x="0" y="759"/>
                    </a:lnTo>
                    <a:lnTo>
                      <a:pt x="0" y="719"/>
                    </a:lnTo>
                    <a:lnTo>
                      <a:pt x="0" y="679"/>
                    </a:lnTo>
                    <a:lnTo>
                      <a:pt x="0" y="638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9"/>
                    </a:lnTo>
                    <a:lnTo>
                      <a:pt x="0" y="538"/>
                    </a:lnTo>
                    <a:lnTo>
                      <a:pt x="0" y="519"/>
                    </a:lnTo>
                    <a:lnTo>
                      <a:pt x="18" y="499"/>
                    </a:lnTo>
                    <a:lnTo>
                      <a:pt x="18" y="479"/>
                    </a:lnTo>
                    <a:lnTo>
                      <a:pt x="0" y="459"/>
                    </a:lnTo>
                    <a:lnTo>
                      <a:pt x="0" y="438"/>
                    </a:lnTo>
                    <a:lnTo>
                      <a:pt x="0" y="419"/>
                    </a:lnTo>
                    <a:lnTo>
                      <a:pt x="0" y="400"/>
                    </a:lnTo>
                    <a:lnTo>
                      <a:pt x="18" y="379"/>
                    </a:lnTo>
                    <a:lnTo>
                      <a:pt x="18" y="339"/>
                    </a:lnTo>
                    <a:lnTo>
                      <a:pt x="0" y="339"/>
                    </a:lnTo>
                    <a:lnTo>
                      <a:pt x="18" y="300"/>
                    </a:lnTo>
                    <a:lnTo>
                      <a:pt x="35" y="240"/>
                    </a:lnTo>
                    <a:lnTo>
                      <a:pt x="52" y="219"/>
                    </a:lnTo>
                    <a:lnTo>
                      <a:pt x="70" y="219"/>
                    </a:lnTo>
                    <a:lnTo>
                      <a:pt x="87" y="219"/>
                    </a:lnTo>
                    <a:lnTo>
                      <a:pt x="105" y="219"/>
                    </a:lnTo>
                    <a:lnTo>
                      <a:pt x="122" y="179"/>
                    </a:lnTo>
                    <a:lnTo>
                      <a:pt x="139" y="159"/>
                    </a:lnTo>
                    <a:lnTo>
                      <a:pt x="157" y="159"/>
                    </a:lnTo>
                    <a:lnTo>
                      <a:pt x="191" y="159"/>
                    </a:lnTo>
                    <a:lnTo>
                      <a:pt x="225" y="119"/>
                    </a:lnTo>
                    <a:lnTo>
                      <a:pt x="260" y="100"/>
                    </a:lnTo>
                    <a:lnTo>
                      <a:pt x="295" y="40"/>
                    </a:lnTo>
                    <a:lnTo>
                      <a:pt x="382" y="0"/>
                    </a:lnTo>
                    <a:lnTo>
                      <a:pt x="469" y="40"/>
                    </a:lnTo>
                    <a:close/>
                  </a:path>
                </a:pathLst>
              </a:custGeom>
              <a:solidFill>
                <a:srgbClr val="622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973080" y="1170000"/>
                <a:ext cx="562320" cy="311400"/>
              </a:xfrm>
              <a:custGeom>
                <a:avLst/>
                <a:gdLst/>
                <a:ahLst/>
                <a:rect l="l" t="t" r="r" b="b"/>
                <a:pathLst>
                  <a:path w="746" h="918">
                    <a:moveTo>
                      <a:pt x="417" y="19"/>
                    </a:moveTo>
                    <a:lnTo>
                      <a:pt x="434" y="19"/>
                    </a:lnTo>
                    <a:lnTo>
                      <a:pt x="451" y="60"/>
                    </a:lnTo>
                    <a:lnTo>
                      <a:pt x="469" y="79"/>
                    </a:lnTo>
                    <a:lnTo>
                      <a:pt x="469" y="100"/>
                    </a:lnTo>
                    <a:lnTo>
                      <a:pt x="469" y="139"/>
                    </a:lnTo>
                    <a:lnTo>
                      <a:pt x="486" y="119"/>
                    </a:lnTo>
                    <a:lnTo>
                      <a:pt x="504" y="119"/>
                    </a:lnTo>
                    <a:lnTo>
                      <a:pt x="521" y="139"/>
                    </a:lnTo>
                    <a:lnTo>
                      <a:pt x="538" y="119"/>
                    </a:lnTo>
                    <a:lnTo>
                      <a:pt x="556" y="119"/>
                    </a:lnTo>
                    <a:lnTo>
                      <a:pt x="573" y="139"/>
                    </a:lnTo>
                    <a:lnTo>
                      <a:pt x="590" y="139"/>
                    </a:lnTo>
                    <a:lnTo>
                      <a:pt x="625" y="139"/>
                    </a:lnTo>
                    <a:lnTo>
                      <a:pt x="643" y="160"/>
                    </a:lnTo>
                    <a:lnTo>
                      <a:pt x="660" y="179"/>
                    </a:lnTo>
                    <a:lnTo>
                      <a:pt x="676" y="199"/>
                    </a:lnTo>
                    <a:lnTo>
                      <a:pt x="676" y="260"/>
                    </a:lnTo>
                    <a:lnTo>
                      <a:pt x="694" y="298"/>
                    </a:lnTo>
                    <a:lnTo>
                      <a:pt x="711" y="339"/>
                    </a:lnTo>
                    <a:lnTo>
                      <a:pt x="728" y="379"/>
                    </a:lnTo>
                    <a:lnTo>
                      <a:pt x="728" y="398"/>
                    </a:lnTo>
                    <a:lnTo>
                      <a:pt x="728" y="439"/>
                    </a:lnTo>
                    <a:lnTo>
                      <a:pt x="746" y="519"/>
                    </a:lnTo>
                    <a:lnTo>
                      <a:pt x="728" y="579"/>
                    </a:lnTo>
                    <a:lnTo>
                      <a:pt x="728" y="619"/>
                    </a:lnTo>
                    <a:lnTo>
                      <a:pt x="711" y="658"/>
                    </a:lnTo>
                    <a:lnTo>
                      <a:pt x="694" y="698"/>
                    </a:lnTo>
                    <a:lnTo>
                      <a:pt x="676" y="738"/>
                    </a:lnTo>
                    <a:lnTo>
                      <a:pt x="676" y="758"/>
                    </a:lnTo>
                    <a:lnTo>
                      <a:pt x="660" y="779"/>
                    </a:lnTo>
                    <a:lnTo>
                      <a:pt x="625" y="798"/>
                    </a:lnTo>
                    <a:lnTo>
                      <a:pt x="608" y="798"/>
                    </a:lnTo>
                    <a:lnTo>
                      <a:pt x="573" y="798"/>
                    </a:lnTo>
                    <a:lnTo>
                      <a:pt x="590" y="838"/>
                    </a:lnTo>
                    <a:lnTo>
                      <a:pt x="556" y="858"/>
                    </a:lnTo>
                    <a:lnTo>
                      <a:pt x="521" y="858"/>
                    </a:lnTo>
                    <a:lnTo>
                      <a:pt x="521" y="838"/>
                    </a:lnTo>
                    <a:lnTo>
                      <a:pt x="521" y="858"/>
                    </a:lnTo>
                    <a:lnTo>
                      <a:pt x="486" y="858"/>
                    </a:lnTo>
                    <a:lnTo>
                      <a:pt x="469" y="858"/>
                    </a:lnTo>
                    <a:lnTo>
                      <a:pt x="417" y="858"/>
                    </a:lnTo>
                    <a:lnTo>
                      <a:pt x="399" y="879"/>
                    </a:lnTo>
                    <a:lnTo>
                      <a:pt x="364" y="918"/>
                    </a:lnTo>
                    <a:lnTo>
                      <a:pt x="364" y="898"/>
                    </a:lnTo>
                    <a:lnTo>
                      <a:pt x="347" y="898"/>
                    </a:lnTo>
                    <a:lnTo>
                      <a:pt x="312" y="918"/>
                    </a:lnTo>
                    <a:lnTo>
                      <a:pt x="312" y="879"/>
                    </a:lnTo>
                    <a:lnTo>
                      <a:pt x="295" y="858"/>
                    </a:lnTo>
                    <a:lnTo>
                      <a:pt x="260" y="858"/>
                    </a:lnTo>
                    <a:lnTo>
                      <a:pt x="225" y="838"/>
                    </a:lnTo>
                    <a:lnTo>
                      <a:pt x="208" y="858"/>
                    </a:lnTo>
                    <a:lnTo>
                      <a:pt x="192" y="838"/>
                    </a:lnTo>
                    <a:lnTo>
                      <a:pt x="173" y="818"/>
                    </a:lnTo>
                    <a:lnTo>
                      <a:pt x="157" y="798"/>
                    </a:lnTo>
                    <a:lnTo>
                      <a:pt x="157" y="779"/>
                    </a:lnTo>
                    <a:lnTo>
                      <a:pt x="157" y="798"/>
                    </a:lnTo>
                    <a:lnTo>
                      <a:pt x="122" y="779"/>
                    </a:lnTo>
                    <a:lnTo>
                      <a:pt x="87" y="758"/>
                    </a:lnTo>
                    <a:lnTo>
                      <a:pt x="53" y="738"/>
                    </a:lnTo>
                    <a:lnTo>
                      <a:pt x="70" y="718"/>
                    </a:lnTo>
                    <a:lnTo>
                      <a:pt x="70" y="698"/>
                    </a:lnTo>
                    <a:lnTo>
                      <a:pt x="53" y="679"/>
                    </a:lnTo>
                    <a:lnTo>
                      <a:pt x="53" y="658"/>
                    </a:lnTo>
                    <a:lnTo>
                      <a:pt x="18" y="639"/>
                    </a:lnTo>
                    <a:lnTo>
                      <a:pt x="0" y="619"/>
                    </a:lnTo>
                    <a:lnTo>
                      <a:pt x="18" y="598"/>
                    </a:lnTo>
                    <a:lnTo>
                      <a:pt x="0" y="579"/>
                    </a:lnTo>
                    <a:lnTo>
                      <a:pt x="0" y="558"/>
                    </a:lnTo>
                    <a:lnTo>
                      <a:pt x="0" y="539"/>
                    </a:lnTo>
                    <a:lnTo>
                      <a:pt x="18" y="519"/>
                    </a:lnTo>
                    <a:lnTo>
                      <a:pt x="0" y="498"/>
                    </a:lnTo>
                    <a:lnTo>
                      <a:pt x="0" y="479"/>
                    </a:lnTo>
                    <a:lnTo>
                      <a:pt x="0" y="458"/>
                    </a:lnTo>
                    <a:lnTo>
                      <a:pt x="0" y="439"/>
                    </a:lnTo>
                    <a:lnTo>
                      <a:pt x="18" y="419"/>
                    </a:lnTo>
                    <a:lnTo>
                      <a:pt x="18" y="398"/>
                    </a:lnTo>
                    <a:lnTo>
                      <a:pt x="0" y="379"/>
                    </a:lnTo>
                    <a:lnTo>
                      <a:pt x="0" y="359"/>
                    </a:lnTo>
                    <a:lnTo>
                      <a:pt x="0" y="339"/>
                    </a:lnTo>
                    <a:lnTo>
                      <a:pt x="0" y="319"/>
                    </a:lnTo>
                    <a:lnTo>
                      <a:pt x="18" y="298"/>
                    </a:lnTo>
                    <a:lnTo>
                      <a:pt x="18" y="279"/>
                    </a:lnTo>
                    <a:lnTo>
                      <a:pt x="0" y="260"/>
                    </a:lnTo>
                    <a:lnTo>
                      <a:pt x="18" y="239"/>
                    </a:lnTo>
                    <a:lnTo>
                      <a:pt x="35" y="219"/>
                    </a:lnTo>
                    <a:lnTo>
                      <a:pt x="53" y="199"/>
                    </a:lnTo>
                    <a:lnTo>
                      <a:pt x="70" y="199"/>
                    </a:lnTo>
                    <a:lnTo>
                      <a:pt x="87" y="199"/>
                    </a:lnTo>
                    <a:lnTo>
                      <a:pt x="105" y="199"/>
                    </a:lnTo>
                    <a:lnTo>
                      <a:pt x="122" y="160"/>
                    </a:lnTo>
                    <a:lnTo>
                      <a:pt x="139" y="139"/>
                    </a:lnTo>
                    <a:lnTo>
                      <a:pt x="157" y="139"/>
                    </a:lnTo>
                    <a:lnTo>
                      <a:pt x="173" y="139"/>
                    </a:lnTo>
                    <a:lnTo>
                      <a:pt x="192" y="100"/>
                    </a:lnTo>
                    <a:lnTo>
                      <a:pt x="208" y="79"/>
                    </a:lnTo>
                    <a:lnTo>
                      <a:pt x="260" y="39"/>
                    </a:lnTo>
                    <a:lnTo>
                      <a:pt x="330" y="0"/>
                    </a:lnTo>
                    <a:lnTo>
                      <a:pt x="417" y="19"/>
                    </a:lnTo>
                    <a:close/>
                  </a:path>
                </a:pathLst>
              </a:custGeom>
              <a:solidFill>
                <a:srgbClr val="5724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012680" y="1224360"/>
                <a:ext cx="444600" cy="236880"/>
              </a:xfrm>
              <a:custGeom>
                <a:avLst/>
                <a:gdLst/>
                <a:ahLst/>
                <a:rect l="l" t="t" r="r" b="b"/>
                <a:pathLst>
                  <a:path w="590" h="698">
                    <a:moveTo>
                      <a:pt x="520" y="159"/>
                    </a:moveTo>
                    <a:lnTo>
                      <a:pt x="537" y="159"/>
                    </a:lnTo>
                    <a:lnTo>
                      <a:pt x="520" y="159"/>
                    </a:lnTo>
                    <a:lnTo>
                      <a:pt x="520" y="119"/>
                    </a:lnTo>
                    <a:lnTo>
                      <a:pt x="503" y="119"/>
                    </a:lnTo>
                    <a:lnTo>
                      <a:pt x="468" y="100"/>
                    </a:lnTo>
                    <a:lnTo>
                      <a:pt x="451" y="100"/>
                    </a:lnTo>
                    <a:lnTo>
                      <a:pt x="416" y="100"/>
                    </a:lnTo>
                    <a:lnTo>
                      <a:pt x="433" y="79"/>
                    </a:lnTo>
                    <a:lnTo>
                      <a:pt x="416" y="100"/>
                    </a:lnTo>
                    <a:lnTo>
                      <a:pt x="398" y="79"/>
                    </a:lnTo>
                    <a:lnTo>
                      <a:pt x="381" y="79"/>
                    </a:lnTo>
                    <a:lnTo>
                      <a:pt x="364" y="100"/>
                    </a:lnTo>
                    <a:lnTo>
                      <a:pt x="364" y="59"/>
                    </a:lnTo>
                    <a:lnTo>
                      <a:pt x="364" y="39"/>
                    </a:lnTo>
                    <a:lnTo>
                      <a:pt x="346" y="39"/>
                    </a:lnTo>
                    <a:lnTo>
                      <a:pt x="329" y="39"/>
                    </a:lnTo>
                    <a:lnTo>
                      <a:pt x="311" y="39"/>
                    </a:lnTo>
                    <a:lnTo>
                      <a:pt x="259" y="0"/>
                    </a:lnTo>
                    <a:lnTo>
                      <a:pt x="207" y="19"/>
                    </a:lnTo>
                    <a:lnTo>
                      <a:pt x="155" y="39"/>
                    </a:lnTo>
                    <a:lnTo>
                      <a:pt x="155" y="59"/>
                    </a:lnTo>
                    <a:lnTo>
                      <a:pt x="139" y="100"/>
                    </a:lnTo>
                    <a:lnTo>
                      <a:pt x="104" y="100"/>
                    </a:lnTo>
                    <a:lnTo>
                      <a:pt x="86" y="138"/>
                    </a:lnTo>
                    <a:lnTo>
                      <a:pt x="69" y="138"/>
                    </a:lnTo>
                    <a:lnTo>
                      <a:pt x="52" y="159"/>
                    </a:lnTo>
                    <a:lnTo>
                      <a:pt x="34" y="159"/>
                    </a:lnTo>
                    <a:lnTo>
                      <a:pt x="17" y="179"/>
                    </a:lnTo>
                    <a:lnTo>
                      <a:pt x="0" y="219"/>
                    </a:lnTo>
                    <a:lnTo>
                      <a:pt x="17" y="219"/>
                    </a:lnTo>
                    <a:lnTo>
                      <a:pt x="17" y="238"/>
                    </a:lnTo>
                    <a:lnTo>
                      <a:pt x="0" y="279"/>
                    </a:lnTo>
                    <a:lnTo>
                      <a:pt x="17" y="298"/>
                    </a:lnTo>
                    <a:lnTo>
                      <a:pt x="17" y="319"/>
                    </a:lnTo>
                    <a:lnTo>
                      <a:pt x="0" y="338"/>
                    </a:lnTo>
                    <a:lnTo>
                      <a:pt x="0" y="379"/>
                    </a:lnTo>
                    <a:lnTo>
                      <a:pt x="0" y="398"/>
                    </a:lnTo>
                    <a:lnTo>
                      <a:pt x="17" y="419"/>
                    </a:lnTo>
                    <a:lnTo>
                      <a:pt x="0" y="438"/>
                    </a:lnTo>
                    <a:lnTo>
                      <a:pt x="0" y="459"/>
                    </a:lnTo>
                    <a:lnTo>
                      <a:pt x="17" y="459"/>
                    </a:lnTo>
                    <a:lnTo>
                      <a:pt x="0" y="459"/>
                    </a:lnTo>
                    <a:lnTo>
                      <a:pt x="17" y="498"/>
                    </a:lnTo>
                    <a:lnTo>
                      <a:pt x="34" y="519"/>
                    </a:lnTo>
                    <a:lnTo>
                      <a:pt x="52" y="519"/>
                    </a:lnTo>
                    <a:lnTo>
                      <a:pt x="52" y="538"/>
                    </a:lnTo>
                    <a:lnTo>
                      <a:pt x="52" y="558"/>
                    </a:lnTo>
                    <a:lnTo>
                      <a:pt x="52" y="578"/>
                    </a:lnTo>
                    <a:lnTo>
                      <a:pt x="69" y="598"/>
                    </a:lnTo>
                    <a:lnTo>
                      <a:pt x="104" y="619"/>
                    </a:lnTo>
                    <a:lnTo>
                      <a:pt x="104" y="638"/>
                    </a:lnTo>
                    <a:lnTo>
                      <a:pt x="120" y="619"/>
                    </a:lnTo>
                    <a:lnTo>
                      <a:pt x="139" y="619"/>
                    </a:lnTo>
                    <a:lnTo>
                      <a:pt x="155" y="638"/>
                    </a:lnTo>
                    <a:lnTo>
                      <a:pt x="172" y="638"/>
                    </a:lnTo>
                    <a:lnTo>
                      <a:pt x="190" y="638"/>
                    </a:lnTo>
                    <a:lnTo>
                      <a:pt x="207" y="638"/>
                    </a:lnTo>
                    <a:lnTo>
                      <a:pt x="207" y="658"/>
                    </a:lnTo>
                    <a:lnTo>
                      <a:pt x="207" y="678"/>
                    </a:lnTo>
                    <a:lnTo>
                      <a:pt x="207" y="698"/>
                    </a:lnTo>
                    <a:lnTo>
                      <a:pt x="225" y="678"/>
                    </a:lnTo>
                    <a:lnTo>
                      <a:pt x="242" y="678"/>
                    </a:lnTo>
                    <a:lnTo>
                      <a:pt x="259" y="698"/>
                    </a:lnTo>
                    <a:lnTo>
                      <a:pt x="294" y="698"/>
                    </a:lnTo>
                    <a:lnTo>
                      <a:pt x="311" y="698"/>
                    </a:lnTo>
                    <a:lnTo>
                      <a:pt x="329" y="698"/>
                    </a:lnTo>
                    <a:lnTo>
                      <a:pt x="346" y="678"/>
                    </a:lnTo>
                    <a:lnTo>
                      <a:pt x="364" y="698"/>
                    </a:lnTo>
                    <a:lnTo>
                      <a:pt x="381" y="678"/>
                    </a:lnTo>
                    <a:lnTo>
                      <a:pt x="398" y="678"/>
                    </a:lnTo>
                    <a:lnTo>
                      <a:pt x="416" y="698"/>
                    </a:lnTo>
                    <a:lnTo>
                      <a:pt x="416" y="678"/>
                    </a:lnTo>
                    <a:lnTo>
                      <a:pt x="416" y="698"/>
                    </a:lnTo>
                    <a:lnTo>
                      <a:pt x="451" y="678"/>
                    </a:lnTo>
                    <a:lnTo>
                      <a:pt x="468" y="658"/>
                    </a:lnTo>
                    <a:lnTo>
                      <a:pt x="468" y="638"/>
                    </a:lnTo>
                    <a:lnTo>
                      <a:pt x="485" y="638"/>
                    </a:lnTo>
                    <a:lnTo>
                      <a:pt x="520" y="638"/>
                    </a:lnTo>
                    <a:lnTo>
                      <a:pt x="520" y="619"/>
                    </a:lnTo>
                    <a:lnTo>
                      <a:pt x="520" y="598"/>
                    </a:lnTo>
                    <a:lnTo>
                      <a:pt x="520" y="578"/>
                    </a:lnTo>
                    <a:lnTo>
                      <a:pt x="537" y="558"/>
                    </a:lnTo>
                    <a:lnTo>
                      <a:pt x="555" y="498"/>
                    </a:lnTo>
                    <a:lnTo>
                      <a:pt x="572" y="459"/>
                    </a:lnTo>
                    <a:lnTo>
                      <a:pt x="590" y="438"/>
                    </a:lnTo>
                    <a:lnTo>
                      <a:pt x="590" y="398"/>
                    </a:lnTo>
                    <a:lnTo>
                      <a:pt x="572" y="338"/>
                    </a:lnTo>
                    <a:lnTo>
                      <a:pt x="590" y="298"/>
                    </a:lnTo>
                    <a:lnTo>
                      <a:pt x="572" y="279"/>
                    </a:lnTo>
                    <a:lnTo>
                      <a:pt x="572" y="259"/>
                    </a:lnTo>
                    <a:lnTo>
                      <a:pt x="555" y="219"/>
                    </a:lnTo>
                    <a:lnTo>
                      <a:pt x="520" y="159"/>
                    </a:lnTo>
                    <a:close/>
                  </a:path>
                </a:pathLst>
              </a:custGeom>
              <a:solidFill>
                <a:srgbClr val="4c1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090800" y="973440"/>
                <a:ext cx="392040" cy="487440"/>
              </a:xfrm>
              <a:custGeom>
                <a:avLst/>
                <a:gdLst/>
                <a:ahLst/>
                <a:rect l="l" t="t" r="r" b="b"/>
                <a:pathLst>
                  <a:path w="519" h="1438">
                    <a:moveTo>
                      <a:pt x="0" y="1438"/>
                    </a:moveTo>
                    <a:lnTo>
                      <a:pt x="35" y="1359"/>
                    </a:lnTo>
                    <a:lnTo>
                      <a:pt x="103" y="1138"/>
                    </a:lnTo>
                    <a:lnTo>
                      <a:pt x="155" y="779"/>
                    </a:lnTo>
                    <a:lnTo>
                      <a:pt x="207" y="599"/>
                    </a:lnTo>
                    <a:lnTo>
                      <a:pt x="260" y="440"/>
                    </a:lnTo>
                    <a:lnTo>
                      <a:pt x="312" y="320"/>
                    </a:lnTo>
                    <a:lnTo>
                      <a:pt x="381" y="200"/>
                    </a:lnTo>
                    <a:lnTo>
                      <a:pt x="433" y="100"/>
                    </a:lnTo>
                    <a:lnTo>
                      <a:pt x="486" y="40"/>
                    </a:lnTo>
                    <a:lnTo>
                      <a:pt x="51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934200" y="993960"/>
                <a:ext cx="470520" cy="446760"/>
              </a:xfrm>
              <a:custGeom>
                <a:avLst/>
                <a:gdLst/>
                <a:ahLst/>
                <a:rect l="l" t="t" r="r" b="b"/>
                <a:pathLst>
                  <a:path w="625" h="1317">
                    <a:moveTo>
                      <a:pt x="625" y="0"/>
                    </a:moveTo>
                    <a:lnTo>
                      <a:pt x="573" y="39"/>
                    </a:lnTo>
                    <a:lnTo>
                      <a:pt x="434" y="239"/>
                    </a:lnTo>
                    <a:lnTo>
                      <a:pt x="312" y="658"/>
                    </a:lnTo>
                    <a:lnTo>
                      <a:pt x="277" y="798"/>
                    </a:lnTo>
                    <a:lnTo>
                      <a:pt x="174" y="1098"/>
                    </a:lnTo>
                    <a:lnTo>
                      <a:pt x="0" y="131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894960" y="953280"/>
                <a:ext cx="548640" cy="365400"/>
              </a:xfrm>
              <a:custGeom>
                <a:avLst/>
                <a:gdLst/>
                <a:ahLst/>
                <a:rect l="l" t="t" r="r" b="b"/>
                <a:pathLst>
                  <a:path w="729" h="1079">
                    <a:moveTo>
                      <a:pt x="0" y="1079"/>
                    </a:moveTo>
                    <a:lnTo>
                      <a:pt x="70" y="1019"/>
                    </a:lnTo>
                    <a:lnTo>
                      <a:pt x="226" y="819"/>
                    </a:lnTo>
                    <a:lnTo>
                      <a:pt x="364" y="480"/>
                    </a:lnTo>
                    <a:lnTo>
                      <a:pt x="416" y="340"/>
                    </a:lnTo>
                    <a:lnTo>
                      <a:pt x="468" y="221"/>
                    </a:lnTo>
                    <a:lnTo>
                      <a:pt x="521" y="121"/>
                    </a:lnTo>
                    <a:lnTo>
                      <a:pt x="573" y="60"/>
                    </a:lnTo>
                    <a:lnTo>
                      <a:pt x="625" y="21"/>
                    </a:lnTo>
                    <a:lnTo>
                      <a:pt x="677" y="0"/>
                    </a:lnTo>
                    <a:lnTo>
                      <a:pt x="712" y="0"/>
                    </a:lnTo>
                    <a:lnTo>
                      <a:pt x="729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777240" y="933120"/>
                <a:ext cx="666360" cy="344880"/>
              </a:xfrm>
              <a:custGeom>
                <a:avLst/>
                <a:gdLst/>
                <a:ahLst/>
                <a:rect l="l" t="t" r="r" b="b"/>
                <a:pathLst>
                  <a:path w="885" h="1019">
                    <a:moveTo>
                      <a:pt x="885" y="0"/>
                    </a:moveTo>
                    <a:lnTo>
                      <a:pt x="816" y="0"/>
                    </a:lnTo>
                    <a:lnTo>
                      <a:pt x="642" y="81"/>
                    </a:lnTo>
                    <a:lnTo>
                      <a:pt x="468" y="360"/>
                    </a:lnTo>
                    <a:lnTo>
                      <a:pt x="452" y="400"/>
                    </a:lnTo>
                    <a:lnTo>
                      <a:pt x="417" y="500"/>
                    </a:lnTo>
                    <a:lnTo>
                      <a:pt x="365" y="660"/>
                    </a:lnTo>
                    <a:lnTo>
                      <a:pt x="313" y="760"/>
                    </a:lnTo>
                    <a:lnTo>
                      <a:pt x="226" y="860"/>
                    </a:lnTo>
                    <a:lnTo>
                      <a:pt x="121" y="960"/>
                    </a:lnTo>
                    <a:lnTo>
                      <a:pt x="0" y="101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16480" y="1339200"/>
                <a:ext cx="156600" cy="40320"/>
              </a:xfrm>
              <a:custGeom>
                <a:avLst/>
                <a:gdLst/>
                <a:ahLst/>
                <a:rect l="l" t="t" r="r" b="b"/>
                <a:pathLst>
                  <a:path w="208" h="121">
                    <a:moveTo>
                      <a:pt x="0" y="121"/>
                    </a:moveTo>
                    <a:lnTo>
                      <a:pt x="35" y="100"/>
                    </a:lnTo>
                    <a:lnTo>
                      <a:pt x="104" y="60"/>
                    </a:lnTo>
                    <a:lnTo>
                      <a:pt x="208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55720" y="1319040"/>
                <a:ext cx="196200" cy="101160"/>
              </a:xfrm>
              <a:custGeom>
                <a:avLst/>
                <a:gdLst/>
                <a:ahLst/>
                <a:rect l="l" t="t" r="r" b="b"/>
                <a:pathLst>
                  <a:path w="261" h="299">
                    <a:moveTo>
                      <a:pt x="0" y="299"/>
                    </a:moveTo>
                    <a:lnTo>
                      <a:pt x="52" y="259"/>
                    </a:lnTo>
                    <a:lnTo>
                      <a:pt x="156" y="159"/>
                    </a:lnTo>
                    <a:lnTo>
                      <a:pt x="261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738000" y="1115640"/>
                <a:ext cx="274320" cy="121680"/>
              </a:xfrm>
              <a:custGeom>
                <a:avLst/>
                <a:gdLst/>
                <a:ahLst/>
                <a:rect l="l" t="t" r="r" b="b"/>
                <a:pathLst>
                  <a:path w="366" h="359">
                    <a:moveTo>
                      <a:pt x="0" y="359"/>
                    </a:moveTo>
                    <a:lnTo>
                      <a:pt x="19" y="339"/>
                    </a:lnTo>
                    <a:lnTo>
                      <a:pt x="87" y="299"/>
                    </a:lnTo>
                    <a:lnTo>
                      <a:pt x="157" y="239"/>
                    </a:lnTo>
                    <a:lnTo>
                      <a:pt x="226" y="179"/>
                    </a:lnTo>
                    <a:lnTo>
                      <a:pt x="313" y="79"/>
                    </a:lnTo>
                    <a:lnTo>
                      <a:pt x="366" y="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738000" y="878760"/>
                <a:ext cx="666720" cy="277560"/>
              </a:xfrm>
              <a:custGeom>
                <a:avLst/>
                <a:gdLst/>
                <a:ahLst/>
                <a:rect l="l" t="t" r="r" b="b"/>
                <a:pathLst>
                  <a:path w="886" h="819">
                    <a:moveTo>
                      <a:pt x="0" y="819"/>
                    </a:moveTo>
                    <a:lnTo>
                      <a:pt x="35" y="798"/>
                    </a:lnTo>
                    <a:lnTo>
                      <a:pt x="105" y="759"/>
                    </a:lnTo>
                    <a:lnTo>
                      <a:pt x="157" y="699"/>
                    </a:lnTo>
                    <a:lnTo>
                      <a:pt x="226" y="638"/>
                    </a:lnTo>
                    <a:lnTo>
                      <a:pt x="279" y="559"/>
                    </a:lnTo>
                    <a:lnTo>
                      <a:pt x="313" y="519"/>
                    </a:lnTo>
                    <a:lnTo>
                      <a:pt x="383" y="479"/>
                    </a:lnTo>
                    <a:lnTo>
                      <a:pt x="435" y="419"/>
                    </a:lnTo>
                    <a:lnTo>
                      <a:pt x="470" y="340"/>
                    </a:lnTo>
                    <a:lnTo>
                      <a:pt x="505" y="300"/>
                    </a:lnTo>
                    <a:lnTo>
                      <a:pt x="556" y="240"/>
                    </a:lnTo>
                    <a:lnTo>
                      <a:pt x="625" y="159"/>
                    </a:lnTo>
                    <a:lnTo>
                      <a:pt x="730" y="100"/>
                    </a:lnTo>
                    <a:lnTo>
                      <a:pt x="817" y="80"/>
                    </a:lnTo>
                    <a:lnTo>
                      <a:pt x="886" y="100"/>
                    </a:lnTo>
                    <a:lnTo>
                      <a:pt x="869" y="59"/>
                    </a:lnTo>
                    <a:lnTo>
                      <a:pt x="782" y="0"/>
                    </a:lnTo>
                    <a:lnTo>
                      <a:pt x="625" y="40"/>
                    </a:lnTo>
                    <a:lnTo>
                      <a:pt x="608" y="59"/>
                    </a:lnTo>
                    <a:lnTo>
                      <a:pt x="538" y="119"/>
                    </a:lnTo>
                    <a:lnTo>
                      <a:pt x="470" y="219"/>
                    </a:lnTo>
                    <a:lnTo>
                      <a:pt x="400" y="300"/>
                    </a:lnTo>
                    <a:lnTo>
                      <a:pt x="313" y="379"/>
                    </a:lnTo>
                    <a:lnTo>
                      <a:pt x="261" y="399"/>
                    </a:lnTo>
                    <a:lnTo>
                      <a:pt x="209" y="419"/>
                    </a:lnTo>
                    <a:lnTo>
                      <a:pt x="157" y="479"/>
                    </a:lnTo>
                    <a:lnTo>
                      <a:pt x="105" y="519"/>
                    </a:lnTo>
                    <a:lnTo>
                      <a:pt x="87" y="599"/>
                    </a:lnTo>
                    <a:lnTo>
                      <a:pt x="35" y="659"/>
                    </a:lnTo>
                    <a:lnTo>
                      <a:pt x="0" y="699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365480" y="1014120"/>
                <a:ext cx="117360" cy="101520"/>
              </a:xfrm>
              <a:custGeom>
                <a:avLst/>
                <a:gdLst/>
                <a:ahLst/>
                <a:rect l="l" t="t" r="r" b="b"/>
                <a:pathLst>
                  <a:path w="155" h="300">
                    <a:moveTo>
                      <a:pt x="155" y="0"/>
                    </a:moveTo>
                    <a:lnTo>
                      <a:pt x="122" y="41"/>
                    </a:lnTo>
                    <a:lnTo>
                      <a:pt x="69" y="160"/>
                    </a:lnTo>
                    <a:lnTo>
                      <a:pt x="0" y="300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208520" y="1034640"/>
                <a:ext cx="313920" cy="466920"/>
              </a:xfrm>
              <a:custGeom>
                <a:avLst/>
                <a:gdLst/>
                <a:ahLst/>
                <a:rect l="l" t="t" r="r" b="b"/>
                <a:pathLst>
                  <a:path w="416" h="1377">
                    <a:moveTo>
                      <a:pt x="416" y="0"/>
                    </a:moveTo>
                    <a:lnTo>
                      <a:pt x="382" y="79"/>
                    </a:lnTo>
                    <a:lnTo>
                      <a:pt x="278" y="240"/>
                    </a:lnTo>
                    <a:lnTo>
                      <a:pt x="157" y="419"/>
                    </a:lnTo>
                    <a:lnTo>
                      <a:pt x="105" y="639"/>
                    </a:lnTo>
                    <a:lnTo>
                      <a:pt x="52" y="939"/>
                    </a:lnTo>
                    <a:lnTo>
                      <a:pt x="0" y="1238"/>
                    </a:lnTo>
                    <a:lnTo>
                      <a:pt x="0" y="137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1288440" y="993960"/>
                <a:ext cx="274320" cy="487440"/>
              </a:xfrm>
              <a:custGeom>
                <a:avLst/>
                <a:gdLst/>
                <a:ahLst/>
                <a:rect l="l" t="t" r="r" b="b"/>
                <a:pathLst>
                  <a:path w="364" h="1437">
                    <a:moveTo>
                      <a:pt x="364" y="0"/>
                    </a:moveTo>
                    <a:lnTo>
                      <a:pt x="364" y="19"/>
                    </a:lnTo>
                    <a:lnTo>
                      <a:pt x="346" y="179"/>
                    </a:lnTo>
                    <a:lnTo>
                      <a:pt x="208" y="479"/>
                    </a:lnTo>
                    <a:lnTo>
                      <a:pt x="104" y="817"/>
                    </a:lnTo>
                    <a:lnTo>
                      <a:pt x="34" y="1117"/>
                    </a:lnTo>
                    <a:lnTo>
                      <a:pt x="17" y="1337"/>
                    </a:lnTo>
                    <a:lnTo>
                      <a:pt x="0" y="1437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  <p:sp>
          <p:nvSpPr>
            <p:cNvPr id="567" name=""/>
            <p:cNvSpPr/>
            <p:nvPr/>
          </p:nvSpPr>
          <p:spPr>
            <a:xfrm>
              <a:off x="1365480" y="1075320"/>
              <a:ext cx="197640" cy="446760"/>
            </a:xfrm>
            <a:custGeom>
              <a:avLst/>
              <a:gdLst/>
              <a:ahLst/>
              <a:rect l="l" t="t" r="r" b="b"/>
              <a:pathLst>
                <a:path w="260" h="1318">
                  <a:moveTo>
                    <a:pt x="260" y="0"/>
                  </a:moveTo>
                  <a:lnTo>
                    <a:pt x="242" y="80"/>
                  </a:lnTo>
                  <a:lnTo>
                    <a:pt x="190" y="299"/>
                  </a:lnTo>
                  <a:lnTo>
                    <a:pt x="104" y="540"/>
                  </a:lnTo>
                  <a:lnTo>
                    <a:pt x="35" y="799"/>
                  </a:lnTo>
                  <a:lnTo>
                    <a:pt x="0" y="1098"/>
                  </a:lnTo>
                  <a:lnTo>
                    <a:pt x="52" y="13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471320" y="993960"/>
              <a:ext cx="143280" cy="487440"/>
            </a:xfrm>
            <a:custGeom>
              <a:avLst/>
              <a:gdLst/>
              <a:ahLst/>
              <a:rect l="l" t="t" r="r" b="b"/>
              <a:pathLst>
                <a:path w="190" h="1437">
                  <a:moveTo>
                    <a:pt x="173" y="0"/>
                  </a:moveTo>
                  <a:lnTo>
                    <a:pt x="190" y="79"/>
                  </a:lnTo>
                  <a:lnTo>
                    <a:pt x="173" y="319"/>
                  </a:lnTo>
                  <a:lnTo>
                    <a:pt x="68" y="658"/>
                  </a:lnTo>
                  <a:lnTo>
                    <a:pt x="0" y="998"/>
                  </a:lnTo>
                  <a:lnTo>
                    <a:pt x="0" y="1277"/>
                  </a:lnTo>
                  <a:lnTo>
                    <a:pt x="16" y="143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1549440" y="973440"/>
              <a:ext cx="129600" cy="528120"/>
            </a:xfrm>
            <a:custGeom>
              <a:avLst/>
              <a:gdLst/>
              <a:ahLst/>
              <a:rect l="l" t="t" r="r" b="b"/>
              <a:pathLst>
                <a:path w="174" h="1557">
                  <a:moveTo>
                    <a:pt x="122" y="0"/>
                  </a:moveTo>
                  <a:lnTo>
                    <a:pt x="157" y="61"/>
                  </a:lnTo>
                  <a:lnTo>
                    <a:pt x="174" y="280"/>
                  </a:lnTo>
                  <a:lnTo>
                    <a:pt x="70" y="659"/>
                  </a:lnTo>
                  <a:lnTo>
                    <a:pt x="35" y="840"/>
                  </a:lnTo>
                  <a:lnTo>
                    <a:pt x="0" y="1019"/>
                  </a:lnTo>
                  <a:lnTo>
                    <a:pt x="0" y="1159"/>
                  </a:lnTo>
                  <a:lnTo>
                    <a:pt x="18" y="1298"/>
                  </a:lnTo>
                  <a:lnTo>
                    <a:pt x="35" y="1398"/>
                  </a:lnTo>
                  <a:lnTo>
                    <a:pt x="52" y="1478"/>
                  </a:lnTo>
                  <a:lnTo>
                    <a:pt x="70" y="1538"/>
                  </a:lnTo>
                  <a:lnTo>
                    <a:pt x="70" y="1557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627920" y="1278360"/>
              <a:ext cx="90360" cy="223560"/>
            </a:xfrm>
            <a:custGeom>
              <a:avLst/>
              <a:gdLst/>
              <a:ahLst/>
              <a:rect l="l" t="t" r="r" b="b"/>
              <a:pathLst>
                <a:path w="121" h="658">
                  <a:moveTo>
                    <a:pt x="17" y="0"/>
                  </a:moveTo>
                  <a:lnTo>
                    <a:pt x="0" y="120"/>
                  </a:lnTo>
                  <a:lnTo>
                    <a:pt x="17" y="379"/>
                  </a:lnTo>
                  <a:lnTo>
                    <a:pt x="121" y="6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1653480" y="1055160"/>
              <a:ext cx="103680" cy="406080"/>
            </a:xfrm>
            <a:custGeom>
              <a:avLst/>
              <a:gdLst/>
              <a:ahLst/>
              <a:rect l="l" t="t" r="r" b="b"/>
              <a:pathLst>
                <a:path w="139" h="1198">
                  <a:moveTo>
                    <a:pt x="139" y="1198"/>
                  </a:moveTo>
                  <a:lnTo>
                    <a:pt x="105" y="1158"/>
                  </a:lnTo>
                  <a:lnTo>
                    <a:pt x="52" y="1019"/>
                  </a:lnTo>
                  <a:lnTo>
                    <a:pt x="0" y="759"/>
                  </a:lnTo>
                  <a:lnTo>
                    <a:pt x="35" y="359"/>
                  </a:lnTo>
                  <a:lnTo>
                    <a:pt x="52" y="279"/>
                  </a:lnTo>
                  <a:lnTo>
                    <a:pt x="87" y="119"/>
                  </a:lnTo>
                  <a:lnTo>
                    <a:pt x="87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718280" y="1014120"/>
              <a:ext cx="118800" cy="426240"/>
            </a:xfrm>
            <a:custGeom>
              <a:avLst/>
              <a:gdLst/>
              <a:ahLst/>
              <a:rect l="l" t="t" r="r" b="b"/>
              <a:pathLst>
                <a:path w="157" h="1258">
                  <a:moveTo>
                    <a:pt x="0" y="0"/>
                  </a:moveTo>
                  <a:lnTo>
                    <a:pt x="35" y="41"/>
                  </a:lnTo>
                  <a:lnTo>
                    <a:pt x="70" y="180"/>
                  </a:lnTo>
                  <a:lnTo>
                    <a:pt x="52" y="420"/>
                  </a:lnTo>
                  <a:lnTo>
                    <a:pt x="35" y="739"/>
                  </a:lnTo>
                  <a:lnTo>
                    <a:pt x="52" y="1039"/>
                  </a:lnTo>
                  <a:lnTo>
                    <a:pt x="157" y="125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757520" y="1014120"/>
              <a:ext cx="119160" cy="345240"/>
            </a:xfrm>
            <a:custGeom>
              <a:avLst/>
              <a:gdLst/>
              <a:ahLst/>
              <a:rect l="l" t="t" r="r" b="b"/>
              <a:pathLst>
                <a:path w="156" h="1018">
                  <a:moveTo>
                    <a:pt x="0" y="0"/>
                  </a:moveTo>
                  <a:lnTo>
                    <a:pt x="35" y="20"/>
                  </a:lnTo>
                  <a:lnTo>
                    <a:pt x="87" y="120"/>
                  </a:lnTo>
                  <a:lnTo>
                    <a:pt x="105" y="360"/>
                  </a:lnTo>
                  <a:lnTo>
                    <a:pt x="87" y="620"/>
                  </a:lnTo>
                  <a:lnTo>
                    <a:pt x="105" y="839"/>
                  </a:lnTo>
                  <a:lnTo>
                    <a:pt x="156" y="1018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76680" y="1156320"/>
              <a:ext cx="78120" cy="121680"/>
            </a:xfrm>
            <a:custGeom>
              <a:avLst/>
              <a:gdLst/>
              <a:ahLst/>
              <a:rect l="l" t="t" r="r" b="b"/>
              <a:pathLst>
                <a:path w="104" h="359">
                  <a:moveTo>
                    <a:pt x="0" y="0"/>
                  </a:moveTo>
                  <a:lnTo>
                    <a:pt x="0" y="59"/>
                  </a:lnTo>
                  <a:lnTo>
                    <a:pt x="17" y="200"/>
                  </a:lnTo>
                  <a:lnTo>
                    <a:pt x="104" y="359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06720" y="1805400"/>
              <a:ext cx="941040" cy="729360"/>
            </a:xfrm>
            <a:custGeom>
              <a:avLst/>
              <a:gdLst/>
              <a:ahLst/>
              <a:rect l="l" t="t" r="r" b="b"/>
              <a:pathLst>
                <a:path w="1248" h="2156">
                  <a:moveTo>
                    <a:pt x="0" y="2156"/>
                  </a:moveTo>
                  <a:lnTo>
                    <a:pt x="69" y="2115"/>
                  </a:lnTo>
                  <a:lnTo>
                    <a:pt x="277" y="1817"/>
                  </a:lnTo>
                  <a:lnTo>
                    <a:pt x="676" y="1077"/>
                  </a:lnTo>
                  <a:lnTo>
                    <a:pt x="711" y="998"/>
                  </a:lnTo>
                  <a:lnTo>
                    <a:pt x="780" y="838"/>
                  </a:lnTo>
                  <a:lnTo>
                    <a:pt x="884" y="598"/>
                  </a:lnTo>
                  <a:lnTo>
                    <a:pt x="937" y="498"/>
                  </a:lnTo>
                  <a:lnTo>
                    <a:pt x="1057" y="259"/>
                  </a:lnTo>
                  <a:lnTo>
                    <a:pt x="1248" y="0"/>
                  </a:lnTo>
                </a:path>
              </a:pathLst>
            </a:custGeom>
            <a:noFill/>
            <a:ln w="1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576" name=""/>
          <p:cNvSpPr/>
          <p:nvPr/>
        </p:nvSpPr>
        <p:spPr>
          <a:xfrm>
            <a:off x="1523880" y="1676520"/>
            <a:ext cx="7315200" cy="53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Посещающие церковь люди имеют более низкое артериальное давление, </a:t>
            </a:r>
            <a:br>
              <a:rPr sz="3600"/>
            </a:br>
            <a:r>
              <a:rPr b="0" lang="ru-RU" sz="3600" spc="-1" strike="noStrike">
                <a:solidFill>
                  <a:srgbClr val="ccecff"/>
                </a:solidFill>
                <a:latin typeface="Arial"/>
              </a:rPr>
              <a:t>чем те, кто церковь не посещает.  </a:t>
            </a:r>
            <a:endParaRPr b="0" lang="en-US" sz="36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24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Дэвид Ларсон, психиатр-исследователь </a:t>
            </a:r>
            <a:endParaRPr b="0" lang="en-US" sz="1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000" spc="-1" strike="noStrike">
                <a:solidFill>
                  <a:srgbClr val="ccecff"/>
                </a:solidFill>
                <a:latin typeface="Arial"/>
              </a:rPr>
              <a:t>из "Национального института по исследованиям в области здравоохранения"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200" spc="-1" strike="noStrike">
                <a:solidFill>
                  <a:srgbClr val="ccecff"/>
                </a:solidFill>
                <a:latin typeface="Arial"/>
              </a:rPr>
              <a:t> Time</a:t>
            </a: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, 6/24/96.  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ccecff"/>
                </a:solidFill>
                <a:latin typeface="Arial"/>
              </a:rPr>
              <a:t>C 1996 Time Inc. </a:t>
            </a:r>
            <a:r>
              <a:rPr b="0" lang="ru-RU" sz="9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9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8E743-7938-4140-8766-6ABF876E47DB}" type="slidenum">
              <a:t>16</a:t>
            </a:fld>
          </a:p>
        </p:txBody>
      </p:sp>
    </p:spTree>
  </p:cSld>
  <p:transition>
    <p:randomBa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304920" y="125280"/>
            <a:ext cx="5029200" cy="660888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1676520" y="1295280"/>
            <a:ext cx="7197480" cy="39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ccecff"/>
                </a:solidFill>
                <a:latin typeface="Arial"/>
              </a:rPr>
              <a:t>Мужчины и женщины,        которые регулярно посещают церковь,  вдвое меньше рискуют умереть от сердечно-сосудистых заболеваний, нежели те, кто ходит  в церковь редко. </a:t>
            </a:r>
            <a:endParaRPr b="0" lang="en-US" sz="32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ccecff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Claudia Wallis, “Faith and Healing,”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                                                                             </a:t>
            </a:r>
            <a:r>
              <a:rPr b="0" i="1" lang="ru-RU" sz="1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en-US" sz="1400" spc="-1" strike="noStrike">
                <a:solidFill>
                  <a:srgbClr val="ccecff"/>
                </a:solidFill>
                <a:latin typeface="Arial"/>
              </a:rPr>
              <a:t>Time</a:t>
            </a:r>
            <a:r>
              <a:rPr b="0" lang="en-US" sz="1400" spc="-1" strike="noStrike">
                <a:solidFill>
                  <a:srgbClr val="ccecff"/>
                </a:solidFill>
                <a:latin typeface="Arial"/>
              </a:rPr>
              <a:t>, 6/24/96.  C 1996 Time Inc. </a:t>
            </a:r>
            <a:br>
              <a:rPr sz="1400"/>
            </a:br>
            <a:r>
              <a:rPr b="0" lang="en-US" sz="16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ccecff"/>
                </a:solidFill>
                <a:latin typeface="Arial"/>
              </a:rPr>
              <a:t>Перепечатано с разрешения.</a:t>
            </a:r>
            <a:endParaRPr b="0" lang="en-US" sz="12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A2B6F-DAB8-4A6E-B95B-5E6A4B3A43D5}" type="slidenum">
              <a:t>17</a:t>
            </a:fld>
          </a:p>
        </p:txBody>
      </p:sp>
    </p:spTree>
  </p:cSld>
  <p:transition>
    <p:randomBa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915400" cy="1066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Люди с твёрдыми </a:t>
            </a:r>
            <a:br>
              <a:rPr sz="3600"/>
            </a:br>
            <a:r>
              <a:rPr b="0" lang="ru-RU" sz="3600" spc="-1" strike="noStrike">
                <a:solidFill>
                  <a:srgbClr val="cc99ff"/>
                </a:solidFill>
                <a:latin typeface="Arial Black"/>
              </a:rPr>
              <a:t>религиозными убеждениями</a:t>
            </a:r>
            <a:endParaRPr b="1" lang="en-US" sz="36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2742840" y="1600200"/>
            <a:ext cx="5715000" cy="3733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имеют более высокий уровень удовлетворённости жизнь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чувствуют себя более счастливыми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 Narrow"/>
              </a:rPr>
              <a:t>-реже испытывают негативные психологические последствия тяжёлых жизненных ситуаций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581" name=""/>
          <p:cNvGrpSpPr/>
          <p:nvPr/>
        </p:nvGrpSpPr>
        <p:grpSpPr>
          <a:xfrm>
            <a:off x="5791320" y="6391440"/>
            <a:ext cx="3352680" cy="457200"/>
            <a:chOff x="5791320" y="6391440"/>
            <a:chExt cx="3352680" cy="457200"/>
          </a:xfrm>
        </p:grpSpPr>
        <p:sp>
          <p:nvSpPr>
            <p:cNvPr id="582" name=""/>
            <p:cNvSpPr/>
            <p:nvPr/>
          </p:nvSpPr>
          <p:spPr>
            <a:xfrm>
              <a:off x="579132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3888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F950A350-3C31-4D3E-B688-9A17CD0DAF0E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584" name="" descr=""/>
          <p:cNvPicPr/>
          <p:nvPr/>
        </p:nvPicPr>
        <p:blipFill>
          <a:blip r:embed="rId1"/>
          <a:stretch/>
        </p:blipFill>
        <p:spPr>
          <a:xfrm>
            <a:off x="6095880" y="5791320"/>
            <a:ext cx="2938680" cy="1155600"/>
          </a:xfrm>
          <a:prstGeom prst="rect">
            <a:avLst/>
          </a:prstGeom>
          <a:ln w="0">
            <a:noFill/>
          </a:ln>
        </p:spPr>
      </p:pic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0" y="3970440"/>
            <a:ext cx="3048120" cy="2887560"/>
          </a:xfrm>
          <a:prstGeom prst="rect">
            <a:avLst/>
          </a:prstGeom>
          <a:ln w="0">
            <a:noFill/>
          </a:ln>
        </p:spPr>
      </p:pic>
      <p:grpSp>
        <p:nvGrpSpPr>
          <p:cNvPr id="586" name=""/>
          <p:cNvGrpSpPr/>
          <p:nvPr/>
        </p:nvGrpSpPr>
        <p:grpSpPr>
          <a:xfrm>
            <a:off x="3429000" y="4648320"/>
            <a:ext cx="3733920" cy="2003400"/>
            <a:chOff x="3429000" y="4648320"/>
            <a:chExt cx="3733920" cy="2003400"/>
          </a:xfrm>
        </p:grpSpPr>
        <p:pic>
          <p:nvPicPr>
            <p:cNvPr id="587" name="" descr=""/>
            <p:cNvPicPr/>
            <p:nvPr/>
          </p:nvPicPr>
          <p:blipFill>
            <a:blip r:embed="rId3"/>
            <a:stretch/>
          </p:blipFill>
          <p:spPr>
            <a:xfrm>
              <a:off x="3429000" y="4953240"/>
              <a:ext cx="1300320" cy="1676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8" name="" descr=""/>
            <p:cNvPicPr/>
            <p:nvPr/>
          </p:nvPicPr>
          <p:blipFill>
            <a:blip r:embed="rId4"/>
            <a:stretch/>
          </p:blipFill>
          <p:spPr>
            <a:xfrm>
              <a:off x="6095880" y="4648320"/>
              <a:ext cx="1067040" cy="1447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89" name=""/>
            <p:cNvGrpSpPr/>
            <p:nvPr/>
          </p:nvGrpSpPr>
          <p:grpSpPr>
            <a:xfrm>
              <a:off x="5029560" y="5257800"/>
              <a:ext cx="1223640" cy="1393920"/>
              <a:chOff x="5029560" y="5257800"/>
              <a:chExt cx="1223640" cy="1393920"/>
            </a:xfrm>
          </p:grpSpPr>
          <p:sp>
            <p:nvSpPr>
              <p:cNvPr id="590" name=""/>
              <p:cNvSpPr/>
              <p:nvPr/>
            </p:nvSpPr>
            <p:spPr>
              <a:xfrm flipH="1">
                <a:off x="5029200" y="5257800"/>
                <a:ext cx="1223640" cy="1393920"/>
              </a:xfrm>
              <a:custGeom>
                <a:avLst/>
                <a:gdLst/>
                <a:ahLst/>
                <a:rect l="l" t="t" r="r" b="b"/>
                <a:pathLst>
                  <a:path w="2020" h="2634">
                    <a:moveTo>
                      <a:pt x="1124" y="1148"/>
                    </a:moveTo>
                    <a:lnTo>
                      <a:pt x="1120" y="1162"/>
                    </a:lnTo>
                    <a:lnTo>
                      <a:pt x="1126" y="1168"/>
                    </a:lnTo>
                    <a:lnTo>
                      <a:pt x="1133" y="1175"/>
                    </a:lnTo>
                    <a:lnTo>
                      <a:pt x="1140" y="1182"/>
                    </a:lnTo>
                    <a:lnTo>
                      <a:pt x="1147" y="1187"/>
                    </a:lnTo>
                    <a:lnTo>
                      <a:pt x="1153" y="1193"/>
                    </a:lnTo>
                    <a:lnTo>
                      <a:pt x="1160" y="1196"/>
                    </a:lnTo>
                    <a:lnTo>
                      <a:pt x="1168" y="1198"/>
                    </a:lnTo>
                    <a:lnTo>
                      <a:pt x="1176" y="1200"/>
                    </a:lnTo>
                    <a:lnTo>
                      <a:pt x="1168" y="1196"/>
                    </a:lnTo>
                    <a:lnTo>
                      <a:pt x="1160" y="1190"/>
                    </a:lnTo>
                    <a:lnTo>
                      <a:pt x="1152" y="1185"/>
                    </a:lnTo>
                    <a:lnTo>
                      <a:pt x="1144" y="1179"/>
                    </a:lnTo>
                    <a:lnTo>
                      <a:pt x="1137" y="1172"/>
                    </a:lnTo>
                    <a:lnTo>
                      <a:pt x="1130" y="1166"/>
                    </a:lnTo>
                    <a:lnTo>
                      <a:pt x="1126" y="1158"/>
                    </a:lnTo>
                    <a:lnTo>
                      <a:pt x="1124" y="1148"/>
                    </a:lnTo>
                    <a:lnTo>
                      <a:pt x="961" y="1015"/>
                    </a:lnTo>
                    <a:lnTo>
                      <a:pt x="915" y="954"/>
                    </a:lnTo>
                    <a:lnTo>
                      <a:pt x="949" y="919"/>
                    </a:lnTo>
                    <a:lnTo>
                      <a:pt x="973" y="879"/>
                    </a:lnTo>
                    <a:lnTo>
                      <a:pt x="991" y="836"/>
                    </a:lnTo>
                    <a:lnTo>
                      <a:pt x="1008" y="791"/>
                    </a:lnTo>
                    <a:lnTo>
                      <a:pt x="1026" y="748"/>
                    </a:lnTo>
                    <a:lnTo>
                      <a:pt x="1049" y="708"/>
                    </a:lnTo>
                    <a:lnTo>
                      <a:pt x="1080" y="674"/>
                    </a:lnTo>
                    <a:lnTo>
                      <a:pt x="1124" y="647"/>
                    </a:lnTo>
                    <a:lnTo>
                      <a:pt x="1109" y="620"/>
                    </a:lnTo>
                    <a:lnTo>
                      <a:pt x="1096" y="590"/>
                    </a:lnTo>
                    <a:lnTo>
                      <a:pt x="1087" y="559"/>
                    </a:lnTo>
                    <a:lnTo>
                      <a:pt x="1077" y="527"/>
                    </a:lnTo>
                    <a:lnTo>
                      <a:pt x="1065" y="498"/>
                    </a:lnTo>
                    <a:lnTo>
                      <a:pt x="1048" y="474"/>
                    </a:lnTo>
                    <a:lnTo>
                      <a:pt x="1025" y="456"/>
                    </a:lnTo>
                    <a:lnTo>
                      <a:pt x="991" y="448"/>
                    </a:lnTo>
                    <a:lnTo>
                      <a:pt x="981" y="440"/>
                    </a:lnTo>
                    <a:lnTo>
                      <a:pt x="973" y="430"/>
                    </a:lnTo>
                    <a:lnTo>
                      <a:pt x="965" y="419"/>
                    </a:lnTo>
                    <a:lnTo>
                      <a:pt x="958" y="410"/>
                    </a:lnTo>
                    <a:lnTo>
                      <a:pt x="953" y="399"/>
                    </a:lnTo>
                    <a:lnTo>
                      <a:pt x="947" y="387"/>
                    </a:lnTo>
                    <a:lnTo>
                      <a:pt x="943" y="376"/>
                    </a:lnTo>
                    <a:lnTo>
                      <a:pt x="939" y="364"/>
                    </a:lnTo>
                    <a:lnTo>
                      <a:pt x="938" y="343"/>
                    </a:lnTo>
                    <a:lnTo>
                      <a:pt x="940" y="323"/>
                    </a:lnTo>
                    <a:lnTo>
                      <a:pt x="945" y="304"/>
                    </a:lnTo>
                    <a:lnTo>
                      <a:pt x="950" y="285"/>
                    </a:lnTo>
                    <a:lnTo>
                      <a:pt x="939" y="281"/>
                    </a:lnTo>
                    <a:lnTo>
                      <a:pt x="927" y="278"/>
                    </a:lnTo>
                    <a:lnTo>
                      <a:pt x="913" y="275"/>
                    </a:lnTo>
                    <a:lnTo>
                      <a:pt x="900" y="274"/>
                    </a:lnTo>
                    <a:lnTo>
                      <a:pt x="889" y="270"/>
                    </a:lnTo>
                    <a:lnTo>
                      <a:pt x="879" y="266"/>
                    </a:lnTo>
                    <a:lnTo>
                      <a:pt x="874" y="258"/>
                    </a:lnTo>
                    <a:lnTo>
                      <a:pt x="874" y="247"/>
                    </a:lnTo>
                    <a:lnTo>
                      <a:pt x="885" y="232"/>
                    </a:lnTo>
                    <a:lnTo>
                      <a:pt x="897" y="218"/>
                    </a:lnTo>
                    <a:lnTo>
                      <a:pt x="911" y="208"/>
                    </a:lnTo>
                    <a:lnTo>
                      <a:pt x="927" y="198"/>
                    </a:lnTo>
                    <a:lnTo>
                      <a:pt x="943" y="191"/>
                    </a:lnTo>
                    <a:lnTo>
                      <a:pt x="961" y="187"/>
                    </a:lnTo>
                    <a:lnTo>
                      <a:pt x="980" y="185"/>
                    </a:lnTo>
                    <a:lnTo>
                      <a:pt x="999" y="186"/>
                    </a:lnTo>
                    <a:lnTo>
                      <a:pt x="1007" y="167"/>
                    </a:lnTo>
                    <a:lnTo>
                      <a:pt x="1016" y="149"/>
                    </a:lnTo>
                    <a:lnTo>
                      <a:pt x="1027" y="133"/>
                    </a:lnTo>
                    <a:lnTo>
                      <a:pt x="1039" y="118"/>
                    </a:lnTo>
                    <a:lnTo>
                      <a:pt x="1052" y="103"/>
                    </a:lnTo>
                    <a:lnTo>
                      <a:pt x="1065" y="90"/>
                    </a:lnTo>
                    <a:lnTo>
                      <a:pt x="1080" y="77"/>
                    </a:lnTo>
                    <a:lnTo>
                      <a:pt x="1095" y="65"/>
                    </a:lnTo>
                    <a:lnTo>
                      <a:pt x="1110" y="54"/>
                    </a:lnTo>
                    <a:lnTo>
                      <a:pt x="1126" y="43"/>
                    </a:lnTo>
                    <a:lnTo>
                      <a:pt x="1144" y="35"/>
                    </a:lnTo>
                    <a:lnTo>
                      <a:pt x="1162" y="26"/>
                    </a:lnTo>
                    <a:lnTo>
                      <a:pt x="1179" y="19"/>
                    </a:lnTo>
                    <a:lnTo>
                      <a:pt x="1197" y="12"/>
                    </a:lnTo>
                    <a:lnTo>
                      <a:pt x="1214" y="5"/>
                    </a:lnTo>
                    <a:lnTo>
                      <a:pt x="1233" y="0"/>
                    </a:lnTo>
                    <a:lnTo>
                      <a:pt x="1254" y="3"/>
                    </a:lnTo>
                    <a:lnTo>
                      <a:pt x="1275" y="4"/>
                    </a:lnTo>
                    <a:lnTo>
                      <a:pt x="1297" y="5"/>
                    </a:lnTo>
                    <a:lnTo>
                      <a:pt x="1318" y="8"/>
                    </a:lnTo>
                    <a:lnTo>
                      <a:pt x="1339" y="9"/>
                    </a:lnTo>
                    <a:lnTo>
                      <a:pt x="1360" y="12"/>
                    </a:lnTo>
                    <a:lnTo>
                      <a:pt x="1381" y="15"/>
                    </a:lnTo>
                    <a:lnTo>
                      <a:pt x="1402" y="19"/>
                    </a:lnTo>
                    <a:lnTo>
                      <a:pt x="1421" y="23"/>
                    </a:lnTo>
                    <a:lnTo>
                      <a:pt x="1440" y="30"/>
                    </a:lnTo>
                    <a:lnTo>
                      <a:pt x="1459" y="37"/>
                    </a:lnTo>
                    <a:lnTo>
                      <a:pt x="1476" y="46"/>
                    </a:lnTo>
                    <a:lnTo>
                      <a:pt x="1493" y="57"/>
                    </a:lnTo>
                    <a:lnTo>
                      <a:pt x="1507" y="69"/>
                    </a:lnTo>
                    <a:lnTo>
                      <a:pt x="1522" y="84"/>
                    </a:lnTo>
                    <a:lnTo>
                      <a:pt x="1536" y="102"/>
                    </a:lnTo>
                    <a:lnTo>
                      <a:pt x="1533" y="126"/>
                    </a:lnTo>
                    <a:lnTo>
                      <a:pt x="1539" y="145"/>
                    </a:lnTo>
                    <a:lnTo>
                      <a:pt x="1551" y="164"/>
                    </a:lnTo>
                    <a:lnTo>
                      <a:pt x="1566" y="180"/>
                    </a:lnTo>
                    <a:lnTo>
                      <a:pt x="1581" y="198"/>
                    </a:lnTo>
                    <a:lnTo>
                      <a:pt x="1593" y="216"/>
                    </a:lnTo>
                    <a:lnTo>
                      <a:pt x="1601" y="236"/>
                    </a:lnTo>
                    <a:lnTo>
                      <a:pt x="1601" y="261"/>
                    </a:lnTo>
                    <a:lnTo>
                      <a:pt x="1604" y="285"/>
                    </a:lnTo>
                    <a:lnTo>
                      <a:pt x="1604" y="309"/>
                    </a:lnTo>
                    <a:lnTo>
                      <a:pt x="1601" y="334"/>
                    </a:lnTo>
                    <a:lnTo>
                      <a:pt x="1598" y="358"/>
                    </a:lnTo>
                    <a:lnTo>
                      <a:pt x="1597" y="380"/>
                    </a:lnTo>
                    <a:lnTo>
                      <a:pt x="1601" y="402"/>
                    </a:lnTo>
                    <a:lnTo>
                      <a:pt x="1611" y="421"/>
                    </a:lnTo>
                    <a:lnTo>
                      <a:pt x="1628" y="436"/>
                    </a:lnTo>
                    <a:lnTo>
                      <a:pt x="1635" y="437"/>
                    </a:lnTo>
                    <a:lnTo>
                      <a:pt x="1643" y="436"/>
                    </a:lnTo>
                    <a:lnTo>
                      <a:pt x="1650" y="436"/>
                    </a:lnTo>
                    <a:lnTo>
                      <a:pt x="1658" y="436"/>
                    </a:lnTo>
                    <a:lnTo>
                      <a:pt x="1665" y="436"/>
                    </a:lnTo>
                    <a:lnTo>
                      <a:pt x="1670" y="437"/>
                    </a:lnTo>
                    <a:lnTo>
                      <a:pt x="1676" y="441"/>
                    </a:lnTo>
                    <a:lnTo>
                      <a:pt x="1680" y="448"/>
                    </a:lnTo>
                    <a:lnTo>
                      <a:pt x="1673" y="465"/>
                    </a:lnTo>
                    <a:lnTo>
                      <a:pt x="1665" y="483"/>
                    </a:lnTo>
                    <a:lnTo>
                      <a:pt x="1657" y="501"/>
                    </a:lnTo>
                    <a:lnTo>
                      <a:pt x="1647" y="517"/>
                    </a:lnTo>
                    <a:lnTo>
                      <a:pt x="1635" y="533"/>
                    </a:lnTo>
                    <a:lnTo>
                      <a:pt x="1623" y="548"/>
                    </a:lnTo>
                    <a:lnTo>
                      <a:pt x="1608" y="562"/>
                    </a:lnTo>
                    <a:lnTo>
                      <a:pt x="1590" y="571"/>
                    </a:lnTo>
                    <a:lnTo>
                      <a:pt x="1608" y="579"/>
                    </a:lnTo>
                    <a:lnTo>
                      <a:pt x="1627" y="588"/>
                    </a:lnTo>
                    <a:lnTo>
                      <a:pt x="1646" y="598"/>
                    </a:lnTo>
                    <a:lnTo>
                      <a:pt x="1663" y="609"/>
                    </a:lnTo>
                    <a:lnTo>
                      <a:pt x="1680" y="623"/>
                    </a:lnTo>
                    <a:lnTo>
                      <a:pt x="1693" y="638"/>
                    </a:lnTo>
                    <a:lnTo>
                      <a:pt x="1705" y="655"/>
                    </a:lnTo>
                    <a:lnTo>
                      <a:pt x="1715" y="674"/>
                    </a:lnTo>
                    <a:lnTo>
                      <a:pt x="1715" y="702"/>
                    </a:lnTo>
                    <a:lnTo>
                      <a:pt x="1720" y="727"/>
                    </a:lnTo>
                    <a:lnTo>
                      <a:pt x="1730" y="750"/>
                    </a:lnTo>
                    <a:lnTo>
                      <a:pt x="1743" y="774"/>
                    </a:lnTo>
                    <a:lnTo>
                      <a:pt x="1758" y="795"/>
                    </a:lnTo>
                    <a:lnTo>
                      <a:pt x="1775" y="817"/>
                    </a:lnTo>
                    <a:lnTo>
                      <a:pt x="1790" y="837"/>
                    </a:lnTo>
                    <a:lnTo>
                      <a:pt x="1802" y="859"/>
                    </a:lnTo>
                    <a:lnTo>
                      <a:pt x="1799" y="867"/>
                    </a:lnTo>
                    <a:lnTo>
                      <a:pt x="1795" y="873"/>
                    </a:lnTo>
                    <a:lnTo>
                      <a:pt x="1790" y="877"/>
                    </a:lnTo>
                    <a:lnTo>
                      <a:pt x="1784" y="879"/>
                    </a:lnTo>
                    <a:lnTo>
                      <a:pt x="1777" y="882"/>
                    </a:lnTo>
                    <a:lnTo>
                      <a:pt x="1771" y="886"/>
                    </a:lnTo>
                    <a:lnTo>
                      <a:pt x="1765" y="890"/>
                    </a:lnTo>
                    <a:lnTo>
                      <a:pt x="1761" y="897"/>
                    </a:lnTo>
                    <a:lnTo>
                      <a:pt x="1769" y="915"/>
                    </a:lnTo>
                    <a:lnTo>
                      <a:pt x="1776" y="932"/>
                    </a:lnTo>
                    <a:lnTo>
                      <a:pt x="1781" y="950"/>
                    </a:lnTo>
                    <a:lnTo>
                      <a:pt x="1788" y="969"/>
                    </a:lnTo>
                    <a:lnTo>
                      <a:pt x="1792" y="988"/>
                    </a:lnTo>
                    <a:lnTo>
                      <a:pt x="1796" y="1007"/>
                    </a:lnTo>
                    <a:lnTo>
                      <a:pt x="1799" y="1026"/>
                    </a:lnTo>
                    <a:lnTo>
                      <a:pt x="1802" y="1045"/>
                    </a:lnTo>
                    <a:lnTo>
                      <a:pt x="1815" y="1063"/>
                    </a:lnTo>
                    <a:lnTo>
                      <a:pt x="1829" y="1080"/>
                    </a:lnTo>
                    <a:lnTo>
                      <a:pt x="1844" y="1098"/>
                    </a:lnTo>
                    <a:lnTo>
                      <a:pt x="1857" y="1114"/>
                    </a:lnTo>
                    <a:lnTo>
                      <a:pt x="1872" y="1132"/>
                    </a:lnTo>
                    <a:lnTo>
                      <a:pt x="1887" y="1148"/>
                    </a:lnTo>
                    <a:lnTo>
                      <a:pt x="1901" y="1166"/>
                    </a:lnTo>
                    <a:lnTo>
                      <a:pt x="1916" y="1182"/>
                    </a:lnTo>
                    <a:lnTo>
                      <a:pt x="1931" y="1200"/>
                    </a:lnTo>
                    <a:lnTo>
                      <a:pt x="1944" y="1217"/>
                    </a:lnTo>
                    <a:lnTo>
                      <a:pt x="1958" y="1235"/>
                    </a:lnTo>
                    <a:lnTo>
                      <a:pt x="1971" y="1253"/>
                    </a:lnTo>
                    <a:lnTo>
                      <a:pt x="1984" y="1272"/>
                    </a:lnTo>
                    <a:lnTo>
                      <a:pt x="1996" y="1289"/>
                    </a:lnTo>
                    <a:lnTo>
                      <a:pt x="2008" y="1310"/>
                    </a:lnTo>
                    <a:lnTo>
                      <a:pt x="2019" y="1329"/>
                    </a:lnTo>
                    <a:lnTo>
                      <a:pt x="2020" y="1364"/>
                    </a:lnTo>
                    <a:lnTo>
                      <a:pt x="2013" y="1396"/>
                    </a:lnTo>
                    <a:lnTo>
                      <a:pt x="2003" y="1426"/>
                    </a:lnTo>
                    <a:lnTo>
                      <a:pt x="1986" y="1455"/>
                    </a:lnTo>
                    <a:lnTo>
                      <a:pt x="1967" y="1483"/>
                    </a:lnTo>
                    <a:lnTo>
                      <a:pt x="1947" y="1510"/>
                    </a:lnTo>
                    <a:lnTo>
                      <a:pt x="1927" y="1538"/>
                    </a:lnTo>
                    <a:lnTo>
                      <a:pt x="1906" y="1566"/>
                    </a:lnTo>
                    <a:lnTo>
                      <a:pt x="1894" y="1576"/>
                    </a:lnTo>
                    <a:lnTo>
                      <a:pt x="1880" y="1585"/>
                    </a:lnTo>
                    <a:lnTo>
                      <a:pt x="1866" y="1592"/>
                    </a:lnTo>
                    <a:lnTo>
                      <a:pt x="1851" y="1597"/>
                    </a:lnTo>
                    <a:lnTo>
                      <a:pt x="1836" y="1603"/>
                    </a:lnTo>
                    <a:lnTo>
                      <a:pt x="1819" y="1605"/>
                    </a:lnTo>
                    <a:lnTo>
                      <a:pt x="1803" y="1608"/>
                    </a:lnTo>
                    <a:lnTo>
                      <a:pt x="1787" y="1609"/>
                    </a:lnTo>
                    <a:lnTo>
                      <a:pt x="1769" y="1609"/>
                    </a:lnTo>
                    <a:lnTo>
                      <a:pt x="1752" y="1609"/>
                    </a:lnTo>
                    <a:lnTo>
                      <a:pt x="1735" y="1607"/>
                    </a:lnTo>
                    <a:lnTo>
                      <a:pt x="1718" y="1605"/>
                    </a:lnTo>
                    <a:lnTo>
                      <a:pt x="1701" y="1603"/>
                    </a:lnTo>
                    <a:lnTo>
                      <a:pt x="1685" y="1599"/>
                    </a:lnTo>
                    <a:lnTo>
                      <a:pt x="1669" y="1595"/>
                    </a:lnTo>
                    <a:lnTo>
                      <a:pt x="1654" y="1590"/>
                    </a:lnTo>
                    <a:lnTo>
                      <a:pt x="1647" y="1601"/>
                    </a:lnTo>
                    <a:lnTo>
                      <a:pt x="1640" y="1643"/>
                    </a:lnTo>
                    <a:lnTo>
                      <a:pt x="1644" y="1688"/>
                    </a:lnTo>
                    <a:lnTo>
                      <a:pt x="1653" y="1734"/>
                    </a:lnTo>
                    <a:lnTo>
                      <a:pt x="1661" y="1779"/>
                    </a:lnTo>
                    <a:lnTo>
                      <a:pt x="1663" y="1821"/>
                    </a:lnTo>
                    <a:lnTo>
                      <a:pt x="1655" y="1859"/>
                    </a:lnTo>
                    <a:lnTo>
                      <a:pt x="1631" y="1890"/>
                    </a:lnTo>
                    <a:lnTo>
                      <a:pt x="1586" y="1912"/>
                    </a:lnTo>
                    <a:lnTo>
                      <a:pt x="1583" y="1930"/>
                    </a:lnTo>
                    <a:lnTo>
                      <a:pt x="1574" y="1942"/>
                    </a:lnTo>
                    <a:lnTo>
                      <a:pt x="1562" y="1954"/>
                    </a:lnTo>
                    <a:lnTo>
                      <a:pt x="1548" y="1964"/>
                    </a:lnTo>
                    <a:lnTo>
                      <a:pt x="1536" y="1974"/>
                    </a:lnTo>
                    <a:lnTo>
                      <a:pt x="1528" y="1988"/>
                    </a:lnTo>
                    <a:lnTo>
                      <a:pt x="1526" y="2004"/>
                    </a:lnTo>
                    <a:lnTo>
                      <a:pt x="1533" y="2026"/>
                    </a:lnTo>
                    <a:lnTo>
                      <a:pt x="1525" y="2049"/>
                    </a:lnTo>
                    <a:lnTo>
                      <a:pt x="1516" y="2074"/>
                    </a:lnTo>
                    <a:lnTo>
                      <a:pt x="1507" y="2097"/>
                    </a:lnTo>
                    <a:lnTo>
                      <a:pt x="1498" y="2121"/>
                    </a:lnTo>
                    <a:lnTo>
                      <a:pt x="1488" y="2144"/>
                    </a:lnTo>
                    <a:lnTo>
                      <a:pt x="1475" y="2166"/>
                    </a:lnTo>
                    <a:lnTo>
                      <a:pt x="1460" y="2188"/>
                    </a:lnTo>
                    <a:lnTo>
                      <a:pt x="1442" y="2207"/>
                    </a:lnTo>
                    <a:lnTo>
                      <a:pt x="1464" y="2380"/>
                    </a:lnTo>
                    <a:lnTo>
                      <a:pt x="1574" y="2566"/>
                    </a:lnTo>
                    <a:lnTo>
                      <a:pt x="1571" y="2588"/>
                    </a:lnTo>
                    <a:lnTo>
                      <a:pt x="1566" y="2608"/>
                    </a:lnTo>
                    <a:lnTo>
                      <a:pt x="1555" y="2625"/>
                    </a:lnTo>
                    <a:lnTo>
                      <a:pt x="1536" y="2634"/>
                    </a:lnTo>
                    <a:lnTo>
                      <a:pt x="1518" y="2630"/>
                    </a:lnTo>
                    <a:lnTo>
                      <a:pt x="1502" y="2625"/>
                    </a:lnTo>
                    <a:lnTo>
                      <a:pt x="1486" y="2618"/>
                    </a:lnTo>
                    <a:lnTo>
                      <a:pt x="1471" y="2610"/>
                    </a:lnTo>
                    <a:lnTo>
                      <a:pt x="1456" y="2601"/>
                    </a:lnTo>
                    <a:lnTo>
                      <a:pt x="1441" y="2591"/>
                    </a:lnTo>
                    <a:lnTo>
                      <a:pt x="1426" y="2580"/>
                    </a:lnTo>
                    <a:lnTo>
                      <a:pt x="1412" y="2568"/>
                    </a:lnTo>
                    <a:lnTo>
                      <a:pt x="1398" y="2555"/>
                    </a:lnTo>
                    <a:lnTo>
                      <a:pt x="1385" y="2543"/>
                    </a:lnTo>
                    <a:lnTo>
                      <a:pt x="1372" y="2530"/>
                    </a:lnTo>
                    <a:lnTo>
                      <a:pt x="1358" y="2517"/>
                    </a:lnTo>
                    <a:lnTo>
                      <a:pt x="1346" y="2504"/>
                    </a:lnTo>
                    <a:lnTo>
                      <a:pt x="1334" y="2490"/>
                    </a:lnTo>
                    <a:lnTo>
                      <a:pt x="1322" y="2477"/>
                    </a:lnTo>
                    <a:lnTo>
                      <a:pt x="1309" y="2464"/>
                    </a:lnTo>
                    <a:lnTo>
                      <a:pt x="1311" y="2452"/>
                    </a:lnTo>
                    <a:lnTo>
                      <a:pt x="1308" y="2443"/>
                    </a:lnTo>
                    <a:lnTo>
                      <a:pt x="1303" y="2436"/>
                    </a:lnTo>
                    <a:lnTo>
                      <a:pt x="1294" y="2432"/>
                    </a:lnTo>
                    <a:lnTo>
                      <a:pt x="1285" y="2426"/>
                    </a:lnTo>
                    <a:lnTo>
                      <a:pt x="1275" y="2422"/>
                    </a:lnTo>
                    <a:lnTo>
                      <a:pt x="1267" y="2416"/>
                    </a:lnTo>
                    <a:lnTo>
                      <a:pt x="1261" y="2407"/>
                    </a:lnTo>
                    <a:lnTo>
                      <a:pt x="1251" y="2395"/>
                    </a:lnTo>
                    <a:lnTo>
                      <a:pt x="1243" y="2382"/>
                    </a:lnTo>
                    <a:lnTo>
                      <a:pt x="1233" y="2367"/>
                    </a:lnTo>
                    <a:lnTo>
                      <a:pt x="1227" y="2352"/>
                    </a:lnTo>
                    <a:lnTo>
                      <a:pt x="1223" y="2337"/>
                    </a:lnTo>
                    <a:lnTo>
                      <a:pt x="1223" y="2322"/>
                    </a:lnTo>
                    <a:lnTo>
                      <a:pt x="1228" y="2307"/>
                    </a:lnTo>
                    <a:lnTo>
                      <a:pt x="1238" y="2293"/>
                    </a:lnTo>
                    <a:lnTo>
                      <a:pt x="1266" y="2261"/>
                    </a:lnTo>
                    <a:lnTo>
                      <a:pt x="1278" y="2227"/>
                    </a:lnTo>
                    <a:lnTo>
                      <a:pt x="1280" y="2192"/>
                    </a:lnTo>
                    <a:lnTo>
                      <a:pt x="1273" y="2156"/>
                    </a:lnTo>
                    <a:lnTo>
                      <a:pt x="1261" y="2118"/>
                    </a:lnTo>
                    <a:lnTo>
                      <a:pt x="1248" y="2082"/>
                    </a:lnTo>
                    <a:lnTo>
                      <a:pt x="1240" y="2044"/>
                    </a:lnTo>
                    <a:lnTo>
                      <a:pt x="1238" y="2007"/>
                    </a:lnTo>
                    <a:lnTo>
                      <a:pt x="1233" y="1972"/>
                    </a:lnTo>
                    <a:lnTo>
                      <a:pt x="1210" y="1966"/>
                    </a:lnTo>
                    <a:lnTo>
                      <a:pt x="1189" y="1960"/>
                    </a:lnTo>
                    <a:lnTo>
                      <a:pt x="1167" y="1951"/>
                    </a:lnTo>
                    <a:lnTo>
                      <a:pt x="1145" y="1943"/>
                    </a:lnTo>
                    <a:lnTo>
                      <a:pt x="1125" y="1934"/>
                    </a:lnTo>
                    <a:lnTo>
                      <a:pt x="1103" y="1924"/>
                    </a:lnTo>
                    <a:lnTo>
                      <a:pt x="1083" y="1913"/>
                    </a:lnTo>
                    <a:lnTo>
                      <a:pt x="1063" y="1901"/>
                    </a:lnTo>
                    <a:lnTo>
                      <a:pt x="1042" y="1890"/>
                    </a:lnTo>
                    <a:lnTo>
                      <a:pt x="1023" y="1877"/>
                    </a:lnTo>
                    <a:lnTo>
                      <a:pt x="1003" y="1865"/>
                    </a:lnTo>
                    <a:lnTo>
                      <a:pt x="984" y="1850"/>
                    </a:lnTo>
                    <a:lnTo>
                      <a:pt x="965" y="1836"/>
                    </a:lnTo>
                    <a:lnTo>
                      <a:pt x="946" y="1821"/>
                    </a:lnTo>
                    <a:lnTo>
                      <a:pt x="928" y="1806"/>
                    </a:lnTo>
                    <a:lnTo>
                      <a:pt x="909" y="1790"/>
                    </a:lnTo>
                    <a:lnTo>
                      <a:pt x="877" y="1745"/>
                    </a:lnTo>
                    <a:lnTo>
                      <a:pt x="966" y="1506"/>
                    </a:lnTo>
                    <a:lnTo>
                      <a:pt x="976" y="1491"/>
                    </a:lnTo>
                    <a:lnTo>
                      <a:pt x="985" y="1478"/>
                    </a:lnTo>
                    <a:lnTo>
                      <a:pt x="996" y="1463"/>
                    </a:lnTo>
                    <a:lnTo>
                      <a:pt x="1007" y="1448"/>
                    </a:lnTo>
                    <a:lnTo>
                      <a:pt x="1018" y="1433"/>
                    </a:lnTo>
                    <a:lnTo>
                      <a:pt x="1027" y="1418"/>
                    </a:lnTo>
                    <a:lnTo>
                      <a:pt x="1037" y="1403"/>
                    </a:lnTo>
                    <a:lnTo>
                      <a:pt x="1045" y="1388"/>
                    </a:lnTo>
                    <a:lnTo>
                      <a:pt x="1031" y="1402"/>
                    </a:lnTo>
                    <a:lnTo>
                      <a:pt x="1019" y="1415"/>
                    </a:lnTo>
                    <a:lnTo>
                      <a:pt x="1008" y="1430"/>
                    </a:lnTo>
                    <a:lnTo>
                      <a:pt x="997" y="1447"/>
                    </a:lnTo>
                    <a:lnTo>
                      <a:pt x="988" y="1462"/>
                    </a:lnTo>
                    <a:lnTo>
                      <a:pt x="980" y="1478"/>
                    </a:lnTo>
                    <a:lnTo>
                      <a:pt x="973" y="1493"/>
                    </a:lnTo>
                    <a:lnTo>
                      <a:pt x="966" y="1506"/>
                    </a:lnTo>
                    <a:lnTo>
                      <a:pt x="877" y="1745"/>
                    </a:lnTo>
                    <a:lnTo>
                      <a:pt x="860" y="1789"/>
                    </a:lnTo>
                    <a:lnTo>
                      <a:pt x="859" y="1840"/>
                    </a:lnTo>
                    <a:lnTo>
                      <a:pt x="866" y="1896"/>
                    </a:lnTo>
                    <a:lnTo>
                      <a:pt x="871" y="1945"/>
                    </a:lnTo>
                    <a:lnTo>
                      <a:pt x="843" y="1972"/>
                    </a:lnTo>
                    <a:lnTo>
                      <a:pt x="827" y="2006"/>
                    </a:lnTo>
                    <a:lnTo>
                      <a:pt x="817" y="2044"/>
                    </a:lnTo>
                    <a:lnTo>
                      <a:pt x="810" y="2083"/>
                    </a:lnTo>
                    <a:lnTo>
                      <a:pt x="802" y="2121"/>
                    </a:lnTo>
                    <a:lnTo>
                      <a:pt x="787" y="2155"/>
                    </a:lnTo>
                    <a:lnTo>
                      <a:pt x="763" y="2181"/>
                    </a:lnTo>
                    <a:lnTo>
                      <a:pt x="722" y="2196"/>
                    </a:lnTo>
                    <a:lnTo>
                      <a:pt x="717" y="2217"/>
                    </a:lnTo>
                    <a:lnTo>
                      <a:pt x="707" y="2240"/>
                    </a:lnTo>
                    <a:lnTo>
                      <a:pt x="696" y="2265"/>
                    </a:lnTo>
                    <a:lnTo>
                      <a:pt x="687" y="2288"/>
                    </a:lnTo>
                    <a:lnTo>
                      <a:pt x="683" y="2311"/>
                    </a:lnTo>
                    <a:lnTo>
                      <a:pt x="684" y="2333"/>
                    </a:lnTo>
                    <a:lnTo>
                      <a:pt x="696" y="2352"/>
                    </a:lnTo>
                    <a:lnTo>
                      <a:pt x="722" y="2369"/>
                    </a:lnTo>
                    <a:lnTo>
                      <a:pt x="736" y="2384"/>
                    </a:lnTo>
                    <a:lnTo>
                      <a:pt x="749" y="2402"/>
                    </a:lnTo>
                    <a:lnTo>
                      <a:pt x="761" y="2420"/>
                    </a:lnTo>
                    <a:lnTo>
                      <a:pt x="772" y="2437"/>
                    </a:lnTo>
                    <a:lnTo>
                      <a:pt x="780" y="2458"/>
                    </a:lnTo>
                    <a:lnTo>
                      <a:pt x="784" y="2477"/>
                    </a:lnTo>
                    <a:lnTo>
                      <a:pt x="786" y="2497"/>
                    </a:lnTo>
                    <a:lnTo>
                      <a:pt x="783" y="2517"/>
                    </a:lnTo>
                    <a:lnTo>
                      <a:pt x="778" y="2524"/>
                    </a:lnTo>
                    <a:lnTo>
                      <a:pt x="771" y="2530"/>
                    </a:lnTo>
                    <a:lnTo>
                      <a:pt x="761" y="2534"/>
                    </a:lnTo>
                    <a:lnTo>
                      <a:pt x="752" y="2536"/>
                    </a:lnTo>
                    <a:lnTo>
                      <a:pt x="742" y="2536"/>
                    </a:lnTo>
                    <a:lnTo>
                      <a:pt x="733" y="2536"/>
                    </a:lnTo>
                    <a:lnTo>
                      <a:pt x="723" y="2534"/>
                    </a:lnTo>
                    <a:lnTo>
                      <a:pt x="715" y="2530"/>
                    </a:lnTo>
                    <a:lnTo>
                      <a:pt x="688" y="2513"/>
                    </a:lnTo>
                    <a:lnTo>
                      <a:pt x="662" y="2494"/>
                    </a:lnTo>
                    <a:lnTo>
                      <a:pt x="635" y="2474"/>
                    </a:lnTo>
                    <a:lnTo>
                      <a:pt x="610" y="2452"/>
                    </a:lnTo>
                    <a:lnTo>
                      <a:pt x="585" y="2429"/>
                    </a:lnTo>
                    <a:lnTo>
                      <a:pt x="562" y="2405"/>
                    </a:lnTo>
                    <a:lnTo>
                      <a:pt x="540" y="2382"/>
                    </a:lnTo>
                    <a:lnTo>
                      <a:pt x="523" y="2359"/>
                    </a:lnTo>
                    <a:lnTo>
                      <a:pt x="521" y="2348"/>
                    </a:lnTo>
                    <a:lnTo>
                      <a:pt x="524" y="2340"/>
                    </a:lnTo>
                    <a:lnTo>
                      <a:pt x="529" y="2333"/>
                    </a:lnTo>
                    <a:lnTo>
                      <a:pt x="536" y="2326"/>
                    </a:lnTo>
                    <a:lnTo>
                      <a:pt x="543" y="2321"/>
                    </a:lnTo>
                    <a:lnTo>
                      <a:pt x="551" y="2315"/>
                    </a:lnTo>
                    <a:lnTo>
                      <a:pt x="558" y="2310"/>
                    </a:lnTo>
                    <a:lnTo>
                      <a:pt x="563" y="2304"/>
                    </a:lnTo>
                    <a:lnTo>
                      <a:pt x="591" y="2181"/>
                    </a:lnTo>
                    <a:lnTo>
                      <a:pt x="580" y="2170"/>
                    </a:lnTo>
                    <a:lnTo>
                      <a:pt x="567" y="2164"/>
                    </a:lnTo>
                    <a:lnTo>
                      <a:pt x="554" y="2163"/>
                    </a:lnTo>
                    <a:lnTo>
                      <a:pt x="542" y="2166"/>
                    </a:lnTo>
                    <a:lnTo>
                      <a:pt x="528" y="2170"/>
                    </a:lnTo>
                    <a:lnTo>
                      <a:pt x="515" y="2174"/>
                    </a:lnTo>
                    <a:lnTo>
                      <a:pt x="501" y="2178"/>
                    </a:lnTo>
                    <a:lnTo>
                      <a:pt x="487" y="2181"/>
                    </a:lnTo>
                    <a:lnTo>
                      <a:pt x="333" y="2321"/>
                    </a:lnTo>
                    <a:lnTo>
                      <a:pt x="340" y="2335"/>
                    </a:lnTo>
                    <a:lnTo>
                      <a:pt x="340" y="2353"/>
                    </a:lnTo>
                    <a:lnTo>
                      <a:pt x="336" y="2371"/>
                    </a:lnTo>
                    <a:lnTo>
                      <a:pt x="329" y="2386"/>
                    </a:lnTo>
                    <a:lnTo>
                      <a:pt x="315" y="2398"/>
                    </a:lnTo>
                    <a:lnTo>
                      <a:pt x="300" y="2409"/>
                    </a:lnTo>
                    <a:lnTo>
                      <a:pt x="284" y="2420"/>
                    </a:lnTo>
                    <a:lnTo>
                      <a:pt x="268" y="2428"/>
                    </a:lnTo>
                    <a:lnTo>
                      <a:pt x="251" y="2435"/>
                    </a:lnTo>
                    <a:lnTo>
                      <a:pt x="235" y="2441"/>
                    </a:lnTo>
                    <a:lnTo>
                      <a:pt x="218" y="2447"/>
                    </a:lnTo>
                    <a:lnTo>
                      <a:pt x="200" y="2451"/>
                    </a:lnTo>
                    <a:lnTo>
                      <a:pt x="181" y="2455"/>
                    </a:lnTo>
                    <a:lnTo>
                      <a:pt x="163" y="2458"/>
                    </a:lnTo>
                    <a:lnTo>
                      <a:pt x="144" y="2460"/>
                    </a:lnTo>
                    <a:lnTo>
                      <a:pt x="127" y="2463"/>
                    </a:lnTo>
                    <a:lnTo>
                      <a:pt x="108" y="2464"/>
                    </a:lnTo>
                    <a:lnTo>
                      <a:pt x="89" y="2466"/>
                    </a:lnTo>
                    <a:lnTo>
                      <a:pt x="71" y="2466"/>
                    </a:lnTo>
                    <a:lnTo>
                      <a:pt x="52" y="2467"/>
                    </a:lnTo>
                    <a:lnTo>
                      <a:pt x="43" y="2464"/>
                    </a:lnTo>
                    <a:lnTo>
                      <a:pt x="34" y="2460"/>
                    </a:lnTo>
                    <a:lnTo>
                      <a:pt x="28" y="2455"/>
                    </a:lnTo>
                    <a:lnTo>
                      <a:pt x="21" y="2448"/>
                    </a:lnTo>
                    <a:lnTo>
                      <a:pt x="14" y="2440"/>
                    </a:lnTo>
                    <a:lnTo>
                      <a:pt x="9" y="2433"/>
                    </a:lnTo>
                    <a:lnTo>
                      <a:pt x="5" y="2424"/>
                    </a:lnTo>
                    <a:lnTo>
                      <a:pt x="0" y="2416"/>
                    </a:lnTo>
                    <a:lnTo>
                      <a:pt x="11" y="2387"/>
                    </a:lnTo>
                    <a:lnTo>
                      <a:pt x="28" y="2365"/>
                    </a:lnTo>
                    <a:lnTo>
                      <a:pt x="48" y="2346"/>
                    </a:lnTo>
                    <a:lnTo>
                      <a:pt x="72" y="2330"/>
                    </a:lnTo>
                    <a:lnTo>
                      <a:pt x="98" y="2316"/>
                    </a:lnTo>
                    <a:lnTo>
                      <a:pt x="124" y="2303"/>
                    </a:lnTo>
                    <a:lnTo>
                      <a:pt x="150" y="2289"/>
                    </a:lnTo>
                    <a:lnTo>
                      <a:pt x="174" y="2274"/>
                    </a:lnTo>
                    <a:lnTo>
                      <a:pt x="197" y="2270"/>
                    </a:lnTo>
                    <a:lnTo>
                      <a:pt x="219" y="2261"/>
                    </a:lnTo>
                    <a:lnTo>
                      <a:pt x="237" y="2246"/>
                    </a:lnTo>
                    <a:lnTo>
                      <a:pt x="253" y="2228"/>
                    </a:lnTo>
                    <a:lnTo>
                      <a:pt x="268" y="2208"/>
                    </a:lnTo>
                    <a:lnTo>
                      <a:pt x="281" y="2186"/>
                    </a:lnTo>
                    <a:lnTo>
                      <a:pt x="295" y="2164"/>
                    </a:lnTo>
                    <a:lnTo>
                      <a:pt x="310" y="2145"/>
                    </a:lnTo>
                    <a:lnTo>
                      <a:pt x="302" y="2135"/>
                    </a:lnTo>
                    <a:lnTo>
                      <a:pt x="288" y="2125"/>
                    </a:lnTo>
                    <a:lnTo>
                      <a:pt x="274" y="2117"/>
                    </a:lnTo>
                    <a:lnTo>
                      <a:pt x="261" y="2109"/>
                    </a:lnTo>
                    <a:lnTo>
                      <a:pt x="250" y="2099"/>
                    </a:lnTo>
                    <a:lnTo>
                      <a:pt x="243" y="2088"/>
                    </a:lnTo>
                    <a:lnTo>
                      <a:pt x="243" y="2075"/>
                    </a:lnTo>
                    <a:lnTo>
                      <a:pt x="253" y="2059"/>
                    </a:lnTo>
                    <a:lnTo>
                      <a:pt x="260" y="2042"/>
                    </a:lnTo>
                    <a:lnTo>
                      <a:pt x="269" y="2027"/>
                    </a:lnTo>
                    <a:lnTo>
                      <a:pt x="281" y="2014"/>
                    </a:lnTo>
                    <a:lnTo>
                      <a:pt x="295" y="2002"/>
                    </a:lnTo>
                    <a:lnTo>
                      <a:pt x="308" y="1988"/>
                    </a:lnTo>
                    <a:lnTo>
                      <a:pt x="322" y="1974"/>
                    </a:lnTo>
                    <a:lnTo>
                      <a:pt x="334" y="1960"/>
                    </a:lnTo>
                    <a:lnTo>
                      <a:pt x="344" y="1945"/>
                    </a:lnTo>
                    <a:lnTo>
                      <a:pt x="336" y="1934"/>
                    </a:lnTo>
                    <a:lnTo>
                      <a:pt x="333" y="1919"/>
                    </a:lnTo>
                    <a:lnTo>
                      <a:pt x="334" y="1903"/>
                    </a:lnTo>
                    <a:lnTo>
                      <a:pt x="341" y="1888"/>
                    </a:lnTo>
                    <a:lnTo>
                      <a:pt x="350" y="1881"/>
                    </a:lnTo>
                    <a:lnTo>
                      <a:pt x="355" y="1871"/>
                    </a:lnTo>
                    <a:lnTo>
                      <a:pt x="356" y="1862"/>
                    </a:lnTo>
                    <a:lnTo>
                      <a:pt x="360" y="1851"/>
                    </a:lnTo>
                    <a:lnTo>
                      <a:pt x="349" y="1847"/>
                    </a:lnTo>
                    <a:lnTo>
                      <a:pt x="338" y="1844"/>
                    </a:lnTo>
                    <a:lnTo>
                      <a:pt x="327" y="1843"/>
                    </a:lnTo>
                    <a:lnTo>
                      <a:pt x="315" y="1841"/>
                    </a:lnTo>
                    <a:lnTo>
                      <a:pt x="304" y="1840"/>
                    </a:lnTo>
                    <a:lnTo>
                      <a:pt x="295" y="1836"/>
                    </a:lnTo>
                    <a:lnTo>
                      <a:pt x="287" y="1831"/>
                    </a:lnTo>
                    <a:lnTo>
                      <a:pt x="280" y="1820"/>
                    </a:lnTo>
                    <a:lnTo>
                      <a:pt x="269" y="1818"/>
                    </a:lnTo>
                    <a:lnTo>
                      <a:pt x="260" y="1820"/>
                    </a:lnTo>
                    <a:lnTo>
                      <a:pt x="251" y="1821"/>
                    </a:lnTo>
                    <a:lnTo>
                      <a:pt x="242" y="1824"/>
                    </a:lnTo>
                    <a:lnTo>
                      <a:pt x="234" y="1828"/>
                    </a:lnTo>
                    <a:lnTo>
                      <a:pt x="226" y="1831"/>
                    </a:lnTo>
                    <a:lnTo>
                      <a:pt x="218" y="1833"/>
                    </a:lnTo>
                    <a:lnTo>
                      <a:pt x="208" y="1836"/>
                    </a:lnTo>
                    <a:lnTo>
                      <a:pt x="203" y="1844"/>
                    </a:lnTo>
                    <a:lnTo>
                      <a:pt x="196" y="1854"/>
                    </a:lnTo>
                    <a:lnTo>
                      <a:pt x="190" y="1862"/>
                    </a:lnTo>
                    <a:lnTo>
                      <a:pt x="184" y="1870"/>
                    </a:lnTo>
                    <a:lnTo>
                      <a:pt x="177" y="1878"/>
                    </a:lnTo>
                    <a:lnTo>
                      <a:pt x="170" y="1884"/>
                    </a:lnTo>
                    <a:lnTo>
                      <a:pt x="161" y="1889"/>
                    </a:lnTo>
                    <a:lnTo>
                      <a:pt x="151" y="1893"/>
                    </a:lnTo>
                    <a:lnTo>
                      <a:pt x="143" y="1892"/>
                    </a:lnTo>
                    <a:lnTo>
                      <a:pt x="135" y="1890"/>
                    </a:lnTo>
                    <a:lnTo>
                      <a:pt x="128" y="1888"/>
                    </a:lnTo>
                    <a:lnTo>
                      <a:pt x="121" y="1885"/>
                    </a:lnTo>
                    <a:lnTo>
                      <a:pt x="116" y="1879"/>
                    </a:lnTo>
                    <a:lnTo>
                      <a:pt x="110" y="1874"/>
                    </a:lnTo>
                    <a:lnTo>
                      <a:pt x="108" y="1867"/>
                    </a:lnTo>
                    <a:lnTo>
                      <a:pt x="106" y="1858"/>
                    </a:lnTo>
                    <a:lnTo>
                      <a:pt x="109" y="1832"/>
                    </a:lnTo>
                    <a:lnTo>
                      <a:pt x="101" y="1809"/>
                    </a:lnTo>
                    <a:lnTo>
                      <a:pt x="85" y="1790"/>
                    </a:lnTo>
                    <a:lnTo>
                      <a:pt x="64" y="1772"/>
                    </a:lnTo>
                    <a:lnTo>
                      <a:pt x="47" y="1753"/>
                    </a:lnTo>
                    <a:lnTo>
                      <a:pt x="33" y="1733"/>
                    </a:lnTo>
                    <a:lnTo>
                      <a:pt x="29" y="1709"/>
                    </a:lnTo>
                    <a:lnTo>
                      <a:pt x="38" y="1680"/>
                    </a:lnTo>
                    <a:lnTo>
                      <a:pt x="67" y="1666"/>
                    </a:lnTo>
                    <a:lnTo>
                      <a:pt x="94" y="1666"/>
                    </a:lnTo>
                    <a:lnTo>
                      <a:pt x="120" y="1676"/>
                    </a:lnTo>
                    <a:lnTo>
                      <a:pt x="144" y="1691"/>
                    </a:lnTo>
                    <a:lnTo>
                      <a:pt x="170" y="1706"/>
                    </a:lnTo>
                    <a:lnTo>
                      <a:pt x="196" y="1717"/>
                    </a:lnTo>
                    <a:lnTo>
                      <a:pt x="223" y="1719"/>
                    </a:lnTo>
                    <a:lnTo>
                      <a:pt x="253" y="1707"/>
                    </a:lnTo>
                    <a:lnTo>
                      <a:pt x="250" y="1702"/>
                    </a:lnTo>
                    <a:lnTo>
                      <a:pt x="249" y="1696"/>
                    </a:lnTo>
                    <a:lnTo>
                      <a:pt x="249" y="1691"/>
                    </a:lnTo>
                    <a:lnTo>
                      <a:pt x="250" y="1684"/>
                    </a:lnTo>
                    <a:lnTo>
                      <a:pt x="265" y="1680"/>
                    </a:lnTo>
                    <a:lnTo>
                      <a:pt x="280" y="1675"/>
                    </a:lnTo>
                    <a:lnTo>
                      <a:pt x="295" y="1671"/>
                    </a:lnTo>
                    <a:lnTo>
                      <a:pt x="311" y="1666"/>
                    </a:lnTo>
                    <a:lnTo>
                      <a:pt x="326" y="1662"/>
                    </a:lnTo>
                    <a:lnTo>
                      <a:pt x="341" y="1658"/>
                    </a:lnTo>
                    <a:lnTo>
                      <a:pt x="356" y="1654"/>
                    </a:lnTo>
                    <a:lnTo>
                      <a:pt x="371" y="1650"/>
                    </a:lnTo>
                    <a:lnTo>
                      <a:pt x="361" y="1645"/>
                    </a:lnTo>
                    <a:lnTo>
                      <a:pt x="350" y="1639"/>
                    </a:lnTo>
                    <a:lnTo>
                      <a:pt x="340" y="1633"/>
                    </a:lnTo>
                    <a:lnTo>
                      <a:pt x="329" y="1624"/>
                    </a:lnTo>
                    <a:lnTo>
                      <a:pt x="319" y="1616"/>
                    </a:lnTo>
                    <a:lnTo>
                      <a:pt x="310" y="1607"/>
                    </a:lnTo>
                    <a:lnTo>
                      <a:pt x="302" y="1596"/>
                    </a:lnTo>
                    <a:lnTo>
                      <a:pt x="295" y="1585"/>
                    </a:lnTo>
                    <a:lnTo>
                      <a:pt x="292" y="1570"/>
                    </a:lnTo>
                    <a:lnTo>
                      <a:pt x="292" y="1555"/>
                    </a:lnTo>
                    <a:lnTo>
                      <a:pt x="293" y="1540"/>
                    </a:lnTo>
                    <a:lnTo>
                      <a:pt x="298" y="1525"/>
                    </a:lnTo>
                    <a:lnTo>
                      <a:pt x="303" y="1512"/>
                    </a:lnTo>
                    <a:lnTo>
                      <a:pt x="310" y="1498"/>
                    </a:lnTo>
                    <a:lnTo>
                      <a:pt x="317" y="1485"/>
                    </a:lnTo>
                    <a:lnTo>
                      <a:pt x="325" y="1471"/>
                    </a:lnTo>
                    <a:lnTo>
                      <a:pt x="318" y="1449"/>
                    </a:lnTo>
                    <a:lnTo>
                      <a:pt x="314" y="1428"/>
                    </a:lnTo>
                    <a:lnTo>
                      <a:pt x="314" y="1406"/>
                    </a:lnTo>
                    <a:lnTo>
                      <a:pt x="318" y="1383"/>
                    </a:lnTo>
                    <a:lnTo>
                      <a:pt x="323" y="1361"/>
                    </a:lnTo>
                    <a:lnTo>
                      <a:pt x="331" y="1341"/>
                    </a:lnTo>
                    <a:lnTo>
                      <a:pt x="341" y="1320"/>
                    </a:lnTo>
                    <a:lnTo>
                      <a:pt x="352" y="1301"/>
                    </a:lnTo>
                    <a:lnTo>
                      <a:pt x="367" y="1286"/>
                    </a:lnTo>
                    <a:lnTo>
                      <a:pt x="383" y="1272"/>
                    </a:lnTo>
                    <a:lnTo>
                      <a:pt x="398" y="1258"/>
                    </a:lnTo>
                    <a:lnTo>
                      <a:pt x="416" y="1244"/>
                    </a:lnTo>
                    <a:lnTo>
                      <a:pt x="432" y="1231"/>
                    </a:lnTo>
                    <a:lnTo>
                      <a:pt x="449" y="1219"/>
                    </a:lnTo>
                    <a:lnTo>
                      <a:pt x="468" y="1208"/>
                    </a:lnTo>
                    <a:lnTo>
                      <a:pt x="487" y="1197"/>
                    </a:lnTo>
                    <a:lnTo>
                      <a:pt x="506" y="1189"/>
                    </a:lnTo>
                    <a:lnTo>
                      <a:pt x="527" y="1182"/>
                    </a:lnTo>
                    <a:lnTo>
                      <a:pt x="547" y="1177"/>
                    </a:lnTo>
                    <a:lnTo>
                      <a:pt x="569" y="1172"/>
                    </a:lnTo>
                    <a:lnTo>
                      <a:pt x="591" y="1171"/>
                    </a:lnTo>
                    <a:lnTo>
                      <a:pt x="612" y="1171"/>
                    </a:lnTo>
                    <a:lnTo>
                      <a:pt x="635" y="1175"/>
                    </a:lnTo>
                    <a:lnTo>
                      <a:pt x="658" y="1181"/>
                    </a:lnTo>
                    <a:lnTo>
                      <a:pt x="673" y="1186"/>
                    </a:lnTo>
                    <a:lnTo>
                      <a:pt x="690" y="1190"/>
                    </a:lnTo>
                    <a:lnTo>
                      <a:pt x="704" y="1194"/>
                    </a:lnTo>
                    <a:lnTo>
                      <a:pt x="721" y="1200"/>
                    </a:lnTo>
                    <a:lnTo>
                      <a:pt x="736" y="1205"/>
                    </a:lnTo>
                    <a:lnTo>
                      <a:pt x="751" y="1212"/>
                    </a:lnTo>
                    <a:lnTo>
                      <a:pt x="764" y="1221"/>
                    </a:lnTo>
                    <a:lnTo>
                      <a:pt x="776" y="1232"/>
                    </a:lnTo>
                    <a:lnTo>
                      <a:pt x="774" y="1243"/>
                    </a:lnTo>
                    <a:lnTo>
                      <a:pt x="765" y="1251"/>
                    </a:lnTo>
                    <a:lnTo>
                      <a:pt x="756" y="1259"/>
                    </a:lnTo>
                    <a:lnTo>
                      <a:pt x="745" y="1267"/>
                    </a:lnTo>
                    <a:lnTo>
                      <a:pt x="749" y="1293"/>
                    </a:lnTo>
                    <a:lnTo>
                      <a:pt x="763" y="1311"/>
                    </a:lnTo>
                    <a:lnTo>
                      <a:pt x="780" y="1322"/>
                    </a:lnTo>
                    <a:lnTo>
                      <a:pt x="801" y="1330"/>
                    </a:lnTo>
                    <a:lnTo>
                      <a:pt x="822" y="1338"/>
                    </a:lnTo>
                    <a:lnTo>
                      <a:pt x="841" y="1348"/>
                    </a:lnTo>
                    <a:lnTo>
                      <a:pt x="856" y="1364"/>
                    </a:lnTo>
                    <a:lnTo>
                      <a:pt x="863" y="1388"/>
                    </a:lnTo>
                    <a:lnTo>
                      <a:pt x="896" y="1329"/>
                    </a:lnTo>
                    <a:lnTo>
                      <a:pt x="889" y="1315"/>
                    </a:lnTo>
                    <a:lnTo>
                      <a:pt x="888" y="1300"/>
                    </a:lnTo>
                    <a:lnTo>
                      <a:pt x="890" y="1285"/>
                    </a:lnTo>
                    <a:lnTo>
                      <a:pt x="894" y="1270"/>
                    </a:lnTo>
                    <a:lnTo>
                      <a:pt x="898" y="1255"/>
                    </a:lnTo>
                    <a:lnTo>
                      <a:pt x="902" y="1240"/>
                    </a:lnTo>
                    <a:lnTo>
                      <a:pt x="901" y="1227"/>
                    </a:lnTo>
                    <a:lnTo>
                      <a:pt x="896" y="1213"/>
                    </a:lnTo>
                    <a:lnTo>
                      <a:pt x="896" y="1185"/>
                    </a:lnTo>
                    <a:lnTo>
                      <a:pt x="897" y="1158"/>
                    </a:lnTo>
                    <a:lnTo>
                      <a:pt x="902" y="1130"/>
                    </a:lnTo>
                    <a:lnTo>
                      <a:pt x="909" y="1106"/>
                    </a:lnTo>
                    <a:lnTo>
                      <a:pt x="919" y="1082"/>
                    </a:lnTo>
                    <a:lnTo>
                      <a:pt x="931" y="1058"/>
                    </a:lnTo>
                    <a:lnTo>
                      <a:pt x="945" y="1035"/>
                    </a:lnTo>
                    <a:lnTo>
                      <a:pt x="961" y="1015"/>
                    </a:lnTo>
                    <a:lnTo>
                      <a:pt x="1124" y="114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flipH="1">
                <a:off x="5264280" y="5275440"/>
                <a:ext cx="398160" cy="272880"/>
              </a:xfrm>
              <a:custGeom>
                <a:avLst/>
                <a:gdLst/>
                <a:ahLst/>
                <a:rect l="l" t="t" r="r" b="b"/>
                <a:pathLst>
                  <a:path w="655" h="516">
                    <a:moveTo>
                      <a:pt x="530" y="102"/>
                    </a:moveTo>
                    <a:lnTo>
                      <a:pt x="525" y="119"/>
                    </a:lnTo>
                    <a:lnTo>
                      <a:pt x="527" y="136"/>
                    </a:lnTo>
                    <a:lnTo>
                      <a:pt x="537" y="151"/>
                    </a:lnTo>
                    <a:lnTo>
                      <a:pt x="549" y="165"/>
                    </a:lnTo>
                    <a:lnTo>
                      <a:pt x="564" y="180"/>
                    </a:lnTo>
                    <a:lnTo>
                      <a:pt x="578" y="197"/>
                    </a:lnTo>
                    <a:lnTo>
                      <a:pt x="587" y="213"/>
                    </a:lnTo>
                    <a:lnTo>
                      <a:pt x="591" y="232"/>
                    </a:lnTo>
                    <a:lnTo>
                      <a:pt x="592" y="259"/>
                    </a:lnTo>
                    <a:lnTo>
                      <a:pt x="590" y="288"/>
                    </a:lnTo>
                    <a:lnTo>
                      <a:pt x="586" y="317"/>
                    </a:lnTo>
                    <a:lnTo>
                      <a:pt x="584" y="346"/>
                    </a:lnTo>
                    <a:lnTo>
                      <a:pt x="586" y="373"/>
                    </a:lnTo>
                    <a:lnTo>
                      <a:pt x="592" y="398"/>
                    </a:lnTo>
                    <a:lnTo>
                      <a:pt x="609" y="418"/>
                    </a:lnTo>
                    <a:lnTo>
                      <a:pt x="636" y="433"/>
                    </a:lnTo>
                    <a:lnTo>
                      <a:pt x="655" y="436"/>
                    </a:lnTo>
                    <a:lnTo>
                      <a:pt x="651" y="448"/>
                    </a:lnTo>
                    <a:lnTo>
                      <a:pt x="647" y="459"/>
                    </a:lnTo>
                    <a:lnTo>
                      <a:pt x="641" y="468"/>
                    </a:lnTo>
                    <a:lnTo>
                      <a:pt x="635" y="478"/>
                    </a:lnTo>
                    <a:lnTo>
                      <a:pt x="626" y="487"/>
                    </a:lnTo>
                    <a:lnTo>
                      <a:pt x="618" y="494"/>
                    </a:lnTo>
                    <a:lnTo>
                      <a:pt x="609" y="502"/>
                    </a:lnTo>
                    <a:lnTo>
                      <a:pt x="598" y="507"/>
                    </a:lnTo>
                    <a:lnTo>
                      <a:pt x="572" y="516"/>
                    </a:lnTo>
                    <a:lnTo>
                      <a:pt x="587" y="491"/>
                    </a:lnTo>
                    <a:lnTo>
                      <a:pt x="595" y="464"/>
                    </a:lnTo>
                    <a:lnTo>
                      <a:pt x="597" y="436"/>
                    </a:lnTo>
                    <a:lnTo>
                      <a:pt x="591" y="408"/>
                    </a:lnTo>
                    <a:lnTo>
                      <a:pt x="586" y="399"/>
                    </a:lnTo>
                    <a:lnTo>
                      <a:pt x="578" y="391"/>
                    </a:lnTo>
                    <a:lnTo>
                      <a:pt x="569" y="384"/>
                    </a:lnTo>
                    <a:lnTo>
                      <a:pt x="560" y="380"/>
                    </a:lnTo>
                    <a:lnTo>
                      <a:pt x="550" y="377"/>
                    </a:lnTo>
                    <a:lnTo>
                      <a:pt x="540" y="376"/>
                    </a:lnTo>
                    <a:lnTo>
                      <a:pt x="530" y="376"/>
                    </a:lnTo>
                    <a:lnTo>
                      <a:pt x="519" y="379"/>
                    </a:lnTo>
                    <a:lnTo>
                      <a:pt x="511" y="383"/>
                    </a:lnTo>
                    <a:lnTo>
                      <a:pt x="504" y="387"/>
                    </a:lnTo>
                    <a:lnTo>
                      <a:pt x="498" y="391"/>
                    </a:lnTo>
                    <a:lnTo>
                      <a:pt x="491" y="395"/>
                    </a:lnTo>
                    <a:lnTo>
                      <a:pt x="484" y="400"/>
                    </a:lnTo>
                    <a:lnTo>
                      <a:pt x="479" y="404"/>
                    </a:lnTo>
                    <a:lnTo>
                      <a:pt x="473" y="410"/>
                    </a:lnTo>
                    <a:lnTo>
                      <a:pt x="469" y="417"/>
                    </a:lnTo>
                    <a:lnTo>
                      <a:pt x="466" y="393"/>
                    </a:lnTo>
                    <a:lnTo>
                      <a:pt x="455" y="373"/>
                    </a:lnTo>
                    <a:lnTo>
                      <a:pt x="441" y="358"/>
                    </a:lnTo>
                    <a:lnTo>
                      <a:pt x="422" y="345"/>
                    </a:lnTo>
                    <a:lnTo>
                      <a:pt x="400" y="334"/>
                    </a:lnTo>
                    <a:lnTo>
                      <a:pt x="380" y="322"/>
                    </a:lnTo>
                    <a:lnTo>
                      <a:pt x="359" y="309"/>
                    </a:lnTo>
                    <a:lnTo>
                      <a:pt x="342" y="294"/>
                    </a:lnTo>
                    <a:lnTo>
                      <a:pt x="332" y="288"/>
                    </a:lnTo>
                    <a:lnTo>
                      <a:pt x="324" y="277"/>
                    </a:lnTo>
                    <a:lnTo>
                      <a:pt x="317" y="266"/>
                    </a:lnTo>
                    <a:lnTo>
                      <a:pt x="310" y="254"/>
                    </a:lnTo>
                    <a:lnTo>
                      <a:pt x="302" y="246"/>
                    </a:lnTo>
                    <a:lnTo>
                      <a:pt x="294" y="239"/>
                    </a:lnTo>
                    <a:lnTo>
                      <a:pt x="285" y="239"/>
                    </a:lnTo>
                    <a:lnTo>
                      <a:pt x="274" y="246"/>
                    </a:lnTo>
                    <a:lnTo>
                      <a:pt x="304" y="341"/>
                    </a:lnTo>
                    <a:lnTo>
                      <a:pt x="287" y="338"/>
                    </a:lnTo>
                    <a:lnTo>
                      <a:pt x="271" y="331"/>
                    </a:lnTo>
                    <a:lnTo>
                      <a:pt x="256" y="322"/>
                    </a:lnTo>
                    <a:lnTo>
                      <a:pt x="241" y="309"/>
                    </a:lnTo>
                    <a:lnTo>
                      <a:pt x="229" y="294"/>
                    </a:lnTo>
                    <a:lnTo>
                      <a:pt x="217" y="278"/>
                    </a:lnTo>
                    <a:lnTo>
                      <a:pt x="207" y="262"/>
                    </a:lnTo>
                    <a:lnTo>
                      <a:pt x="200" y="246"/>
                    </a:lnTo>
                    <a:lnTo>
                      <a:pt x="196" y="221"/>
                    </a:lnTo>
                    <a:lnTo>
                      <a:pt x="199" y="194"/>
                    </a:lnTo>
                    <a:lnTo>
                      <a:pt x="199" y="171"/>
                    </a:lnTo>
                    <a:lnTo>
                      <a:pt x="186" y="156"/>
                    </a:lnTo>
                    <a:lnTo>
                      <a:pt x="176" y="165"/>
                    </a:lnTo>
                    <a:lnTo>
                      <a:pt x="172" y="179"/>
                    </a:lnTo>
                    <a:lnTo>
                      <a:pt x="171" y="194"/>
                    </a:lnTo>
                    <a:lnTo>
                      <a:pt x="169" y="209"/>
                    </a:lnTo>
                    <a:lnTo>
                      <a:pt x="168" y="222"/>
                    </a:lnTo>
                    <a:lnTo>
                      <a:pt x="163" y="232"/>
                    </a:lnTo>
                    <a:lnTo>
                      <a:pt x="152" y="237"/>
                    </a:lnTo>
                    <a:lnTo>
                      <a:pt x="133" y="235"/>
                    </a:lnTo>
                    <a:lnTo>
                      <a:pt x="115" y="250"/>
                    </a:lnTo>
                    <a:lnTo>
                      <a:pt x="100" y="267"/>
                    </a:lnTo>
                    <a:lnTo>
                      <a:pt x="89" y="285"/>
                    </a:lnTo>
                    <a:lnTo>
                      <a:pt x="81" y="305"/>
                    </a:lnTo>
                    <a:lnTo>
                      <a:pt x="74" y="326"/>
                    </a:lnTo>
                    <a:lnTo>
                      <a:pt x="69" y="346"/>
                    </a:lnTo>
                    <a:lnTo>
                      <a:pt x="65" y="368"/>
                    </a:lnTo>
                    <a:lnTo>
                      <a:pt x="61" y="389"/>
                    </a:lnTo>
                    <a:lnTo>
                      <a:pt x="50" y="389"/>
                    </a:lnTo>
                    <a:lnTo>
                      <a:pt x="40" y="385"/>
                    </a:lnTo>
                    <a:lnTo>
                      <a:pt x="32" y="381"/>
                    </a:lnTo>
                    <a:lnTo>
                      <a:pt x="24" y="374"/>
                    </a:lnTo>
                    <a:lnTo>
                      <a:pt x="17" y="368"/>
                    </a:lnTo>
                    <a:lnTo>
                      <a:pt x="12" y="360"/>
                    </a:lnTo>
                    <a:lnTo>
                      <a:pt x="7" y="350"/>
                    </a:lnTo>
                    <a:lnTo>
                      <a:pt x="4" y="341"/>
                    </a:lnTo>
                    <a:lnTo>
                      <a:pt x="0" y="305"/>
                    </a:lnTo>
                    <a:lnTo>
                      <a:pt x="4" y="270"/>
                    </a:lnTo>
                    <a:lnTo>
                      <a:pt x="13" y="237"/>
                    </a:lnTo>
                    <a:lnTo>
                      <a:pt x="31" y="208"/>
                    </a:lnTo>
                    <a:lnTo>
                      <a:pt x="36" y="203"/>
                    </a:lnTo>
                    <a:lnTo>
                      <a:pt x="44" y="203"/>
                    </a:lnTo>
                    <a:lnTo>
                      <a:pt x="53" y="203"/>
                    </a:lnTo>
                    <a:lnTo>
                      <a:pt x="58" y="197"/>
                    </a:lnTo>
                    <a:lnTo>
                      <a:pt x="50" y="186"/>
                    </a:lnTo>
                    <a:lnTo>
                      <a:pt x="55" y="172"/>
                    </a:lnTo>
                    <a:lnTo>
                      <a:pt x="65" y="156"/>
                    </a:lnTo>
                    <a:lnTo>
                      <a:pt x="69" y="140"/>
                    </a:lnTo>
                    <a:lnTo>
                      <a:pt x="88" y="117"/>
                    </a:lnTo>
                    <a:lnTo>
                      <a:pt x="108" y="94"/>
                    </a:lnTo>
                    <a:lnTo>
                      <a:pt x="130" y="72"/>
                    </a:lnTo>
                    <a:lnTo>
                      <a:pt x="152" y="51"/>
                    </a:lnTo>
                    <a:lnTo>
                      <a:pt x="176" y="34"/>
                    </a:lnTo>
                    <a:lnTo>
                      <a:pt x="202" y="19"/>
                    </a:lnTo>
                    <a:lnTo>
                      <a:pt x="229" y="7"/>
                    </a:lnTo>
                    <a:lnTo>
                      <a:pt x="257" y="0"/>
                    </a:lnTo>
                    <a:lnTo>
                      <a:pt x="276" y="3"/>
                    </a:lnTo>
                    <a:lnTo>
                      <a:pt x="295" y="4"/>
                    </a:lnTo>
                    <a:lnTo>
                      <a:pt x="316" y="7"/>
                    </a:lnTo>
                    <a:lnTo>
                      <a:pt x="335" y="8"/>
                    </a:lnTo>
                    <a:lnTo>
                      <a:pt x="354" y="11"/>
                    </a:lnTo>
                    <a:lnTo>
                      <a:pt x="373" y="13"/>
                    </a:lnTo>
                    <a:lnTo>
                      <a:pt x="392" y="18"/>
                    </a:lnTo>
                    <a:lnTo>
                      <a:pt x="411" y="22"/>
                    </a:lnTo>
                    <a:lnTo>
                      <a:pt x="428" y="27"/>
                    </a:lnTo>
                    <a:lnTo>
                      <a:pt x="445" y="34"/>
                    </a:lnTo>
                    <a:lnTo>
                      <a:pt x="461" y="41"/>
                    </a:lnTo>
                    <a:lnTo>
                      <a:pt x="477" y="50"/>
                    </a:lnTo>
                    <a:lnTo>
                      <a:pt x="492" y="60"/>
                    </a:lnTo>
                    <a:lnTo>
                      <a:pt x="506" y="72"/>
                    </a:lnTo>
                    <a:lnTo>
                      <a:pt x="518" y="85"/>
                    </a:lnTo>
                    <a:lnTo>
                      <a:pt x="530" y="102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flipH="1">
                <a:off x="5649480" y="5372280"/>
                <a:ext cx="43560" cy="20520"/>
              </a:xfrm>
              <a:custGeom>
                <a:avLst/>
                <a:gdLst/>
                <a:ahLst/>
                <a:rect l="l" t="t" r="r" b="b"/>
                <a:pathLst>
                  <a:path w="73" h="39">
                    <a:moveTo>
                      <a:pt x="73" y="7"/>
                    </a:moveTo>
                    <a:lnTo>
                      <a:pt x="66" y="15"/>
                    </a:lnTo>
                    <a:lnTo>
                      <a:pt x="58" y="21"/>
                    </a:lnTo>
                    <a:lnTo>
                      <a:pt x="51" y="28"/>
                    </a:lnTo>
                    <a:lnTo>
                      <a:pt x="43" y="34"/>
                    </a:lnTo>
                    <a:lnTo>
                      <a:pt x="35" y="38"/>
                    </a:lnTo>
                    <a:lnTo>
                      <a:pt x="26" y="39"/>
                    </a:lnTo>
                    <a:lnTo>
                      <a:pt x="16" y="38"/>
                    </a:lnTo>
                    <a:lnTo>
                      <a:pt x="5" y="34"/>
                    </a:lnTo>
                    <a:lnTo>
                      <a:pt x="0" y="31"/>
                    </a:lnTo>
                    <a:lnTo>
                      <a:pt x="7" y="21"/>
                    </a:lnTo>
                    <a:lnTo>
                      <a:pt x="15" y="13"/>
                    </a:lnTo>
                    <a:lnTo>
                      <a:pt x="24" y="8"/>
                    </a:lnTo>
                    <a:lnTo>
                      <a:pt x="35" y="2"/>
                    </a:lnTo>
                    <a:lnTo>
                      <a:pt x="46" y="0"/>
                    </a:lnTo>
                    <a:lnTo>
                      <a:pt x="57" y="0"/>
                    </a:lnTo>
                    <a:lnTo>
                      <a:pt x="65" y="2"/>
                    </a:lnTo>
                    <a:lnTo>
                      <a:pt x="73" y="7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flipH="1">
                <a:off x="5315040" y="5405400"/>
                <a:ext cx="290520" cy="209520"/>
              </a:xfrm>
              <a:custGeom>
                <a:avLst/>
                <a:gdLst/>
                <a:ahLst/>
                <a:rect l="l" t="t" r="r" b="b"/>
                <a:pathLst>
                  <a:path w="478" h="396">
                    <a:moveTo>
                      <a:pt x="238" y="133"/>
                    </a:moveTo>
                    <a:lnTo>
                      <a:pt x="243" y="114"/>
                    </a:lnTo>
                    <a:lnTo>
                      <a:pt x="253" y="126"/>
                    </a:lnTo>
                    <a:lnTo>
                      <a:pt x="259" y="141"/>
                    </a:lnTo>
                    <a:lnTo>
                      <a:pt x="268" y="153"/>
                    </a:lnTo>
                    <a:lnTo>
                      <a:pt x="281" y="160"/>
                    </a:lnTo>
                    <a:lnTo>
                      <a:pt x="289" y="146"/>
                    </a:lnTo>
                    <a:lnTo>
                      <a:pt x="287" y="133"/>
                    </a:lnTo>
                    <a:lnTo>
                      <a:pt x="280" y="119"/>
                    </a:lnTo>
                    <a:lnTo>
                      <a:pt x="276" y="105"/>
                    </a:lnTo>
                    <a:lnTo>
                      <a:pt x="268" y="100"/>
                    </a:lnTo>
                    <a:lnTo>
                      <a:pt x="346" y="141"/>
                    </a:lnTo>
                    <a:lnTo>
                      <a:pt x="349" y="175"/>
                    </a:lnTo>
                    <a:lnTo>
                      <a:pt x="352" y="209"/>
                    </a:lnTo>
                    <a:lnTo>
                      <a:pt x="357" y="242"/>
                    </a:lnTo>
                    <a:lnTo>
                      <a:pt x="369" y="272"/>
                    </a:lnTo>
                    <a:lnTo>
                      <a:pt x="377" y="271"/>
                    </a:lnTo>
                    <a:lnTo>
                      <a:pt x="383" y="267"/>
                    </a:lnTo>
                    <a:lnTo>
                      <a:pt x="387" y="263"/>
                    </a:lnTo>
                    <a:lnTo>
                      <a:pt x="390" y="257"/>
                    </a:lnTo>
                    <a:lnTo>
                      <a:pt x="394" y="252"/>
                    </a:lnTo>
                    <a:lnTo>
                      <a:pt x="398" y="248"/>
                    </a:lnTo>
                    <a:lnTo>
                      <a:pt x="405" y="245"/>
                    </a:lnTo>
                    <a:lnTo>
                      <a:pt x="414" y="247"/>
                    </a:lnTo>
                    <a:lnTo>
                      <a:pt x="418" y="240"/>
                    </a:lnTo>
                    <a:lnTo>
                      <a:pt x="422" y="234"/>
                    </a:lnTo>
                    <a:lnTo>
                      <a:pt x="429" y="230"/>
                    </a:lnTo>
                    <a:lnTo>
                      <a:pt x="436" y="225"/>
                    </a:lnTo>
                    <a:lnTo>
                      <a:pt x="443" y="222"/>
                    </a:lnTo>
                    <a:lnTo>
                      <a:pt x="449" y="218"/>
                    </a:lnTo>
                    <a:lnTo>
                      <a:pt x="457" y="215"/>
                    </a:lnTo>
                    <a:lnTo>
                      <a:pt x="464" y="213"/>
                    </a:lnTo>
                    <a:lnTo>
                      <a:pt x="460" y="207"/>
                    </a:lnTo>
                    <a:lnTo>
                      <a:pt x="456" y="204"/>
                    </a:lnTo>
                    <a:lnTo>
                      <a:pt x="451" y="202"/>
                    </a:lnTo>
                    <a:lnTo>
                      <a:pt x="445" y="199"/>
                    </a:lnTo>
                    <a:lnTo>
                      <a:pt x="440" y="199"/>
                    </a:lnTo>
                    <a:lnTo>
                      <a:pt x="434" y="198"/>
                    </a:lnTo>
                    <a:lnTo>
                      <a:pt x="428" y="198"/>
                    </a:lnTo>
                    <a:lnTo>
                      <a:pt x="422" y="198"/>
                    </a:lnTo>
                    <a:lnTo>
                      <a:pt x="395" y="219"/>
                    </a:lnTo>
                    <a:lnTo>
                      <a:pt x="395" y="207"/>
                    </a:lnTo>
                    <a:lnTo>
                      <a:pt x="399" y="196"/>
                    </a:lnTo>
                    <a:lnTo>
                      <a:pt x="405" y="188"/>
                    </a:lnTo>
                    <a:lnTo>
                      <a:pt x="411" y="179"/>
                    </a:lnTo>
                    <a:lnTo>
                      <a:pt x="417" y="173"/>
                    </a:lnTo>
                    <a:lnTo>
                      <a:pt x="424" y="169"/>
                    </a:lnTo>
                    <a:lnTo>
                      <a:pt x="430" y="165"/>
                    </a:lnTo>
                    <a:lnTo>
                      <a:pt x="437" y="161"/>
                    </a:lnTo>
                    <a:lnTo>
                      <a:pt x="445" y="160"/>
                    </a:lnTo>
                    <a:lnTo>
                      <a:pt x="453" y="160"/>
                    </a:lnTo>
                    <a:lnTo>
                      <a:pt x="460" y="162"/>
                    </a:lnTo>
                    <a:lnTo>
                      <a:pt x="467" y="168"/>
                    </a:lnTo>
                    <a:lnTo>
                      <a:pt x="472" y="181"/>
                    </a:lnTo>
                    <a:lnTo>
                      <a:pt x="478" y="196"/>
                    </a:lnTo>
                    <a:lnTo>
                      <a:pt x="478" y="213"/>
                    </a:lnTo>
                    <a:lnTo>
                      <a:pt x="475" y="228"/>
                    </a:lnTo>
                    <a:lnTo>
                      <a:pt x="460" y="249"/>
                    </a:lnTo>
                    <a:lnTo>
                      <a:pt x="443" y="266"/>
                    </a:lnTo>
                    <a:lnTo>
                      <a:pt x="421" y="276"/>
                    </a:lnTo>
                    <a:lnTo>
                      <a:pt x="399" y="286"/>
                    </a:lnTo>
                    <a:lnTo>
                      <a:pt x="379" y="295"/>
                    </a:lnTo>
                    <a:lnTo>
                      <a:pt x="360" y="309"/>
                    </a:lnTo>
                    <a:lnTo>
                      <a:pt x="345" y="327"/>
                    </a:lnTo>
                    <a:lnTo>
                      <a:pt x="335" y="352"/>
                    </a:lnTo>
                    <a:lnTo>
                      <a:pt x="318" y="369"/>
                    </a:lnTo>
                    <a:lnTo>
                      <a:pt x="296" y="381"/>
                    </a:lnTo>
                    <a:lnTo>
                      <a:pt x="274" y="389"/>
                    </a:lnTo>
                    <a:lnTo>
                      <a:pt x="250" y="394"/>
                    </a:lnTo>
                    <a:lnTo>
                      <a:pt x="227" y="396"/>
                    </a:lnTo>
                    <a:lnTo>
                      <a:pt x="202" y="394"/>
                    </a:lnTo>
                    <a:lnTo>
                      <a:pt x="178" y="390"/>
                    </a:lnTo>
                    <a:lnTo>
                      <a:pt x="156" y="384"/>
                    </a:lnTo>
                    <a:lnTo>
                      <a:pt x="116" y="370"/>
                    </a:lnTo>
                    <a:lnTo>
                      <a:pt x="87" y="348"/>
                    </a:lnTo>
                    <a:lnTo>
                      <a:pt x="67" y="318"/>
                    </a:lnTo>
                    <a:lnTo>
                      <a:pt x="53" y="285"/>
                    </a:lnTo>
                    <a:lnTo>
                      <a:pt x="42" y="248"/>
                    </a:lnTo>
                    <a:lnTo>
                      <a:pt x="33" y="211"/>
                    </a:lnTo>
                    <a:lnTo>
                      <a:pt x="19" y="175"/>
                    </a:lnTo>
                    <a:lnTo>
                      <a:pt x="2" y="143"/>
                    </a:lnTo>
                    <a:lnTo>
                      <a:pt x="10" y="137"/>
                    </a:lnTo>
                    <a:lnTo>
                      <a:pt x="7" y="130"/>
                    </a:lnTo>
                    <a:lnTo>
                      <a:pt x="0" y="123"/>
                    </a:lnTo>
                    <a:lnTo>
                      <a:pt x="2" y="114"/>
                    </a:lnTo>
                    <a:lnTo>
                      <a:pt x="6" y="97"/>
                    </a:lnTo>
                    <a:lnTo>
                      <a:pt x="11" y="80"/>
                    </a:lnTo>
                    <a:lnTo>
                      <a:pt x="15" y="63"/>
                    </a:lnTo>
                    <a:lnTo>
                      <a:pt x="22" y="47"/>
                    </a:lnTo>
                    <a:lnTo>
                      <a:pt x="29" y="32"/>
                    </a:lnTo>
                    <a:lnTo>
                      <a:pt x="40" y="19"/>
                    </a:lnTo>
                    <a:lnTo>
                      <a:pt x="52" y="8"/>
                    </a:lnTo>
                    <a:lnTo>
                      <a:pt x="70" y="0"/>
                    </a:lnTo>
                    <a:lnTo>
                      <a:pt x="80" y="25"/>
                    </a:lnTo>
                    <a:lnTo>
                      <a:pt x="95" y="50"/>
                    </a:lnTo>
                    <a:lnTo>
                      <a:pt x="114" y="71"/>
                    </a:lnTo>
                    <a:lnTo>
                      <a:pt x="135" y="90"/>
                    </a:lnTo>
                    <a:lnTo>
                      <a:pt x="158" y="105"/>
                    </a:lnTo>
                    <a:lnTo>
                      <a:pt x="182" y="119"/>
                    </a:lnTo>
                    <a:lnTo>
                      <a:pt x="209" y="127"/>
                    </a:lnTo>
                    <a:lnTo>
                      <a:pt x="238" y="13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flipH="1">
                <a:off x="5454720" y="5445000"/>
                <a:ext cx="9000" cy="324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8"/>
                    </a:moveTo>
                    <a:lnTo>
                      <a:pt x="0" y="0"/>
                    </a:lnTo>
                    <a:lnTo>
                      <a:pt x="11" y="3"/>
                    </a:ln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H="1">
                <a:off x="5560200" y="5451480"/>
                <a:ext cx="25560" cy="28440"/>
              </a:xfrm>
              <a:custGeom>
                <a:avLst/>
                <a:gdLst/>
                <a:ahLst/>
                <a:rect l="l" t="t" r="r" b="b"/>
                <a:pathLst>
                  <a:path w="42" h="55">
                    <a:moveTo>
                      <a:pt x="42" y="0"/>
                    </a:moveTo>
                    <a:lnTo>
                      <a:pt x="36" y="7"/>
                    </a:lnTo>
                    <a:lnTo>
                      <a:pt x="32" y="15"/>
                    </a:lnTo>
                    <a:lnTo>
                      <a:pt x="28" y="23"/>
                    </a:lnTo>
                    <a:lnTo>
                      <a:pt x="24" y="32"/>
                    </a:lnTo>
                    <a:lnTo>
                      <a:pt x="19" y="38"/>
                    </a:lnTo>
                    <a:lnTo>
                      <a:pt x="13" y="45"/>
                    </a:lnTo>
                    <a:lnTo>
                      <a:pt x="8" y="51"/>
                    </a:lnTo>
                    <a:lnTo>
                      <a:pt x="1" y="55"/>
                    </a:lnTo>
                    <a:lnTo>
                      <a:pt x="0" y="47"/>
                    </a:lnTo>
                    <a:lnTo>
                      <a:pt x="0" y="37"/>
                    </a:lnTo>
                    <a:lnTo>
                      <a:pt x="2" y="28"/>
                    </a:lnTo>
                    <a:lnTo>
                      <a:pt x="8" y="19"/>
                    </a:lnTo>
                    <a:lnTo>
                      <a:pt x="13" y="11"/>
                    </a:lnTo>
                    <a:lnTo>
                      <a:pt x="21" y="6"/>
                    </a:lnTo>
                    <a:lnTo>
                      <a:pt x="31" y="2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flipH="1">
                <a:off x="5483880" y="5491080"/>
                <a:ext cx="25560" cy="55800"/>
              </a:xfrm>
              <a:custGeom>
                <a:avLst/>
                <a:gdLst/>
                <a:ahLst/>
                <a:rect l="l" t="t" r="r" b="b"/>
                <a:pathLst>
                  <a:path w="42" h="104">
                    <a:moveTo>
                      <a:pt x="42" y="93"/>
                    </a:moveTo>
                    <a:lnTo>
                      <a:pt x="35" y="98"/>
                    </a:lnTo>
                    <a:lnTo>
                      <a:pt x="30" y="102"/>
                    </a:lnTo>
                    <a:lnTo>
                      <a:pt x="24" y="104"/>
                    </a:lnTo>
                    <a:lnTo>
                      <a:pt x="17" y="99"/>
                    </a:lnTo>
                    <a:lnTo>
                      <a:pt x="9" y="75"/>
                    </a:lnTo>
                    <a:lnTo>
                      <a:pt x="2" y="48"/>
                    </a:lnTo>
                    <a:lnTo>
                      <a:pt x="0" y="23"/>
                    </a:lnTo>
                    <a:lnTo>
                      <a:pt x="4" y="0"/>
                    </a:lnTo>
                    <a:lnTo>
                      <a:pt x="11" y="0"/>
                    </a:lnTo>
                    <a:lnTo>
                      <a:pt x="42" y="9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flipH="1">
                <a:off x="5518800" y="5495760"/>
                <a:ext cx="27000" cy="55800"/>
              </a:xfrm>
              <a:custGeom>
                <a:avLst/>
                <a:gdLst/>
                <a:ahLst/>
                <a:rect l="l" t="t" r="r" b="b"/>
                <a:pathLst>
                  <a:path w="46" h="105">
                    <a:moveTo>
                      <a:pt x="15" y="0"/>
                    </a:moveTo>
                    <a:lnTo>
                      <a:pt x="21" y="25"/>
                    </a:lnTo>
                    <a:lnTo>
                      <a:pt x="27" y="51"/>
                    </a:lnTo>
                    <a:lnTo>
                      <a:pt x="34" y="76"/>
                    </a:lnTo>
                    <a:lnTo>
                      <a:pt x="46" y="99"/>
                    </a:lnTo>
                    <a:lnTo>
                      <a:pt x="29" y="105"/>
                    </a:lnTo>
                    <a:lnTo>
                      <a:pt x="15" y="82"/>
                    </a:lnTo>
                    <a:lnTo>
                      <a:pt x="5" y="57"/>
                    </a:lnTo>
                    <a:lnTo>
                      <a:pt x="0" y="28"/>
                    </a:lnTo>
                    <a:lnTo>
                      <a:pt x="0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flipH="1">
                <a:off x="5442480" y="5564160"/>
                <a:ext cx="52560" cy="28440"/>
              </a:xfrm>
              <a:custGeom>
                <a:avLst/>
                <a:gdLst/>
                <a:ahLst/>
                <a:rect l="l" t="t" r="r" b="b"/>
                <a:pathLst>
                  <a:path w="89" h="53">
                    <a:moveTo>
                      <a:pt x="89" y="0"/>
                    </a:moveTo>
                    <a:lnTo>
                      <a:pt x="89" y="10"/>
                    </a:lnTo>
                    <a:lnTo>
                      <a:pt x="88" y="17"/>
                    </a:lnTo>
                    <a:lnTo>
                      <a:pt x="84" y="24"/>
                    </a:lnTo>
                    <a:lnTo>
                      <a:pt x="77" y="30"/>
                    </a:lnTo>
                    <a:lnTo>
                      <a:pt x="70" y="36"/>
                    </a:lnTo>
                    <a:lnTo>
                      <a:pt x="63" y="41"/>
                    </a:lnTo>
                    <a:lnTo>
                      <a:pt x="57" y="47"/>
                    </a:lnTo>
                    <a:lnTo>
                      <a:pt x="51" y="53"/>
                    </a:lnTo>
                    <a:lnTo>
                      <a:pt x="44" y="52"/>
                    </a:lnTo>
                    <a:lnTo>
                      <a:pt x="36" y="51"/>
                    </a:lnTo>
                    <a:lnTo>
                      <a:pt x="30" y="49"/>
                    </a:lnTo>
                    <a:lnTo>
                      <a:pt x="21" y="48"/>
                    </a:lnTo>
                    <a:lnTo>
                      <a:pt x="15" y="45"/>
                    </a:lnTo>
                    <a:lnTo>
                      <a:pt x="9" y="41"/>
                    </a:lnTo>
                    <a:lnTo>
                      <a:pt x="4" y="37"/>
                    </a:lnTo>
                    <a:lnTo>
                      <a:pt x="0" y="30"/>
                    </a:lnTo>
                    <a:lnTo>
                      <a:pt x="12" y="33"/>
                    </a:lnTo>
                    <a:lnTo>
                      <a:pt x="24" y="33"/>
                    </a:lnTo>
                    <a:lnTo>
                      <a:pt x="35" y="29"/>
                    </a:lnTo>
                    <a:lnTo>
                      <a:pt x="46" y="24"/>
                    </a:lnTo>
                    <a:lnTo>
                      <a:pt x="57" y="17"/>
                    </a:lnTo>
                    <a:lnTo>
                      <a:pt x="68" y="11"/>
                    </a:lnTo>
                    <a:lnTo>
                      <a:pt x="78" y="5"/>
                    </a:lnTo>
                    <a:lnTo>
                      <a:pt x="8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flipH="1">
                <a:off x="5191560" y="5576760"/>
                <a:ext cx="481320" cy="312840"/>
              </a:xfrm>
              <a:custGeom>
                <a:avLst/>
                <a:gdLst/>
                <a:ahLst/>
                <a:rect l="l" t="t" r="r" b="b"/>
                <a:pathLst>
                  <a:path w="795" h="591">
                    <a:moveTo>
                      <a:pt x="703" y="55"/>
                    </a:moveTo>
                    <a:lnTo>
                      <a:pt x="707" y="84"/>
                    </a:lnTo>
                    <a:lnTo>
                      <a:pt x="714" y="111"/>
                    </a:lnTo>
                    <a:lnTo>
                      <a:pt x="722" y="138"/>
                    </a:lnTo>
                    <a:lnTo>
                      <a:pt x="731" y="162"/>
                    </a:lnTo>
                    <a:lnTo>
                      <a:pt x="743" y="187"/>
                    </a:lnTo>
                    <a:lnTo>
                      <a:pt x="758" y="211"/>
                    </a:lnTo>
                    <a:lnTo>
                      <a:pt x="776" y="233"/>
                    </a:lnTo>
                    <a:lnTo>
                      <a:pt x="795" y="253"/>
                    </a:lnTo>
                    <a:lnTo>
                      <a:pt x="775" y="261"/>
                    </a:lnTo>
                    <a:lnTo>
                      <a:pt x="756" y="271"/>
                    </a:lnTo>
                    <a:lnTo>
                      <a:pt x="735" y="279"/>
                    </a:lnTo>
                    <a:lnTo>
                      <a:pt x="716" y="287"/>
                    </a:lnTo>
                    <a:lnTo>
                      <a:pt x="696" y="295"/>
                    </a:lnTo>
                    <a:lnTo>
                      <a:pt x="676" y="301"/>
                    </a:lnTo>
                    <a:lnTo>
                      <a:pt x="654" y="305"/>
                    </a:lnTo>
                    <a:lnTo>
                      <a:pt x="632" y="306"/>
                    </a:lnTo>
                    <a:lnTo>
                      <a:pt x="625" y="302"/>
                    </a:lnTo>
                    <a:lnTo>
                      <a:pt x="617" y="299"/>
                    </a:lnTo>
                    <a:lnTo>
                      <a:pt x="609" y="299"/>
                    </a:lnTo>
                    <a:lnTo>
                      <a:pt x="602" y="299"/>
                    </a:lnTo>
                    <a:lnTo>
                      <a:pt x="594" y="302"/>
                    </a:lnTo>
                    <a:lnTo>
                      <a:pt x="586" y="305"/>
                    </a:lnTo>
                    <a:lnTo>
                      <a:pt x="578" y="308"/>
                    </a:lnTo>
                    <a:lnTo>
                      <a:pt x="571" y="310"/>
                    </a:lnTo>
                    <a:lnTo>
                      <a:pt x="562" y="324"/>
                    </a:lnTo>
                    <a:lnTo>
                      <a:pt x="552" y="337"/>
                    </a:lnTo>
                    <a:lnTo>
                      <a:pt x="544" y="351"/>
                    </a:lnTo>
                    <a:lnTo>
                      <a:pt x="537" y="366"/>
                    </a:lnTo>
                    <a:lnTo>
                      <a:pt x="532" y="381"/>
                    </a:lnTo>
                    <a:lnTo>
                      <a:pt x="526" y="396"/>
                    </a:lnTo>
                    <a:lnTo>
                      <a:pt x="522" y="411"/>
                    </a:lnTo>
                    <a:lnTo>
                      <a:pt x="518" y="427"/>
                    </a:lnTo>
                    <a:lnTo>
                      <a:pt x="524" y="446"/>
                    </a:lnTo>
                    <a:lnTo>
                      <a:pt x="530" y="465"/>
                    </a:lnTo>
                    <a:lnTo>
                      <a:pt x="540" y="483"/>
                    </a:lnTo>
                    <a:lnTo>
                      <a:pt x="551" y="500"/>
                    </a:lnTo>
                    <a:lnTo>
                      <a:pt x="562" y="517"/>
                    </a:lnTo>
                    <a:lnTo>
                      <a:pt x="575" y="531"/>
                    </a:lnTo>
                    <a:lnTo>
                      <a:pt x="587" y="545"/>
                    </a:lnTo>
                    <a:lnTo>
                      <a:pt x="601" y="559"/>
                    </a:lnTo>
                    <a:lnTo>
                      <a:pt x="586" y="565"/>
                    </a:lnTo>
                    <a:lnTo>
                      <a:pt x="571" y="571"/>
                    </a:lnTo>
                    <a:lnTo>
                      <a:pt x="556" y="575"/>
                    </a:lnTo>
                    <a:lnTo>
                      <a:pt x="541" y="579"/>
                    </a:lnTo>
                    <a:lnTo>
                      <a:pt x="526" y="582"/>
                    </a:lnTo>
                    <a:lnTo>
                      <a:pt x="511" y="583"/>
                    </a:lnTo>
                    <a:lnTo>
                      <a:pt x="495" y="586"/>
                    </a:lnTo>
                    <a:lnTo>
                      <a:pt x="480" y="587"/>
                    </a:lnTo>
                    <a:lnTo>
                      <a:pt x="464" y="587"/>
                    </a:lnTo>
                    <a:lnTo>
                      <a:pt x="448" y="588"/>
                    </a:lnTo>
                    <a:lnTo>
                      <a:pt x="431" y="588"/>
                    </a:lnTo>
                    <a:lnTo>
                      <a:pt x="415" y="588"/>
                    </a:lnTo>
                    <a:lnTo>
                      <a:pt x="399" y="590"/>
                    </a:lnTo>
                    <a:lnTo>
                      <a:pt x="383" y="590"/>
                    </a:lnTo>
                    <a:lnTo>
                      <a:pt x="366" y="590"/>
                    </a:lnTo>
                    <a:lnTo>
                      <a:pt x="349" y="591"/>
                    </a:lnTo>
                    <a:lnTo>
                      <a:pt x="331" y="591"/>
                    </a:lnTo>
                    <a:lnTo>
                      <a:pt x="317" y="584"/>
                    </a:lnTo>
                    <a:lnTo>
                      <a:pt x="307" y="575"/>
                    </a:lnTo>
                    <a:lnTo>
                      <a:pt x="297" y="563"/>
                    </a:lnTo>
                    <a:lnTo>
                      <a:pt x="289" y="549"/>
                    </a:lnTo>
                    <a:lnTo>
                      <a:pt x="281" y="537"/>
                    </a:lnTo>
                    <a:lnTo>
                      <a:pt x="270" y="526"/>
                    </a:lnTo>
                    <a:lnTo>
                      <a:pt x="256" y="518"/>
                    </a:lnTo>
                    <a:lnTo>
                      <a:pt x="250" y="526"/>
                    </a:lnTo>
                    <a:lnTo>
                      <a:pt x="247" y="534"/>
                    </a:lnTo>
                    <a:lnTo>
                      <a:pt x="250" y="542"/>
                    </a:lnTo>
                    <a:lnTo>
                      <a:pt x="254" y="550"/>
                    </a:lnTo>
                    <a:lnTo>
                      <a:pt x="261" y="559"/>
                    </a:lnTo>
                    <a:lnTo>
                      <a:pt x="266" y="567"/>
                    </a:lnTo>
                    <a:lnTo>
                      <a:pt x="271" y="575"/>
                    </a:lnTo>
                    <a:lnTo>
                      <a:pt x="275" y="583"/>
                    </a:lnTo>
                    <a:lnTo>
                      <a:pt x="265" y="583"/>
                    </a:lnTo>
                    <a:lnTo>
                      <a:pt x="254" y="580"/>
                    </a:lnTo>
                    <a:lnTo>
                      <a:pt x="243" y="575"/>
                    </a:lnTo>
                    <a:lnTo>
                      <a:pt x="233" y="569"/>
                    </a:lnTo>
                    <a:lnTo>
                      <a:pt x="224" y="563"/>
                    </a:lnTo>
                    <a:lnTo>
                      <a:pt x="216" y="555"/>
                    </a:lnTo>
                    <a:lnTo>
                      <a:pt x="209" y="546"/>
                    </a:lnTo>
                    <a:lnTo>
                      <a:pt x="204" y="537"/>
                    </a:lnTo>
                    <a:lnTo>
                      <a:pt x="201" y="519"/>
                    </a:lnTo>
                    <a:lnTo>
                      <a:pt x="195" y="502"/>
                    </a:lnTo>
                    <a:lnTo>
                      <a:pt x="189" y="484"/>
                    </a:lnTo>
                    <a:lnTo>
                      <a:pt x="182" y="468"/>
                    </a:lnTo>
                    <a:lnTo>
                      <a:pt x="175" y="450"/>
                    </a:lnTo>
                    <a:lnTo>
                      <a:pt x="172" y="434"/>
                    </a:lnTo>
                    <a:lnTo>
                      <a:pt x="172" y="416"/>
                    </a:lnTo>
                    <a:lnTo>
                      <a:pt x="178" y="397"/>
                    </a:lnTo>
                    <a:lnTo>
                      <a:pt x="179" y="378"/>
                    </a:lnTo>
                    <a:lnTo>
                      <a:pt x="186" y="359"/>
                    </a:lnTo>
                    <a:lnTo>
                      <a:pt x="189" y="341"/>
                    </a:lnTo>
                    <a:lnTo>
                      <a:pt x="178" y="329"/>
                    </a:lnTo>
                    <a:lnTo>
                      <a:pt x="162" y="348"/>
                    </a:lnTo>
                    <a:lnTo>
                      <a:pt x="155" y="371"/>
                    </a:lnTo>
                    <a:lnTo>
                      <a:pt x="149" y="398"/>
                    </a:lnTo>
                    <a:lnTo>
                      <a:pt x="144" y="423"/>
                    </a:lnTo>
                    <a:lnTo>
                      <a:pt x="124" y="420"/>
                    </a:lnTo>
                    <a:lnTo>
                      <a:pt x="103" y="416"/>
                    </a:lnTo>
                    <a:lnTo>
                      <a:pt x="83" y="411"/>
                    </a:lnTo>
                    <a:lnTo>
                      <a:pt x="64" y="403"/>
                    </a:lnTo>
                    <a:lnTo>
                      <a:pt x="46" y="393"/>
                    </a:lnTo>
                    <a:lnTo>
                      <a:pt x="29" y="381"/>
                    </a:lnTo>
                    <a:lnTo>
                      <a:pt x="14" y="367"/>
                    </a:lnTo>
                    <a:lnTo>
                      <a:pt x="0" y="351"/>
                    </a:lnTo>
                    <a:lnTo>
                      <a:pt x="33" y="317"/>
                    </a:lnTo>
                    <a:lnTo>
                      <a:pt x="56" y="275"/>
                    </a:lnTo>
                    <a:lnTo>
                      <a:pt x="72" y="230"/>
                    </a:lnTo>
                    <a:lnTo>
                      <a:pt x="88" y="185"/>
                    </a:lnTo>
                    <a:lnTo>
                      <a:pt x="106" y="143"/>
                    </a:lnTo>
                    <a:lnTo>
                      <a:pt x="129" y="108"/>
                    </a:lnTo>
                    <a:lnTo>
                      <a:pt x="164" y="82"/>
                    </a:lnTo>
                    <a:lnTo>
                      <a:pt x="212" y="71"/>
                    </a:lnTo>
                    <a:lnTo>
                      <a:pt x="208" y="85"/>
                    </a:lnTo>
                    <a:lnTo>
                      <a:pt x="201" y="100"/>
                    </a:lnTo>
                    <a:lnTo>
                      <a:pt x="194" y="114"/>
                    </a:lnTo>
                    <a:lnTo>
                      <a:pt x="189" y="128"/>
                    </a:lnTo>
                    <a:lnTo>
                      <a:pt x="182" y="142"/>
                    </a:lnTo>
                    <a:lnTo>
                      <a:pt x="179" y="157"/>
                    </a:lnTo>
                    <a:lnTo>
                      <a:pt x="178" y="171"/>
                    </a:lnTo>
                    <a:lnTo>
                      <a:pt x="181" y="185"/>
                    </a:lnTo>
                    <a:lnTo>
                      <a:pt x="316" y="223"/>
                    </a:lnTo>
                    <a:lnTo>
                      <a:pt x="319" y="230"/>
                    </a:lnTo>
                    <a:lnTo>
                      <a:pt x="320" y="240"/>
                    </a:lnTo>
                    <a:lnTo>
                      <a:pt x="322" y="251"/>
                    </a:lnTo>
                    <a:lnTo>
                      <a:pt x="324" y="261"/>
                    </a:lnTo>
                    <a:lnTo>
                      <a:pt x="345" y="268"/>
                    </a:lnTo>
                    <a:lnTo>
                      <a:pt x="364" y="274"/>
                    </a:lnTo>
                    <a:lnTo>
                      <a:pt x="384" y="276"/>
                    </a:lnTo>
                    <a:lnTo>
                      <a:pt x="403" y="276"/>
                    </a:lnTo>
                    <a:lnTo>
                      <a:pt x="421" y="274"/>
                    </a:lnTo>
                    <a:lnTo>
                      <a:pt x="440" y="267"/>
                    </a:lnTo>
                    <a:lnTo>
                      <a:pt x="457" y="257"/>
                    </a:lnTo>
                    <a:lnTo>
                      <a:pt x="473" y="242"/>
                    </a:lnTo>
                    <a:lnTo>
                      <a:pt x="465" y="215"/>
                    </a:lnTo>
                    <a:lnTo>
                      <a:pt x="479" y="209"/>
                    </a:lnTo>
                    <a:lnTo>
                      <a:pt x="492" y="203"/>
                    </a:lnTo>
                    <a:lnTo>
                      <a:pt x="507" y="199"/>
                    </a:lnTo>
                    <a:lnTo>
                      <a:pt x="522" y="194"/>
                    </a:lnTo>
                    <a:lnTo>
                      <a:pt x="536" y="187"/>
                    </a:lnTo>
                    <a:lnTo>
                      <a:pt x="549" y="180"/>
                    </a:lnTo>
                    <a:lnTo>
                      <a:pt x="562" y="171"/>
                    </a:lnTo>
                    <a:lnTo>
                      <a:pt x="571" y="158"/>
                    </a:lnTo>
                    <a:lnTo>
                      <a:pt x="562" y="122"/>
                    </a:lnTo>
                    <a:lnTo>
                      <a:pt x="555" y="85"/>
                    </a:lnTo>
                    <a:lnTo>
                      <a:pt x="551" y="47"/>
                    </a:lnTo>
                    <a:lnTo>
                      <a:pt x="552" y="6"/>
                    </a:lnTo>
                    <a:lnTo>
                      <a:pt x="568" y="1"/>
                    </a:lnTo>
                    <a:lnTo>
                      <a:pt x="586" y="0"/>
                    </a:lnTo>
                    <a:lnTo>
                      <a:pt x="602" y="0"/>
                    </a:lnTo>
                    <a:lnTo>
                      <a:pt x="620" y="4"/>
                    </a:lnTo>
                    <a:lnTo>
                      <a:pt x="636" y="9"/>
                    </a:lnTo>
                    <a:lnTo>
                      <a:pt x="651" y="16"/>
                    </a:lnTo>
                    <a:lnTo>
                      <a:pt x="667" y="24"/>
                    </a:lnTo>
                    <a:lnTo>
                      <a:pt x="681" y="33"/>
                    </a:lnTo>
                    <a:lnTo>
                      <a:pt x="703" y="55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flipH="1">
                <a:off x="5344200" y="5580000"/>
                <a:ext cx="79920" cy="122400"/>
              </a:xfrm>
              <a:custGeom>
                <a:avLst/>
                <a:gdLst/>
                <a:ahLst/>
                <a:rect l="l" t="t" r="r" b="b"/>
                <a:pathLst>
                  <a:path w="130" h="231">
                    <a:moveTo>
                      <a:pt x="114" y="0"/>
                    </a:moveTo>
                    <a:lnTo>
                      <a:pt x="113" y="40"/>
                    </a:lnTo>
                    <a:lnTo>
                      <a:pt x="119" y="76"/>
                    </a:lnTo>
                    <a:lnTo>
                      <a:pt x="128" y="113"/>
                    </a:lnTo>
                    <a:lnTo>
                      <a:pt x="130" y="150"/>
                    </a:lnTo>
                    <a:lnTo>
                      <a:pt x="117" y="158"/>
                    </a:lnTo>
                    <a:lnTo>
                      <a:pt x="102" y="165"/>
                    </a:lnTo>
                    <a:lnTo>
                      <a:pt x="87" y="170"/>
                    </a:lnTo>
                    <a:lnTo>
                      <a:pt x="71" y="174"/>
                    </a:lnTo>
                    <a:lnTo>
                      <a:pt x="56" y="179"/>
                    </a:lnTo>
                    <a:lnTo>
                      <a:pt x="42" y="186"/>
                    </a:lnTo>
                    <a:lnTo>
                      <a:pt x="30" y="196"/>
                    </a:lnTo>
                    <a:lnTo>
                      <a:pt x="19" y="207"/>
                    </a:lnTo>
                    <a:lnTo>
                      <a:pt x="31" y="228"/>
                    </a:lnTo>
                    <a:lnTo>
                      <a:pt x="23" y="231"/>
                    </a:lnTo>
                    <a:lnTo>
                      <a:pt x="16" y="231"/>
                    </a:lnTo>
                    <a:lnTo>
                      <a:pt x="10" y="231"/>
                    </a:lnTo>
                    <a:lnTo>
                      <a:pt x="0" y="231"/>
                    </a:lnTo>
                    <a:lnTo>
                      <a:pt x="8" y="200"/>
                    </a:lnTo>
                    <a:lnTo>
                      <a:pt x="15" y="167"/>
                    </a:lnTo>
                    <a:lnTo>
                      <a:pt x="22" y="136"/>
                    </a:lnTo>
                    <a:lnTo>
                      <a:pt x="30" y="106"/>
                    </a:lnTo>
                    <a:lnTo>
                      <a:pt x="39" y="76"/>
                    </a:lnTo>
                    <a:lnTo>
                      <a:pt x="52" y="49"/>
                    </a:lnTo>
                    <a:lnTo>
                      <a:pt x="69" y="23"/>
                    </a:lnTo>
                    <a:lnTo>
                      <a:pt x="92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flipH="1">
                <a:off x="5448240" y="5619600"/>
                <a:ext cx="101520" cy="87480"/>
              </a:xfrm>
              <a:custGeom>
                <a:avLst/>
                <a:gdLst/>
                <a:ahLst/>
                <a:rect l="l" t="t" r="r" b="b"/>
                <a:pathLst>
                  <a:path w="166" h="163">
                    <a:moveTo>
                      <a:pt x="109" y="41"/>
                    </a:moveTo>
                    <a:lnTo>
                      <a:pt x="118" y="56"/>
                    </a:lnTo>
                    <a:lnTo>
                      <a:pt x="124" y="71"/>
                    </a:lnTo>
                    <a:lnTo>
                      <a:pt x="130" y="87"/>
                    </a:lnTo>
                    <a:lnTo>
                      <a:pt x="137" y="102"/>
                    </a:lnTo>
                    <a:lnTo>
                      <a:pt x="143" y="118"/>
                    </a:lnTo>
                    <a:lnTo>
                      <a:pt x="150" y="133"/>
                    </a:lnTo>
                    <a:lnTo>
                      <a:pt x="157" y="148"/>
                    </a:lnTo>
                    <a:lnTo>
                      <a:pt x="166" y="163"/>
                    </a:lnTo>
                    <a:lnTo>
                      <a:pt x="147" y="163"/>
                    </a:lnTo>
                    <a:lnTo>
                      <a:pt x="146" y="137"/>
                    </a:lnTo>
                    <a:lnTo>
                      <a:pt x="135" y="120"/>
                    </a:lnTo>
                    <a:lnTo>
                      <a:pt x="118" y="110"/>
                    </a:lnTo>
                    <a:lnTo>
                      <a:pt x="95" y="103"/>
                    </a:lnTo>
                    <a:lnTo>
                      <a:pt x="70" y="101"/>
                    </a:lnTo>
                    <a:lnTo>
                      <a:pt x="44" y="98"/>
                    </a:lnTo>
                    <a:lnTo>
                      <a:pt x="20" y="93"/>
                    </a:lnTo>
                    <a:lnTo>
                      <a:pt x="0" y="84"/>
                    </a:lnTo>
                    <a:lnTo>
                      <a:pt x="2" y="64"/>
                    </a:lnTo>
                    <a:lnTo>
                      <a:pt x="9" y="42"/>
                    </a:lnTo>
                    <a:lnTo>
                      <a:pt x="19" y="21"/>
                    </a:lnTo>
                    <a:lnTo>
                      <a:pt x="31" y="0"/>
                    </a:lnTo>
                    <a:lnTo>
                      <a:pt x="40" y="7"/>
                    </a:lnTo>
                    <a:lnTo>
                      <a:pt x="54" y="10"/>
                    </a:lnTo>
                    <a:lnTo>
                      <a:pt x="67" y="11"/>
                    </a:lnTo>
                    <a:lnTo>
                      <a:pt x="82" y="13"/>
                    </a:lnTo>
                    <a:lnTo>
                      <a:pt x="95" y="15"/>
                    </a:lnTo>
                    <a:lnTo>
                      <a:pt x="105" y="19"/>
                    </a:lnTo>
                    <a:lnTo>
                      <a:pt x="109" y="27"/>
                    </a:lnTo>
                    <a:lnTo>
                      <a:pt x="109" y="4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flipH="1">
                <a:off x="5415120" y="5621400"/>
                <a:ext cx="51120" cy="68040"/>
              </a:xfrm>
              <a:custGeom>
                <a:avLst/>
                <a:gdLst/>
                <a:ahLst/>
                <a:rect l="l" t="t" r="r" b="b"/>
                <a:pathLst>
                  <a:path w="84" h="128">
                    <a:moveTo>
                      <a:pt x="48" y="128"/>
                    </a:moveTo>
                    <a:lnTo>
                      <a:pt x="42" y="115"/>
                    </a:lnTo>
                    <a:lnTo>
                      <a:pt x="33" y="103"/>
                    </a:lnTo>
                    <a:lnTo>
                      <a:pt x="28" y="90"/>
                    </a:lnTo>
                    <a:lnTo>
                      <a:pt x="21" y="76"/>
                    </a:lnTo>
                    <a:lnTo>
                      <a:pt x="16" y="62"/>
                    </a:lnTo>
                    <a:lnTo>
                      <a:pt x="10" y="48"/>
                    </a:lnTo>
                    <a:lnTo>
                      <a:pt x="5" y="34"/>
                    </a:lnTo>
                    <a:lnTo>
                      <a:pt x="0" y="19"/>
                    </a:lnTo>
                    <a:lnTo>
                      <a:pt x="10" y="19"/>
                    </a:lnTo>
                    <a:lnTo>
                      <a:pt x="21" y="18"/>
                    </a:lnTo>
                    <a:lnTo>
                      <a:pt x="31" y="15"/>
                    </a:lnTo>
                    <a:lnTo>
                      <a:pt x="42" y="12"/>
                    </a:lnTo>
                    <a:lnTo>
                      <a:pt x="52" y="10"/>
                    </a:lnTo>
                    <a:lnTo>
                      <a:pt x="62" y="7"/>
                    </a:lnTo>
                    <a:lnTo>
                      <a:pt x="73" y="3"/>
                    </a:lnTo>
                    <a:lnTo>
                      <a:pt x="84" y="0"/>
                    </a:lnTo>
                    <a:lnTo>
                      <a:pt x="48" y="12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flipH="1">
                <a:off x="5185800" y="5734080"/>
                <a:ext cx="54360" cy="63360"/>
              </a:xfrm>
              <a:custGeom>
                <a:avLst/>
                <a:gdLst/>
                <a:ahLst/>
                <a:rect l="l" t="t" r="r" b="b"/>
                <a:pathLst>
                  <a:path w="89" h="118">
                    <a:moveTo>
                      <a:pt x="43" y="0"/>
                    </a:moveTo>
                    <a:lnTo>
                      <a:pt x="50" y="14"/>
                    </a:lnTo>
                    <a:lnTo>
                      <a:pt x="57" y="29"/>
                    </a:lnTo>
                    <a:lnTo>
                      <a:pt x="63" y="42"/>
                    </a:lnTo>
                    <a:lnTo>
                      <a:pt x="70" y="57"/>
                    </a:lnTo>
                    <a:lnTo>
                      <a:pt x="76" y="72"/>
                    </a:lnTo>
                    <a:lnTo>
                      <a:pt x="81" y="87"/>
                    </a:lnTo>
                    <a:lnTo>
                      <a:pt x="85" y="102"/>
                    </a:lnTo>
                    <a:lnTo>
                      <a:pt x="89" y="118"/>
                    </a:lnTo>
                    <a:lnTo>
                      <a:pt x="80" y="117"/>
                    </a:lnTo>
                    <a:lnTo>
                      <a:pt x="71" y="114"/>
                    </a:lnTo>
                    <a:lnTo>
                      <a:pt x="65" y="109"/>
                    </a:lnTo>
                    <a:lnTo>
                      <a:pt x="58" y="102"/>
                    </a:lnTo>
                    <a:lnTo>
                      <a:pt x="51" y="95"/>
                    </a:lnTo>
                    <a:lnTo>
                      <a:pt x="44" y="91"/>
                    </a:lnTo>
                    <a:lnTo>
                      <a:pt x="36" y="87"/>
                    </a:lnTo>
                    <a:lnTo>
                      <a:pt x="27" y="87"/>
                    </a:lnTo>
                    <a:lnTo>
                      <a:pt x="17" y="69"/>
                    </a:lnTo>
                    <a:lnTo>
                      <a:pt x="14" y="52"/>
                    </a:lnTo>
                    <a:lnTo>
                      <a:pt x="10" y="34"/>
                    </a:lnTo>
                    <a:lnTo>
                      <a:pt x="0" y="15"/>
                    </a:lnTo>
                    <a:lnTo>
                      <a:pt x="4" y="12"/>
                    </a:lnTo>
                    <a:lnTo>
                      <a:pt x="8" y="10"/>
                    </a:lnTo>
                    <a:lnTo>
                      <a:pt x="13" y="7"/>
                    </a:lnTo>
                    <a:lnTo>
                      <a:pt x="20" y="5"/>
                    </a:lnTo>
                    <a:lnTo>
                      <a:pt x="25" y="4"/>
                    </a:lnTo>
                    <a:lnTo>
                      <a:pt x="31" y="3"/>
                    </a:lnTo>
                    <a:lnTo>
                      <a:pt x="38" y="1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flipH="1">
                <a:off x="5235120" y="5748480"/>
                <a:ext cx="103320" cy="107640"/>
              </a:xfrm>
              <a:custGeom>
                <a:avLst/>
                <a:gdLst/>
                <a:ahLst/>
                <a:rect l="l" t="t" r="r" b="b"/>
                <a:pathLst>
                  <a:path w="172" h="205">
                    <a:moveTo>
                      <a:pt x="157" y="27"/>
                    </a:moveTo>
                    <a:lnTo>
                      <a:pt x="150" y="42"/>
                    </a:lnTo>
                    <a:lnTo>
                      <a:pt x="150" y="55"/>
                    </a:lnTo>
                    <a:lnTo>
                      <a:pt x="154" y="69"/>
                    </a:lnTo>
                    <a:lnTo>
                      <a:pt x="160" y="81"/>
                    </a:lnTo>
                    <a:lnTo>
                      <a:pt x="167" y="93"/>
                    </a:lnTo>
                    <a:lnTo>
                      <a:pt x="171" y="104"/>
                    </a:lnTo>
                    <a:lnTo>
                      <a:pt x="172" y="117"/>
                    </a:lnTo>
                    <a:lnTo>
                      <a:pt x="168" y="129"/>
                    </a:lnTo>
                    <a:lnTo>
                      <a:pt x="161" y="148"/>
                    </a:lnTo>
                    <a:lnTo>
                      <a:pt x="157" y="167"/>
                    </a:lnTo>
                    <a:lnTo>
                      <a:pt x="150" y="184"/>
                    </a:lnTo>
                    <a:lnTo>
                      <a:pt x="138" y="197"/>
                    </a:lnTo>
                    <a:lnTo>
                      <a:pt x="129" y="195"/>
                    </a:lnTo>
                    <a:lnTo>
                      <a:pt x="118" y="197"/>
                    </a:lnTo>
                    <a:lnTo>
                      <a:pt x="108" y="198"/>
                    </a:lnTo>
                    <a:lnTo>
                      <a:pt x="99" y="201"/>
                    </a:lnTo>
                    <a:lnTo>
                      <a:pt x="89" y="203"/>
                    </a:lnTo>
                    <a:lnTo>
                      <a:pt x="78" y="205"/>
                    </a:lnTo>
                    <a:lnTo>
                      <a:pt x="69" y="205"/>
                    </a:lnTo>
                    <a:lnTo>
                      <a:pt x="58" y="202"/>
                    </a:lnTo>
                    <a:lnTo>
                      <a:pt x="47" y="186"/>
                    </a:lnTo>
                    <a:lnTo>
                      <a:pt x="35" y="169"/>
                    </a:lnTo>
                    <a:lnTo>
                      <a:pt x="21" y="152"/>
                    </a:lnTo>
                    <a:lnTo>
                      <a:pt x="12" y="136"/>
                    </a:lnTo>
                    <a:lnTo>
                      <a:pt x="4" y="118"/>
                    </a:lnTo>
                    <a:lnTo>
                      <a:pt x="0" y="99"/>
                    </a:lnTo>
                    <a:lnTo>
                      <a:pt x="1" y="80"/>
                    </a:lnTo>
                    <a:lnTo>
                      <a:pt x="9" y="58"/>
                    </a:lnTo>
                    <a:lnTo>
                      <a:pt x="13" y="50"/>
                    </a:lnTo>
                    <a:lnTo>
                      <a:pt x="17" y="42"/>
                    </a:lnTo>
                    <a:lnTo>
                      <a:pt x="21" y="34"/>
                    </a:lnTo>
                    <a:lnTo>
                      <a:pt x="26" y="24"/>
                    </a:lnTo>
                    <a:lnTo>
                      <a:pt x="31" y="17"/>
                    </a:lnTo>
                    <a:lnTo>
                      <a:pt x="38" y="11"/>
                    </a:lnTo>
                    <a:lnTo>
                      <a:pt x="45" y="7"/>
                    </a:lnTo>
                    <a:lnTo>
                      <a:pt x="54" y="5"/>
                    </a:lnTo>
                    <a:lnTo>
                      <a:pt x="64" y="7"/>
                    </a:lnTo>
                    <a:lnTo>
                      <a:pt x="73" y="9"/>
                    </a:lnTo>
                    <a:lnTo>
                      <a:pt x="81" y="16"/>
                    </a:lnTo>
                    <a:lnTo>
                      <a:pt x="89" y="22"/>
                    </a:lnTo>
                    <a:lnTo>
                      <a:pt x="97" y="27"/>
                    </a:lnTo>
                    <a:lnTo>
                      <a:pt x="104" y="30"/>
                    </a:lnTo>
                    <a:lnTo>
                      <a:pt x="114" y="30"/>
                    </a:lnTo>
                    <a:lnTo>
                      <a:pt x="122" y="24"/>
                    </a:lnTo>
                    <a:lnTo>
                      <a:pt x="114" y="1"/>
                    </a:lnTo>
                    <a:lnTo>
                      <a:pt x="122" y="0"/>
                    </a:lnTo>
                    <a:lnTo>
                      <a:pt x="130" y="0"/>
                    </a:lnTo>
                    <a:lnTo>
                      <a:pt x="138" y="1"/>
                    </a:lnTo>
                    <a:lnTo>
                      <a:pt x="144" y="4"/>
                    </a:lnTo>
                    <a:lnTo>
                      <a:pt x="149" y="8"/>
                    </a:lnTo>
                    <a:lnTo>
                      <a:pt x="153" y="13"/>
                    </a:lnTo>
                    <a:lnTo>
                      <a:pt x="156" y="19"/>
                    </a:lnTo>
                    <a:lnTo>
                      <a:pt x="157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flipH="1">
                <a:off x="5413320" y="5754600"/>
                <a:ext cx="48960" cy="38160"/>
              </a:xfrm>
              <a:custGeom>
                <a:avLst/>
                <a:gdLst/>
                <a:ahLst/>
                <a:rect l="l" t="t" r="r" b="b"/>
                <a:pathLst>
                  <a:path w="80" h="72">
                    <a:moveTo>
                      <a:pt x="80" y="34"/>
                    </a:moveTo>
                    <a:lnTo>
                      <a:pt x="79" y="42"/>
                    </a:lnTo>
                    <a:lnTo>
                      <a:pt x="76" y="49"/>
                    </a:lnTo>
                    <a:lnTo>
                      <a:pt x="71" y="54"/>
                    </a:lnTo>
                    <a:lnTo>
                      <a:pt x="65" y="58"/>
                    </a:lnTo>
                    <a:lnTo>
                      <a:pt x="59" y="62"/>
                    </a:lnTo>
                    <a:lnTo>
                      <a:pt x="52" y="67"/>
                    </a:lnTo>
                    <a:lnTo>
                      <a:pt x="45" y="69"/>
                    </a:lnTo>
                    <a:lnTo>
                      <a:pt x="40" y="72"/>
                    </a:lnTo>
                    <a:lnTo>
                      <a:pt x="26" y="72"/>
                    </a:lnTo>
                    <a:lnTo>
                      <a:pt x="17" y="68"/>
                    </a:lnTo>
                    <a:lnTo>
                      <a:pt x="10" y="61"/>
                    </a:lnTo>
                    <a:lnTo>
                      <a:pt x="2" y="53"/>
                    </a:lnTo>
                    <a:lnTo>
                      <a:pt x="0" y="37"/>
                    </a:lnTo>
                    <a:lnTo>
                      <a:pt x="3" y="22"/>
                    </a:lnTo>
                    <a:lnTo>
                      <a:pt x="10" y="10"/>
                    </a:lnTo>
                    <a:lnTo>
                      <a:pt x="23" y="0"/>
                    </a:lnTo>
                    <a:lnTo>
                      <a:pt x="32" y="4"/>
                    </a:lnTo>
                    <a:lnTo>
                      <a:pt x="40" y="7"/>
                    </a:lnTo>
                    <a:lnTo>
                      <a:pt x="49" y="8"/>
                    </a:lnTo>
                    <a:lnTo>
                      <a:pt x="59" y="10"/>
                    </a:lnTo>
                    <a:lnTo>
                      <a:pt x="68" y="12"/>
                    </a:lnTo>
                    <a:lnTo>
                      <a:pt x="75" y="16"/>
                    </a:lnTo>
                    <a:lnTo>
                      <a:pt x="79" y="23"/>
                    </a:lnTo>
                    <a:lnTo>
                      <a:pt x="8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flipH="1">
                <a:off x="5425920" y="5764320"/>
                <a:ext cx="24840" cy="17280"/>
              </a:xfrm>
              <a:custGeom>
                <a:avLst/>
                <a:gdLst/>
                <a:ahLst/>
                <a:rect l="l" t="t" r="r" b="b"/>
                <a:pathLst>
                  <a:path w="40" h="31">
                    <a:moveTo>
                      <a:pt x="40" y="19"/>
                    </a:moveTo>
                    <a:lnTo>
                      <a:pt x="33" y="26"/>
                    </a:lnTo>
                    <a:lnTo>
                      <a:pt x="26" y="30"/>
                    </a:lnTo>
                    <a:lnTo>
                      <a:pt x="17" y="31"/>
                    </a:lnTo>
                    <a:lnTo>
                      <a:pt x="7" y="30"/>
                    </a:lnTo>
                    <a:lnTo>
                      <a:pt x="0" y="23"/>
                    </a:lnTo>
                    <a:lnTo>
                      <a:pt x="2" y="14"/>
                    </a:lnTo>
                    <a:lnTo>
                      <a:pt x="7" y="5"/>
                    </a:lnTo>
                    <a:lnTo>
                      <a:pt x="15" y="0"/>
                    </a:lnTo>
                    <a:lnTo>
                      <a:pt x="22" y="5"/>
                    </a:lnTo>
                    <a:lnTo>
                      <a:pt x="32" y="7"/>
                    </a:lnTo>
                    <a:lnTo>
                      <a:pt x="38" y="10"/>
                    </a:lnTo>
                    <a:lnTo>
                      <a:pt x="40" y="1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flipH="1">
                <a:off x="5568120" y="5799240"/>
                <a:ext cx="121320" cy="179280"/>
              </a:xfrm>
              <a:custGeom>
                <a:avLst/>
                <a:gdLst/>
                <a:ahLst/>
                <a:rect l="l" t="t" r="r" b="b"/>
                <a:pathLst>
                  <a:path w="201" h="339">
                    <a:moveTo>
                      <a:pt x="171" y="30"/>
                    </a:moveTo>
                    <a:lnTo>
                      <a:pt x="167" y="44"/>
                    </a:lnTo>
                    <a:lnTo>
                      <a:pt x="171" y="56"/>
                    </a:lnTo>
                    <a:lnTo>
                      <a:pt x="174" y="68"/>
                    </a:lnTo>
                    <a:lnTo>
                      <a:pt x="167" y="79"/>
                    </a:lnTo>
                    <a:lnTo>
                      <a:pt x="153" y="71"/>
                    </a:lnTo>
                    <a:lnTo>
                      <a:pt x="140" y="63"/>
                    </a:lnTo>
                    <a:lnTo>
                      <a:pt x="126" y="57"/>
                    </a:lnTo>
                    <a:lnTo>
                      <a:pt x="113" y="52"/>
                    </a:lnTo>
                    <a:lnTo>
                      <a:pt x="99" y="49"/>
                    </a:lnTo>
                    <a:lnTo>
                      <a:pt x="84" y="49"/>
                    </a:lnTo>
                    <a:lnTo>
                      <a:pt x="69" y="52"/>
                    </a:lnTo>
                    <a:lnTo>
                      <a:pt x="53" y="57"/>
                    </a:lnTo>
                    <a:lnTo>
                      <a:pt x="50" y="60"/>
                    </a:lnTo>
                    <a:lnTo>
                      <a:pt x="46" y="64"/>
                    </a:lnTo>
                    <a:lnTo>
                      <a:pt x="45" y="67"/>
                    </a:lnTo>
                    <a:lnTo>
                      <a:pt x="46" y="71"/>
                    </a:lnTo>
                    <a:lnTo>
                      <a:pt x="54" y="80"/>
                    </a:lnTo>
                    <a:lnTo>
                      <a:pt x="61" y="83"/>
                    </a:lnTo>
                    <a:lnTo>
                      <a:pt x="69" y="83"/>
                    </a:lnTo>
                    <a:lnTo>
                      <a:pt x="79" y="80"/>
                    </a:lnTo>
                    <a:lnTo>
                      <a:pt x="87" y="76"/>
                    </a:lnTo>
                    <a:lnTo>
                      <a:pt x="95" y="75"/>
                    </a:lnTo>
                    <a:lnTo>
                      <a:pt x="104" y="75"/>
                    </a:lnTo>
                    <a:lnTo>
                      <a:pt x="114" y="79"/>
                    </a:lnTo>
                    <a:lnTo>
                      <a:pt x="107" y="79"/>
                    </a:lnTo>
                    <a:lnTo>
                      <a:pt x="99" y="79"/>
                    </a:lnTo>
                    <a:lnTo>
                      <a:pt x="91" y="80"/>
                    </a:lnTo>
                    <a:lnTo>
                      <a:pt x="83" y="83"/>
                    </a:lnTo>
                    <a:lnTo>
                      <a:pt x="75" y="86"/>
                    </a:lnTo>
                    <a:lnTo>
                      <a:pt x="68" y="90"/>
                    </a:lnTo>
                    <a:lnTo>
                      <a:pt x="62" y="95"/>
                    </a:lnTo>
                    <a:lnTo>
                      <a:pt x="57" y="101"/>
                    </a:lnTo>
                    <a:lnTo>
                      <a:pt x="61" y="117"/>
                    </a:lnTo>
                    <a:lnTo>
                      <a:pt x="66" y="133"/>
                    </a:lnTo>
                    <a:lnTo>
                      <a:pt x="75" y="149"/>
                    </a:lnTo>
                    <a:lnTo>
                      <a:pt x="85" y="166"/>
                    </a:lnTo>
                    <a:lnTo>
                      <a:pt x="96" y="182"/>
                    </a:lnTo>
                    <a:lnTo>
                      <a:pt x="108" y="197"/>
                    </a:lnTo>
                    <a:lnTo>
                      <a:pt x="121" y="211"/>
                    </a:lnTo>
                    <a:lnTo>
                      <a:pt x="133" y="223"/>
                    </a:lnTo>
                    <a:lnTo>
                      <a:pt x="141" y="230"/>
                    </a:lnTo>
                    <a:lnTo>
                      <a:pt x="152" y="236"/>
                    </a:lnTo>
                    <a:lnTo>
                      <a:pt x="161" y="242"/>
                    </a:lnTo>
                    <a:lnTo>
                      <a:pt x="171" y="249"/>
                    </a:lnTo>
                    <a:lnTo>
                      <a:pt x="180" y="255"/>
                    </a:lnTo>
                    <a:lnTo>
                      <a:pt x="189" y="263"/>
                    </a:lnTo>
                    <a:lnTo>
                      <a:pt x="195" y="272"/>
                    </a:lnTo>
                    <a:lnTo>
                      <a:pt x="201" y="282"/>
                    </a:lnTo>
                    <a:lnTo>
                      <a:pt x="197" y="288"/>
                    </a:lnTo>
                    <a:lnTo>
                      <a:pt x="191" y="292"/>
                    </a:lnTo>
                    <a:lnTo>
                      <a:pt x="187" y="296"/>
                    </a:lnTo>
                    <a:lnTo>
                      <a:pt x="182" y="299"/>
                    </a:lnTo>
                    <a:lnTo>
                      <a:pt x="176" y="301"/>
                    </a:lnTo>
                    <a:lnTo>
                      <a:pt x="171" y="303"/>
                    </a:lnTo>
                    <a:lnTo>
                      <a:pt x="165" y="303"/>
                    </a:lnTo>
                    <a:lnTo>
                      <a:pt x="159" y="301"/>
                    </a:lnTo>
                    <a:lnTo>
                      <a:pt x="153" y="299"/>
                    </a:lnTo>
                    <a:lnTo>
                      <a:pt x="149" y="295"/>
                    </a:lnTo>
                    <a:lnTo>
                      <a:pt x="145" y="291"/>
                    </a:lnTo>
                    <a:lnTo>
                      <a:pt x="140" y="285"/>
                    </a:lnTo>
                    <a:lnTo>
                      <a:pt x="136" y="281"/>
                    </a:lnTo>
                    <a:lnTo>
                      <a:pt x="130" y="278"/>
                    </a:lnTo>
                    <a:lnTo>
                      <a:pt x="123" y="277"/>
                    </a:lnTo>
                    <a:lnTo>
                      <a:pt x="117" y="278"/>
                    </a:lnTo>
                    <a:lnTo>
                      <a:pt x="106" y="291"/>
                    </a:lnTo>
                    <a:lnTo>
                      <a:pt x="96" y="303"/>
                    </a:lnTo>
                    <a:lnTo>
                      <a:pt x="89" y="316"/>
                    </a:lnTo>
                    <a:lnTo>
                      <a:pt x="87" y="331"/>
                    </a:lnTo>
                    <a:lnTo>
                      <a:pt x="98" y="339"/>
                    </a:lnTo>
                    <a:lnTo>
                      <a:pt x="85" y="338"/>
                    </a:lnTo>
                    <a:lnTo>
                      <a:pt x="76" y="333"/>
                    </a:lnTo>
                    <a:lnTo>
                      <a:pt x="69" y="325"/>
                    </a:lnTo>
                    <a:lnTo>
                      <a:pt x="62" y="316"/>
                    </a:lnTo>
                    <a:lnTo>
                      <a:pt x="57" y="308"/>
                    </a:lnTo>
                    <a:lnTo>
                      <a:pt x="50" y="304"/>
                    </a:lnTo>
                    <a:lnTo>
                      <a:pt x="41" y="301"/>
                    </a:lnTo>
                    <a:lnTo>
                      <a:pt x="27" y="306"/>
                    </a:lnTo>
                    <a:lnTo>
                      <a:pt x="11" y="288"/>
                    </a:lnTo>
                    <a:lnTo>
                      <a:pt x="3" y="269"/>
                    </a:lnTo>
                    <a:lnTo>
                      <a:pt x="0" y="250"/>
                    </a:lnTo>
                    <a:lnTo>
                      <a:pt x="1" y="230"/>
                    </a:lnTo>
                    <a:lnTo>
                      <a:pt x="5" y="209"/>
                    </a:lnTo>
                    <a:lnTo>
                      <a:pt x="11" y="187"/>
                    </a:lnTo>
                    <a:lnTo>
                      <a:pt x="18" y="167"/>
                    </a:lnTo>
                    <a:lnTo>
                      <a:pt x="22" y="147"/>
                    </a:lnTo>
                    <a:lnTo>
                      <a:pt x="19" y="144"/>
                    </a:lnTo>
                    <a:lnTo>
                      <a:pt x="15" y="144"/>
                    </a:lnTo>
                    <a:lnTo>
                      <a:pt x="8" y="144"/>
                    </a:lnTo>
                    <a:lnTo>
                      <a:pt x="3" y="144"/>
                    </a:lnTo>
                    <a:lnTo>
                      <a:pt x="4" y="124"/>
                    </a:lnTo>
                    <a:lnTo>
                      <a:pt x="7" y="103"/>
                    </a:lnTo>
                    <a:lnTo>
                      <a:pt x="12" y="86"/>
                    </a:lnTo>
                    <a:lnTo>
                      <a:pt x="20" y="67"/>
                    </a:lnTo>
                    <a:lnTo>
                      <a:pt x="28" y="49"/>
                    </a:lnTo>
                    <a:lnTo>
                      <a:pt x="38" y="33"/>
                    </a:lnTo>
                    <a:lnTo>
                      <a:pt x="49" y="16"/>
                    </a:lnTo>
                    <a:lnTo>
                      <a:pt x="60" y="0"/>
                    </a:lnTo>
                    <a:lnTo>
                      <a:pt x="73" y="7"/>
                    </a:lnTo>
                    <a:lnTo>
                      <a:pt x="87" y="12"/>
                    </a:lnTo>
                    <a:lnTo>
                      <a:pt x="100" y="16"/>
                    </a:lnTo>
                    <a:lnTo>
                      <a:pt x="114" y="19"/>
                    </a:lnTo>
                    <a:lnTo>
                      <a:pt x="129" y="22"/>
                    </a:lnTo>
                    <a:lnTo>
                      <a:pt x="142" y="23"/>
                    </a:lnTo>
                    <a:lnTo>
                      <a:pt x="157" y="26"/>
                    </a:lnTo>
                    <a:lnTo>
                      <a:pt x="171" y="3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flipH="1">
                <a:off x="5182560" y="5802480"/>
                <a:ext cx="30600" cy="20520"/>
              </a:xfrm>
              <a:custGeom>
                <a:avLst/>
                <a:gdLst/>
                <a:ahLst/>
                <a:rect l="l" t="t" r="r" b="b"/>
                <a:pathLst>
                  <a:path w="52" h="39">
                    <a:moveTo>
                      <a:pt x="52" y="38"/>
                    </a:moveTo>
                    <a:lnTo>
                      <a:pt x="43" y="39"/>
                    </a:lnTo>
                    <a:lnTo>
                      <a:pt x="38" y="37"/>
                    </a:lnTo>
                    <a:lnTo>
                      <a:pt x="31" y="31"/>
                    </a:lnTo>
                    <a:lnTo>
                      <a:pt x="26" y="24"/>
                    </a:lnTo>
                    <a:lnTo>
                      <a:pt x="20" y="18"/>
                    </a:lnTo>
                    <a:lnTo>
                      <a:pt x="14" y="11"/>
                    </a:lnTo>
                    <a:lnTo>
                      <a:pt x="8" y="4"/>
                    </a:lnTo>
                    <a:lnTo>
                      <a:pt x="0" y="0"/>
                    </a:lnTo>
                    <a:lnTo>
                      <a:pt x="7" y="5"/>
                    </a:lnTo>
                    <a:lnTo>
                      <a:pt x="14" y="9"/>
                    </a:lnTo>
                    <a:lnTo>
                      <a:pt x="20" y="12"/>
                    </a:lnTo>
                    <a:lnTo>
                      <a:pt x="27" y="16"/>
                    </a:lnTo>
                    <a:lnTo>
                      <a:pt x="34" y="20"/>
                    </a:lnTo>
                    <a:lnTo>
                      <a:pt x="41" y="24"/>
                    </a:lnTo>
                    <a:lnTo>
                      <a:pt x="46" y="31"/>
                    </a:lnTo>
                    <a:lnTo>
                      <a:pt x="52" y="3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H="1">
                <a:off x="5183640" y="5819760"/>
                <a:ext cx="60120" cy="65160"/>
              </a:xfrm>
              <a:custGeom>
                <a:avLst/>
                <a:gdLst/>
                <a:ahLst/>
                <a:rect l="l" t="t" r="r" b="b"/>
                <a:pathLst>
                  <a:path w="98" h="124">
                    <a:moveTo>
                      <a:pt x="87" y="109"/>
                    </a:moveTo>
                    <a:lnTo>
                      <a:pt x="76" y="120"/>
                    </a:lnTo>
                    <a:lnTo>
                      <a:pt x="65" y="124"/>
                    </a:lnTo>
                    <a:lnTo>
                      <a:pt x="54" y="122"/>
                    </a:lnTo>
                    <a:lnTo>
                      <a:pt x="44" y="118"/>
                    </a:lnTo>
                    <a:lnTo>
                      <a:pt x="33" y="113"/>
                    </a:lnTo>
                    <a:lnTo>
                      <a:pt x="22" y="106"/>
                    </a:lnTo>
                    <a:lnTo>
                      <a:pt x="11" y="99"/>
                    </a:lnTo>
                    <a:lnTo>
                      <a:pt x="0" y="95"/>
                    </a:lnTo>
                    <a:lnTo>
                      <a:pt x="12" y="78"/>
                    </a:lnTo>
                    <a:lnTo>
                      <a:pt x="23" y="53"/>
                    </a:lnTo>
                    <a:lnTo>
                      <a:pt x="33" y="27"/>
                    </a:lnTo>
                    <a:lnTo>
                      <a:pt x="38" y="0"/>
                    </a:lnTo>
                    <a:lnTo>
                      <a:pt x="48" y="12"/>
                    </a:lnTo>
                    <a:lnTo>
                      <a:pt x="60" y="25"/>
                    </a:lnTo>
                    <a:lnTo>
                      <a:pt x="72" y="37"/>
                    </a:lnTo>
                    <a:lnTo>
                      <a:pt x="84" y="50"/>
                    </a:lnTo>
                    <a:lnTo>
                      <a:pt x="92" y="64"/>
                    </a:lnTo>
                    <a:lnTo>
                      <a:pt x="98" y="78"/>
                    </a:lnTo>
                    <a:lnTo>
                      <a:pt x="96" y="92"/>
                    </a:lnTo>
                    <a:lnTo>
                      <a:pt x="87" y="10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flipH="1">
                <a:off x="5045760" y="5832360"/>
                <a:ext cx="234360" cy="257400"/>
              </a:xfrm>
              <a:custGeom>
                <a:avLst/>
                <a:gdLst/>
                <a:ahLst/>
                <a:rect l="l" t="t" r="r" b="b"/>
                <a:pathLst>
                  <a:path w="389" h="484">
                    <a:moveTo>
                      <a:pt x="389" y="267"/>
                    </a:moveTo>
                    <a:lnTo>
                      <a:pt x="378" y="297"/>
                    </a:lnTo>
                    <a:lnTo>
                      <a:pt x="365" y="328"/>
                    </a:lnTo>
                    <a:lnTo>
                      <a:pt x="348" y="360"/>
                    </a:lnTo>
                    <a:lnTo>
                      <a:pt x="329" y="388"/>
                    </a:lnTo>
                    <a:lnTo>
                      <a:pt x="308" y="417"/>
                    </a:lnTo>
                    <a:lnTo>
                      <a:pt x="285" y="442"/>
                    </a:lnTo>
                    <a:lnTo>
                      <a:pt x="259" y="465"/>
                    </a:lnTo>
                    <a:lnTo>
                      <a:pt x="232" y="484"/>
                    </a:lnTo>
                    <a:lnTo>
                      <a:pt x="205" y="483"/>
                    </a:lnTo>
                    <a:lnTo>
                      <a:pt x="176" y="483"/>
                    </a:lnTo>
                    <a:lnTo>
                      <a:pt x="146" y="483"/>
                    </a:lnTo>
                    <a:lnTo>
                      <a:pt x="118" y="482"/>
                    </a:lnTo>
                    <a:lnTo>
                      <a:pt x="89" y="478"/>
                    </a:lnTo>
                    <a:lnTo>
                      <a:pt x="65" y="468"/>
                    </a:lnTo>
                    <a:lnTo>
                      <a:pt x="43" y="455"/>
                    </a:lnTo>
                    <a:lnTo>
                      <a:pt x="27" y="433"/>
                    </a:lnTo>
                    <a:lnTo>
                      <a:pt x="7" y="349"/>
                    </a:lnTo>
                    <a:lnTo>
                      <a:pt x="0" y="256"/>
                    </a:lnTo>
                    <a:lnTo>
                      <a:pt x="4" y="163"/>
                    </a:lnTo>
                    <a:lnTo>
                      <a:pt x="16" y="75"/>
                    </a:lnTo>
                    <a:lnTo>
                      <a:pt x="32" y="96"/>
                    </a:lnTo>
                    <a:lnTo>
                      <a:pt x="47" y="119"/>
                    </a:lnTo>
                    <a:lnTo>
                      <a:pt x="63" y="145"/>
                    </a:lnTo>
                    <a:lnTo>
                      <a:pt x="81" y="168"/>
                    </a:lnTo>
                    <a:lnTo>
                      <a:pt x="100" y="190"/>
                    </a:lnTo>
                    <a:lnTo>
                      <a:pt x="122" y="206"/>
                    </a:lnTo>
                    <a:lnTo>
                      <a:pt x="148" y="217"/>
                    </a:lnTo>
                    <a:lnTo>
                      <a:pt x="176" y="218"/>
                    </a:lnTo>
                    <a:lnTo>
                      <a:pt x="191" y="195"/>
                    </a:lnTo>
                    <a:lnTo>
                      <a:pt x="200" y="170"/>
                    </a:lnTo>
                    <a:lnTo>
                      <a:pt x="207" y="142"/>
                    </a:lnTo>
                    <a:lnTo>
                      <a:pt x="209" y="114"/>
                    </a:lnTo>
                    <a:lnTo>
                      <a:pt x="207" y="87"/>
                    </a:lnTo>
                    <a:lnTo>
                      <a:pt x="202" y="58"/>
                    </a:lnTo>
                    <a:lnTo>
                      <a:pt x="192" y="33"/>
                    </a:lnTo>
                    <a:lnTo>
                      <a:pt x="179" y="7"/>
                    </a:lnTo>
                    <a:lnTo>
                      <a:pt x="176" y="0"/>
                    </a:lnTo>
                    <a:lnTo>
                      <a:pt x="205" y="31"/>
                    </a:lnTo>
                    <a:lnTo>
                      <a:pt x="234" y="62"/>
                    </a:lnTo>
                    <a:lnTo>
                      <a:pt x="264" y="95"/>
                    </a:lnTo>
                    <a:lnTo>
                      <a:pt x="294" y="128"/>
                    </a:lnTo>
                    <a:lnTo>
                      <a:pt x="321" y="160"/>
                    </a:lnTo>
                    <a:lnTo>
                      <a:pt x="347" y="194"/>
                    </a:lnTo>
                    <a:lnTo>
                      <a:pt x="370" y="231"/>
                    </a:lnTo>
                    <a:lnTo>
                      <a:pt x="389" y="26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flipH="1">
                <a:off x="5615280" y="5851440"/>
                <a:ext cx="23760" cy="9720"/>
              </a:xfrm>
              <a:custGeom>
                <a:avLst/>
                <a:gdLst/>
                <a:ahLst/>
                <a:rect l="l" t="t" r="r" b="b"/>
                <a:pathLst>
                  <a:path w="38" h="19">
                    <a:moveTo>
                      <a:pt x="38" y="8"/>
                    </a:moveTo>
                    <a:lnTo>
                      <a:pt x="32" y="12"/>
                    </a:lnTo>
                    <a:lnTo>
                      <a:pt x="24" y="15"/>
                    </a:lnTo>
                    <a:lnTo>
                      <a:pt x="16" y="16"/>
                    </a:lnTo>
                    <a:lnTo>
                      <a:pt x="8" y="19"/>
                    </a:lnTo>
                    <a:lnTo>
                      <a:pt x="5" y="16"/>
                    </a:lnTo>
                    <a:lnTo>
                      <a:pt x="1" y="12"/>
                    </a:lnTo>
                    <a:lnTo>
                      <a:pt x="0" y="8"/>
                    </a:lnTo>
                    <a:lnTo>
                      <a:pt x="1" y="3"/>
                    </a:lnTo>
                    <a:lnTo>
                      <a:pt x="11" y="0"/>
                    </a:lnTo>
                    <a:lnTo>
                      <a:pt x="20" y="1"/>
                    </a:lnTo>
                    <a:lnTo>
                      <a:pt x="28" y="5"/>
                    </a:lnTo>
                    <a:lnTo>
                      <a:pt x="38" y="8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flipH="1">
                <a:off x="5587920" y="5872320"/>
                <a:ext cx="36000" cy="29880"/>
              </a:xfrm>
              <a:custGeom>
                <a:avLst/>
                <a:gdLst/>
                <a:ahLst/>
                <a:rect l="l" t="t" r="r" b="b"/>
                <a:pathLst>
                  <a:path w="59" h="57">
                    <a:moveTo>
                      <a:pt x="55" y="27"/>
                    </a:moveTo>
                    <a:lnTo>
                      <a:pt x="59" y="35"/>
                    </a:lnTo>
                    <a:lnTo>
                      <a:pt x="59" y="43"/>
                    </a:lnTo>
                    <a:lnTo>
                      <a:pt x="55" y="51"/>
                    </a:lnTo>
                    <a:lnTo>
                      <a:pt x="51" y="57"/>
                    </a:lnTo>
                    <a:lnTo>
                      <a:pt x="45" y="54"/>
                    </a:lnTo>
                    <a:lnTo>
                      <a:pt x="37" y="50"/>
                    </a:lnTo>
                    <a:lnTo>
                      <a:pt x="28" y="43"/>
                    </a:lnTo>
                    <a:lnTo>
                      <a:pt x="18" y="36"/>
                    </a:lnTo>
                    <a:lnTo>
                      <a:pt x="10" y="28"/>
                    </a:lnTo>
                    <a:lnTo>
                      <a:pt x="5" y="20"/>
                    </a:lnTo>
                    <a:lnTo>
                      <a:pt x="0" y="10"/>
                    </a:lnTo>
                    <a:lnTo>
                      <a:pt x="2" y="0"/>
                    </a:lnTo>
                    <a:lnTo>
                      <a:pt x="9" y="1"/>
                    </a:lnTo>
                    <a:lnTo>
                      <a:pt x="17" y="2"/>
                    </a:lnTo>
                    <a:lnTo>
                      <a:pt x="25" y="5"/>
                    </a:lnTo>
                    <a:lnTo>
                      <a:pt x="32" y="8"/>
                    </a:lnTo>
                    <a:lnTo>
                      <a:pt x="38" y="10"/>
                    </a:lnTo>
                    <a:lnTo>
                      <a:pt x="45" y="15"/>
                    </a:lnTo>
                    <a:lnTo>
                      <a:pt x="51" y="20"/>
                    </a:lnTo>
                    <a:lnTo>
                      <a:pt x="55" y="2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flipH="1">
                <a:off x="5169600" y="5875200"/>
                <a:ext cx="65520" cy="60480"/>
              </a:xfrm>
              <a:custGeom>
                <a:avLst/>
                <a:gdLst/>
                <a:ahLst/>
                <a:rect l="l" t="t" r="r" b="b"/>
                <a:pathLst>
                  <a:path w="107" h="113">
                    <a:moveTo>
                      <a:pt x="84" y="113"/>
                    </a:moveTo>
                    <a:lnTo>
                      <a:pt x="70" y="107"/>
                    </a:lnTo>
                    <a:lnTo>
                      <a:pt x="57" y="99"/>
                    </a:lnTo>
                    <a:lnTo>
                      <a:pt x="44" y="91"/>
                    </a:lnTo>
                    <a:lnTo>
                      <a:pt x="32" y="80"/>
                    </a:lnTo>
                    <a:lnTo>
                      <a:pt x="21" y="68"/>
                    </a:lnTo>
                    <a:lnTo>
                      <a:pt x="12" y="56"/>
                    </a:lnTo>
                    <a:lnTo>
                      <a:pt x="5" y="43"/>
                    </a:lnTo>
                    <a:lnTo>
                      <a:pt x="0" y="30"/>
                    </a:lnTo>
                    <a:lnTo>
                      <a:pt x="9" y="33"/>
                    </a:lnTo>
                    <a:lnTo>
                      <a:pt x="17" y="35"/>
                    </a:lnTo>
                    <a:lnTo>
                      <a:pt x="27" y="38"/>
                    </a:lnTo>
                    <a:lnTo>
                      <a:pt x="35" y="42"/>
                    </a:lnTo>
                    <a:lnTo>
                      <a:pt x="43" y="45"/>
                    </a:lnTo>
                    <a:lnTo>
                      <a:pt x="51" y="46"/>
                    </a:lnTo>
                    <a:lnTo>
                      <a:pt x="59" y="48"/>
                    </a:lnTo>
                    <a:lnTo>
                      <a:pt x="68" y="46"/>
                    </a:lnTo>
                    <a:lnTo>
                      <a:pt x="103" y="0"/>
                    </a:lnTo>
                    <a:lnTo>
                      <a:pt x="107" y="31"/>
                    </a:lnTo>
                    <a:lnTo>
                      <a:pt x="104" y="60"/>
                    </a:lnTo>
                    <a:lnTo>
                      <a:pt x="97" y="87"/>
                    </a:lnTo>
                    <a:lnTo>
                      <a:pt x="84" y="113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flipH="1">
                <a:off x="5266440" y="5886360"/>
                <a:ext cx="437760" cy="403200"/>
              </a:xfrm>
              <a:custGeom>
                <a:avLst/>
                <a:gdLst/>
                <a:ahLst/>
                <a:rect l="l" t="t" r="r" b="b"/>
                <a:pathLst>
                  <a:path w="723" h="761">
                    <a:moveTo>
                      <a:pt x="679" y="0"/>
                    </a:moveTo>
                    <a:lnTo>
                      <a:pt x="670" y="77"/>
                    </a:lnTo>
                    <a:lnTo>
                      <a:pt x="671" y="152"/>
                    </a:lnTo>
                    <a:lnTo>
                      <a:pt x="678" y="222"/>
                    </a:lnTo>
                    <a:lnTo>
                      <a:pt x="689" y="292"/>
                    </a:lnTo>
                    <a:lnTo>
                      <a:pt x="701" y="361"/>
                    </a:lnTo>
                    <a:lnTo>
                      <a:pt x="712" y="431"/>
                    </a:lnTo>
                    <a:lnTo>
                      <a:pt x="716" y="505"/>
                    </a:lnTo>
                    <a:lnTo>
                      <a:pt x="713" y="582"/>
                    </a:lnTo>
                    <a:lnTo>
                      <a:pt x="718" y="601"/>
                    </a:lnTo>
                    <a:lnTo>
                      <a:pt x="721" y="620"/>
                    </a:lnTo>
                    <a:lnTo>
                      <a:pt x="723" y="639"/>
                    </a:lnTo>
                    <a:lnTo>
                      <a:pt x="721" y="658"/>
                    </a:lnTo>
                    <a:lnTo>
                      <a:pt x="714" y="662"/>
                    </a:lnTo>
                    <a:lnTo>
                      <a:pt x="709" y="666"/>
                    </a:lnTo>
                    <a:lnTo>
                      <a:pt x="704" y="671"/>
                    </a:lnTo>
                    <a:lnTo>
                      <a:pt x="698" y="676"/>
                    </a:lnTo>
                    <a:lnTo>
                      <a:pt x="691" y="680"/>
                    </a:lnTo>
                    <a:lnTo>
                      <a:pt x="686" y="682"/>
                    </a:lnTo>
                    <a:lnTo>
                      <a:pt x="679" y="685"/>
                    </a:lnTo>
                    <a:lnTo>
                      <a:pt x="671" y="685"/>
                    </a:lnTo>
                    <a:lnTo>
                      <a:pt x="666" y="644"/>
                    </a:lnTo>
                    <a:lnTo>
                      <a:pt x="659" y="604"/>
                    </a:lnTo>
                    <a:lnTo>
                      <a:pt x="656" y="563"/>
                    </a:lnTo>
                    <a:lnTo>
                      <a:pt x="660" y="521"/>
                    </a:lnTo>
                    <a:lnTo>
                      <a:pt x="656" y="518"/>
                    </a:lnTo>
                    <a:lnTo>
                      <a:pt x="651" y="517"/>
                    </a:lnTo>
                    <a:lnTo>
                      <a:pt x="645" y="518"/>
                    </a:lnTo>
                    <a:lnTo>
                      <a:pt x="641" y="518"/>
                    </a:lnTo>
                    <a:lnTo>
                      <a:pt x="634" y="552"/>
                    </a:lnTo>
                    <a:lnTo>
                      <a:pt x="633" y="589"/>
                    </a:lnTo>
                    <a:lnTo>
                      <a:pt x="634" y="627"/>
                    </a:lnTo>
                    <a:lnTo>
                      <a:pt x="637" y="666"/>
                    </a:lnTo>
                    <a:lnTo>
                      <a:pt x="642" y="680"/>
                    </a:lnTo>
                    <a:lnTo>
                      <a:pt x="644" y="692"/>
                    </a:lnTo>
                    <a:lnTo>
                      <a:pt x="641" y="703"/>
                    </a:lnTo>
                    <a:lnTo>
                      <a:pt x="638" y="712"/>
                    </a:lnTo>
                    <a:lnTo>
                      <a:pt x="632" y="720"/>
                    </a:lnTo>
                    <a:lnTo>
                      <a:pt x="625" y="730"/>
                    </a:lnTo>
                    <a:lnTo>
                      <a:pt x="617" y="738"/>
                    </a:lnTo>
                    <a:lnTo>
                      <a:pt x="607" y="747"/>
                    </a:lnTo>
                    <a:lnTo>
                      <a:pt x="592" y="750"/>
                    </a:lnTo>
                    <a:lnTo>
                      <a:pt x="577" y="753"/>
                    </a:lnTo>
                    <a:lnTo>
                      <a:pt x="561" y="756"/>
                    </a:lnTo>
                    <a:lnTo>
                      <a:pt x="545" y="758"/>
                    </a:lnTo>
                    <a:lnTo>
                      <a:pt x="530" y="760"/>
                    </a:lnTo>
                    <a:lnTo>
                      <a:pt x="514" y="760"/>
                    </a:lnTo>
                    <a:lnTo>
                      <a:pt x="497" y="761"/>
                    </a:lnTo>
                    <a:lnTo>
                      <a:pt x="481" y="761"/>
                    </a:lnTo>
                    <a:lnTo>
                      <a:pt x="463" y="761"/>
                    </a:lnTo>
                    <a:lnTo>
                      <a:pt x="447" y="761"/>
                    </a:lnTo>
                    <a:lnTo>
                      <a:pt x="431" y="760"/>
                    </a:lnTo>
                    <a:lnTo>
                      <a:pt x="416" y="758"/>
                    </a:lnTo>
                    <a:lnTo>
                      <a:pt x="400" y="757"/>
                    </a:lnTo>
                    <a:lnTo>
                      <a:pt x="383" y="756"/>
                    </a:lnTo>
                    <a:lnTo>
                      <a:pt x="368" y="754"/>
                    </a:lnTo>
                    <a:lnTo>
                      <a:pt x="354" y="753"/>
                    </a:lnTo>
                    <a:lnTo>
                      <a:pt x="332" y="746"/>
                    </a:lnTo>
                    <a:lnTo>
                      <a:pt x="310" y="738"/>
                    </a:lnTo>
                    <a:lnTo>
                      <a:pt x="288" y="730"/>
                    </a:lnTo>
                    <a:lnTo>
                      <a:pt x="267" y="722"/>
                    </a:lnTo>
                    <a:lnTo>
                      <a:pt x="246" y="714"/>
                    </a:lnTo>
                    <a:lnTo>
                      <a:pt x="225" y="704"/>
                    </a:lnTo>
                    <a:lnTo>
                      <a:pt x="204" y="695"/>
                    </a:lnTo>
                    <a:lnTo>
                      <a:pt x="184" y="684"/>
                    </a:lnTo>
                    <a:lnTo>
                      <a:pt x="164" y="673"/>
                    </a:lnTo>
                    <a:lnTo>
                      <a:pt x="143" y="662"/>
                    </a:lnTo>
                    <a:lnTo>
                      <a:pt x="124" y="650"/>
                    </a:lnTo>
                    <a:lnTo>
                      <a:pt x="105" y="638"/>
                    </a:lnTo>
                    <a:lnTo>
                      <a:pt x="86" y="624"/>
                    </a:lnTo>
                    <a:lnTo>
                      <a:pt x="69" y="609"/>
                    </a:lnTo>
                    <a:lnTo>
                      <a:pt x="51" y="594"/>
                    </a:lnTo>
                    <a:lnTo>
                      <a:pt x="35" y="578"/>
                    </a:lnTo>
                    <a:lnTo>
                      <a:pt x="33" y="566"/>
                    </a:lnTo>
                    <a:lnTo>
                      <a:pt x="27" y="555"/>
                    </a:lnTo>
                    <a:lnTo>
                      <a:pt x="19" y="548"/>
                    </a:lnTo>
                    <a:lnTo>
                      <a:pt x="10" y="540"/>
                    </a:lnTo>
                    <a:lnTo>
                      <a:pt x="4" y="533"/>
                    </a:lnTo>
                    <a:lnTo>
                      <a:pt x="0" y="524"/>
                    </a:lnTo>
                    <a:lnTo>
                      <a:pt x="0" y="513"/>
                    </a:lnTo>
                    <a:lnTo>
                      <a:pt x="5" y="499"/>
                    </a:lnTo>
                    <a:lnTo>
                      <a:pt x="24" y="456"/>
                    </a:lnTo>
                    <a:lnTo>
                      <a:pt x="46" y="414"/>
                    </a:lnTo>
                    <a:lnTo>
                      <a:pt x="69" y="373"/>
                    </a:lnTo>
                    <a:lnTo>
                      <a:pt x="93" y="332"/>
                    </a:lnTo>
                    <a:lnTo>
                      <a:pt x="119" y="292"/>
                    </a:lnTo>
                    <a:lnTo>
                      <a:pt x="143" y="251"/>
                    </a:lnTo>
                    <a:lnTo>
                      <a:pt x="168" y="210"/>
                    </a:lnTo>
                    <a:lnTo>
                      <a:pt x="191" y="169"/>
                    </a:lnTo>
                    <a:lnTo>
                      <a:pt x="200" y="171"/>
                    </a:lnTo>
                    <a:lnTo>
                      <a:pt x="210" y="168"/>
                    </a:lnTo>
                    <a:lnTo>
                      <a:pt x="217" y="163"/>
                    </a:lnTo>
                    <a:lnTo>
                      <a:pt x="223" y="154"/>
                    </a:lnTo>
                    <a:lnTo>
                      <a:pt x="230" y="145"/>
                    </a:lnTo>
                    <a:lnTo>
                      <a:pt x="237" y="135"/>
                    </a:lnTo>
                    <a:lnTo>
                      <a:pt x="244" y="127"/>
                    </a:lnTo>
                    <a:lnTo>
                      <a:pt x="250" y="121"/>
                    </a:lnTo>
                    <a:lnTo>
                      <a:pt x="252" y="114"/>
                    </a:lnTo>
                    <a:lnTo>
                      <a:pt x="255" y="107"/>
                    </a:lnTo>
                    <a:lnTo>
                      <a:pt x="255" y="99"/>
                    </a:lnTo>
                    <a:lnTo>
                      <a:pt x="248" y="93"/>
                    </a:lnTo>
                    <a:lnTo>
                      <a:pt x="253" y="85"/>
                    </a:lnTo>
                    <a:lnTo>
                      <a:pt x="257" y="77"/>
                    </a:lnTo>
                    <a:lnTo>
                      <a:pt x="263" y="69"/>
                    </a:lnTo>
                    <a:lnTo>
                      <a:pt x="269" y="59"/>
                    </a:lnTo>
                    <a:lnTo>
                      <a:pt x="275" y="51"/>
                    </a:lnTo>
                    <a:lnTo>
                      <a:pt x="282" y="43"/>
                    </a:lnTo>
                    <a:lnTo>
                      <a:pt x="290" y="36"/>
                    </a:lnTo>
                    <a:lnTo>
                      <a:pt x="297" y="30"/>
                    </a:lnTo>
                    <a:lnTo>
                      <a:pt x="298" y="28"/>
                    </a:lnTo>
                    <a:lnTo>
                      <a:pt x="302" y="27"/>
                    </a:lnTo>
                    <a:lnTo>
                      <a:pt x="305" y="27"/>
                    </a:lnTo>
                    <a:lnTo>
                      <a:pt x="307" y="27"/>
                    </a:lnTo>
                    <a:lnTo>
                      <a:pt x="312" y="38"/>
                    </a:lnTo>
                    <a:lnTo>
                      <a:pt x="318" y="46"/>
                    </a:lnTo>
                    <a:lnTo>
                      <a:pt x="326" y="53"/>
                    </a:lnTo>
                    <a:lnTo>
                      <a:pt x="336" y="58"/>
                    </a:lnTo>
                    <a:lnTo>
                      <a:pt x="347" y="64"/>
                    </a:lnTo>
                    <a:lnTo>
                      <a:pt x="359" y="66"/>
                    </a:lnTo>
                    <a:lnTo>
                      <a:pt x="370" y="69"/>
                    </a:lnTo>
                    <a:lnTo>
                      <a:pt x="381" y="72"/>
                    </a:lnTo>
                    <a:lnTo>
                      <a:pt x="400" y="80"/>
                    </a:lnTo>
                    <a:lnTo>
                      <a:pt x="419" y="81"/>
                    </a:lnTo>
                    <a:lnTo>
                      <a:pt x="438" y="78"/>
                    </a:lnTo>
                    <a:lnTo>
                      <a:pt x="455" y="74"/>
                    </a:lnTo>
                    <a:lnTo>
                      <a:pt x="474" y="69"/>
                    </a:lnTo>
                    <a:lnTo>
                      <a:pt x="493" y="66"/>
                    </a:lnTo>
                    <a:lnTo>
                      <a:pt x="512" y="68"/>
                    </a:lnTo>
                    <a:lnTo>
                      <a:pt x="531" y="74"/>
                    </a:lnTo>
                    <a:lnTo>
                      <a:pt x="550" y="73"/>
                    </a:lnTo>
                    <a:lnTo>
                      <a:pt x="569" y="70"/>
                    </a:lnTo>
                    <a:lnTo>
                      <a:pt x="587" y="65"/>
                    </a:lnTo>
                    <a:lnTo>
                      <a:pt x="603" y="58"/>
                    </a:lnTo>
                    <a:lnTo>
                      <a:pt x="619" y="50"/>
                    </a:lnTo>
                    <a:lnTo>
                      <a:pt x="634" y="39"/>
                    </a:lnTo>
                    <a:lnTo>
                      <a:pt x="648" y="28"/>
                    </a:lnTo>
                    <a:lnTo>
                      <a:pt x="660" y="16"/>
                    </a:lnTo>
                    <a:lnTo>
                      <a:pt x="659" y="7"/>
                    </a:lnTo>
                    <a:lnTo>
                      <a:pt x="664" y="1"/>
                    </a:lnTo>
                    <a:lnTo>
                      <a:pt x="671" y="0"/>
                    </a:lnTo>
                    <a:lnTo>
                      <a:pt x="679" y="0"/>
                    </a:lnTo>
                    <a:close/>
                  </a:path>
                </a:pathLst>
              </a:custGeom>
              <a:solidFill>
                <a:srgbClr val="dd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flipH="1">
                <a:off x="5828040" y="5897520"/>
                <a:ext cx="228960" cy="212760"/>
              </a:xfrm>
              <a:custGeom>
                <a:avLst/>
                <a:gdLst/>
                <a:ahLst/>
                <a:rect l="l" t="t" r="r" b="b"/>
                <a:pathLst>
                  <a:path w="378" h="404">
                    <a:moveTo>
                      <a:pt x="378" y="19"/>
                    </a:moveTo>
                    <a:lnTo>
                      <a:pt x="363" y="35"/>
                    </a:lnTo>
                    <a:lnTo>
                      <a:pt x="347" y="49"/>
                    </a:lnTo>
                    <a:lnTo>
                      <a:pt x="329" y="61"/>
                    </a:lnTo>
                    <a:lnTo>
                      <a:pt x="312" y="72"/>
                    </a:lnTo>
                    <a:lnTo>
                      <a:pt x="294" y="83"/>
                    </a:lnTo>
                    <a:lnTo>
                      <a:pt x="275" y="92"/>
                    </a:lnTo>
                    <a:lnTo>
                      <a:pt x="256" y="102"/>
                    </a:lnTo>
                    <a:lnTo>
                      <a:pt x="238" y="111"/>
                    </a:lnTo>
                    <a:lnTo>
                      <a:pt x="219" y="119"/>
                    </a:lnTo>
                    <a:lnTo>
                      <a:pt x="200" y="129"/>
                    </a:lnTo>
                    <a:lnTo>
                      <a:pt x="183" y="140"/>
                    </a:lnTo>
                    <a:lnTo>
                      <a:pt x="165" y="150"/>
                    </a:lnTo>
                    <a:lnTo>
                      <a:pt x="148" y="163"/>
                    </a:lnTo>
                    <a:lnTo>
                      <a:pt x="133" y="176"/>
                    </a:lnTo>
                    <a:lnTo>
                      <a:pt x="116" y="191"/>
                    </a:lnTo>
                    <a:lnTo>
                      <a:pt x="103" y="207"/>
                    </a:lnTo>
                    <a:lnTo>
                      <a:pt x="101" y="225"/>
                    </a:lnTo>
                    <a:lnTo>
                      <a:pt x="97" y="244"/>
                    </a:lnTo>
                    <a:lnTo>
                      <a:pt x="95" y="262"/>
                    </a:lnTo>
                    <a:lnTo>
                      <a:pt x="92" y="279"/>
                    </a:lnTo>
                    <a:lnTo>
                      <a:pt x="93" y="296"/>
                    </a:lnTo>
                    <a:lnTo>
                      <a:pt x="97" y="311"/>
                    </a:lnTo>
                    <a:lnTo>
                      <a:pt x="107" y="325"/>
                    </a:lnTo>
                    <a:lnTo>
                      <a:pt x="122" y="339"/>
                    </a:lnTo>
                    <a:lnTo>
                      <a:pt x="114" y="340"/>
                    </a:lnTo>
                    <a:lnTo>
                      <a:pt x="105" y="343"/>
                    </a:lnTo>
                    <a:lnTo>
                      <a:pt x="96" y="344"/>
                    </a:lnTo>
                    <a:lnTo>
                      <a:pt x="88" y="347"/>
                    </a:lnTo>
                    <a:lnTo>
                      <a:pt x="80" y="350"/>
                    </a:lnTo>
                    <a:lnTo>
                      <a:pt x="70" y="355"/>
                    </a:lnTo>
                    <a:lnTo>
                      <a:pt x="63" y="361"/>
                    </a:lnTo>
                    <a:lnTo>
                      <a:pt x="57" y="369"/>
                    </a:lnTo>
                    <a:lnTo>
                      <a:pt x="54" y="401"/>
                    </a:lnTo>
                    <a:lnTo>
                      <a:pt x="47" y="404"/>
                    </a:lnTo>
                    <a:lnTo>
                      <a:pt x="40" y="403"/>
                    </a:lnTo>
                    <a:lnTo>
                      <a:pt x="34" y="400"/>
                    </a:lnTo>
                    <a:lnTo>
                      <a:pt x="27" y="395"/>
                    </a:lnTo>
                    <a:lnTo>
                      <a:pt x="21" y="388"/>
                    </a:lnTo>
                    <a:lnTo>
                      <a:pt x="16" y="381"/>
                    </a:lnTo>
                    <a:lnTo>
                      <a:pt x="12" y="374"/>
                    </a:lnTo>
                    <a:lnTo>
                      <a:pt x="8" y="369"/>
                    </a:lnTo>
                    <a:lnTo>
                      <a:pt x="0" y="347"/>
                    </a:lnTo>
                    <a:lnTo>
                      <a:pt x="2" y="328"/>
                    </a:lnTo>
                    <a:lnTo>
                      <a:pt x="12" y="312"/>
                    </a:lnTo>
                    <a:lnTo>
                      <a:pt x="25" y="297"/>
                    </a:lnTo>
                    <a:lnTo>
                      <a:pt x="38" y="282"/>
                    </a:lnTo>
                    <a:lnTo>
                      <a:pt x="44" y="267"/>
                    </a:lnTo>
                    <a:lnTo>
                      <a:pt x="42" y="251"/>
                    </a:lnTo>
                    <a:lnTo>
                      <a:pt x="27" y="233"/>
                    </a:lnTo>
                    <a:lnTo>
                      <a:pt x="23" y="217"/>
                    </a:lnTo>
                    <a:lnTo>
                      <a:pt x="21" y="199"/>
                    </a:lnTo>
                    <a:lnTo>
                      <a:pt x="23" y="183"/>
                    </a:lnTo>
                    <a:lnTo>
                      <a:pt x="27" y="167"/>
                    </a:lnTo>
                    <a:lnTo>
                      <a:pt x="32" y="152"/>
                    </a:lnTo>
                    <a:lnTo>
                      <a:pt x="39" y="137"/>
                    </a:lnTo>
                    <a:lnTo>
                      <a:pt x="47" y="122"/>
                    </a:lnTo>
                    <a:lnTo>
                      <a:pt x="57" y="108"/>
                    </a:lnTo>
                    <a:lnTo>
                      <a:pt x="73" y="92"/>
                    </a:lnTo>
                    <a:lnTo>
                      <a:pt x="89" y="77"/>
                    </a:lnTo>
                    <a:lnTo>
                      <a:pt x="107" y="62"/>
                    </a:lnTo>
                    <a:lnTo>
                      <a:pt x="126" y="50"/>
                    </a:lnTo>
                    <a:lnTo>
                      <a:pt x="145" y="38"/>
                    </a:lnTo>
                    <a:lnTo>
                      <a:pt x="164" y="28"/>
                    </a:lnTo>
                    <a:lnTo>
                      <a:pt x="184" y="19"/>
                    </a:lnTo>
                    <a:lnTo>
                      <a:pt x="204" y="12"/>
                    </a:lnTo>
                    <a:lnTo>
                      <a:pt x="226" y="7"/>
                    </a:lnTo>
                    <a:lnTo>
                      <a:pt x="247" y="2"/>
                    </a:lnTo>
                    <a:lnTo>
                      <a:pt x="268" y="0"/>
                    </a:lnTo>
                    <a:lnTo>
                      <a:pt x="290" y="0"/>
                    </a:lnTo>
                    <a:lnTo>
                      <a:pt x="312" y="1"/>
                    </a:lnTo>
                    <a:lnTo>
                      <a:pt x="335" y="5"/>
                    </a:lnTo>
                    <a:lnTo>
                      <a:pt x="356" y="11"/>
                    </a:lnTo>
                    <a:lnTo>
                      <a:pt x="378" y="19"/>
                    </a:lnTo>
                    <a:close/>
                  </a:path>
                </a:pathLst>
              </a:custGeom>
              <a:solidFill>
                <a:srgbClr val="4c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flipH="1">
                <a:off x="5330880" y="5899320"/>
                <a:ext cx="29160" cy="12600"/>
              </a:xfrm>
              <a:custGeom>
                <a:avLst/>
                <a:gdLst/>
                <a:ahLst/>
                <a:rect l="l" t="t" r="r" b="b"/>
                <a:pathLst>
                  <a:path w="47" h="23">
                    <a:moveTo>
                      <a:pt x="47" y="1"/>
                    </a:moveTo>
                    <a:lnTo>
                      <a:pt x="43" y="7"/>
                    </a:lnTo>
                    <a:lnTo>
                      <a:pt x="39" y="11"/>
                    </a:lnTo>
                    <a:lnTo>
                      <a:pt x="33" y="15"/>
                    </a:lnTo>
                    <a:lnTo>
                      <a:pt x="27" y="17"/>
                    </a:lnTo>
                    <a:lnTo>
                      <a:pt x="21" y="19"/>
                    </a:lnTo>
                    <a:lnTo>
                      <a:pt x="14" y="20"/>
                    </a:lnTo>
                    <a:lnTo>
                      <a:pt x="9" y="22"/>
                    </a:lnTo>
                    <a:lnTo>
                      <a:pt x="2" y="23"/>
                    </a:lnTo>
                    <a:lnTo>
                      <a:pt x="0" y="11"/>
                    </a:lnTo>
                    <a:lnTo>
                      <a:pt x="2" y="4"/>
                    </a:lnTo>
                    <a:lnTo>
                      <a:pt x="8" y="0"/>
                    </a:lnTo>
                    <a:lnTo>
                      <a:pt x="16" y="0"/>
                    </a:lnTo>
                    <a:lnTo>
                      <a:pt x="25" y="0"/>
                    </a:lnTo>
                    <a:lnTo>
                      <a:pt x="35" y="1"/>
                    </a:lnTo>
                    <a:lnTo>
                      <a:pt x="42" y="3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flipH="1">
                <a:off x="5375160" y="5902200"/>
                <a:ext cx="38160" cy="12960"/>
              </a:xfrm>
              <a:custGeom>
                <a:avLst/>
                <a:gdLst/>
                <a:ahLst/>
                <a:rect l="l" t="t" r="r" b="b"/>
                <a:pathLst>
                  <a:path w="65" h="24">
                    <a:moveTo>
                      <a:pt x="65" y="0"/>
                    </a:moveTo>
                    <a:lnTo>
                      <a:pt x="65" y="8"/>
                    </a:lnTo>
                    <a:lnTo>
                      <a:pt x="63" y="13"/>
                    </a:lnTo>
                    <a:lnTo>
                      <a:pt x="59" y="16"/>
                    </a:lnTo>
                    <a:lnTo>
                      <a:pt x="52" y="19"/>
                    </a:lnTo>
                    <a:lnTo>
                      <a:pt x="44" y="20"/>
                    </a:lnTo>
                    <a:lnTo>
                      <a:pt x="36" y="20"/>
                    </a:lnTo>
                    <a:lnTo>
                      <a:pt x="29" y="21"/>
                    </a:lnTo>
                    <a:lnTo>
                      <a:pt x="22" y="24"/>
                    </a:lnTo>
                    <a:lnTo>
                      <a:pt x="17" y="20"/>
                    </a:lnTo>
                    <a:lnTo>
                      <a:pt x="11" y="17"/>
                    </a:lnTo>
                    <a:lnTo>
                      <a:pt x="4" y="13"/>
                    </a:lnTo>
                    <a:lnTo>
                      <a:pt x="0" y="8"/>
                    </a:lnTo>
                    <a:lnTo>
                      <a:pt x="7" y="4"/>
                    </a:lnTo>
                    <a:lnTo>
                      <a:pt x="15" y="2"/>
                    </a:lnTo>
                    <a:lnTo>
                      <a:pt x="25" y="1"/>
                    </a:lnTo>
                    <a:lnTo>
                      <a:pt x="33" y="0"/>
                    </a:lnTo>
                    <a:lnTo>
                      <a:pt x="42" y="0"/>
                    </a:lnTo>
                    <a:lnTo>
                      <a:pt x="51" y="0"/>
                    </a:lnTo>
                    <a:lnTo>
                      <a:pt x="59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flipH="1">
                <a:off x="5426280" y="5902200"/>
                <a:ext cx="66960" cy="12960"/>
              </a:xfrm>
              <a:custGeom>
                <a:avLst/>
                <a:gdLst/>
                <a:ahLst/>
                <a:rect l="l" t="t" r="r" b="b"/>
                <a:pathLst>
                  <a:path w="111" h="24">
                    <a:moveTo>
                      <a:pt x="111" y="24"/>
                    </a:moveTo>
                    <a:lnTo>
                      <a:pt x="98" y="24"/>
                    </a:lnTo>
                    <a:lnTo>
                      <a:pt x="83" y="24"/>
                    </a:lnTo>
                    <a:lnTo>
                      <a:pt x="69" y="23"/>
                    </a:lnTo>
                    <a:lnTo>
                      <a:pt x="54" y="20"/>
                    </a:lnTo>
                    <a:lnTo>
                      <a:pt x="39" y="17"/>
                    </a:lnTo>
                    <a:lnTo>
                      <a:pt x="26" y="12"/>
                    </a:lnTo>
                    <a:lnTo>
                      <a:pt x="12" y="6"/>
                    </a:lnTo>
                    <a:lnTo>
                      <a:pt x="0" y="0"/>
                    </a:lnTo>
                    <a:lnTo>
                      <a:pt x="14" y="4"/>
                    </a:lnTo>
                    <a:lnTo>
                      <a:pt x="30" y="5"/>
                    </a:lnTo>
                    <a:lnTo>
                      <a:pt x="46" y="4"/>
                    </a:lnTo>
                    <a:lnTo>
                      <a:pt x="63" y="4"/>
                    </a:lnTo>
                    <a:lnTo>
                      <a:pt x="77" y="4"/>
                    </a:lnTo>
                    <a:lnTo>
                      <a:pt x="91" y="6"/>
                    </a:lnTo>
                    <a:lnTo>
                      <a:pt x="103" y="13"/>
                    </a:lnTo>
                    <a:lnTo>
                      <a:pt x="111" y="24"/>
                    </a:lnTo>
                    <a:close/>
                  </a:path>
                </a:pathLst>
              </a:custGeom>
              <a:solidFill>
                <a:srgbClr val="bff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flipH="1">
                <a:off x="5562000" y="5907240"/>
                <a:ext cx="16200" cy="17280"/>
              </a:xfrm>
              <a:custGeom>
                <a:avLst/>
                <a:gdLst/>
                <a:ahLst/>
                <a:rect l="l" t="t" r="r" b="b"/>
                <a:pathLst>
                  <a:path w="26" h="34">
                    <a:moveTo>
                      <a:pt x="26" y="16"/>
                    </a:moveTo>
                    <a:lnTo>
                      <a:pt x="26" y="34"/>
                    </a:lnTo>
                    <a:lnTo>
                      <a:pt x="15" y="32"/>
                    </a:lnTo>
                    <a:lnTo>
                      <a:pt x="5" y="24"/>
                    </a:lnTo>
                    <a:lnTo>
                      <a:pt x="0" y="13"/>
                    </a:lnTo>
                    <a:lnTo>
                      <a:pt x="4" y="0"/>
                    </a:lnTo>
                    <a:lnTo>
                      <a:pt x="11" y="1"/>
                    </a:lnTo>
                    <a:lnTo>
                      <a:pt x="17" y="4"/>
                    </a:lnTo>
                    <a:lnTo>
                      <a:pt x="23" y="9"/>
                    </a:lnTo>
                    <a:lnTo>
                      <a:pt x="26" y="16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flipH="1">
                <a:off x="5764320" y="5925960"/>
                <a:ext cx="245160" cy="216000"/>
              </a:xfrm>
              <a:custGeom>
                <a:avLst/>
                <a:gdLst/>
                <a:ahLst/>
                <a:rect l="l" t="t" r="r" b="b"/>
                <a:pathLst>
                  <a:path w="403" h="409">
                    <a:moveTo>
                      <a:pt x="403" y="197"/>
                    </a:moveTo>
                    <a:lnTo>
                      <a:pt x="392" y="227"/>
                    </a:lnTo>
                    <a:lnTo>
                      <a:pt x="377" y="258"/>
                    </a:lnTo>
                    <a:lnTo>
                      <a:pt x="360" y="289"/>
                    </a:lnTo>
                    <a:lnTo>
                      <a:pt x="339" y="319"/>
                    </a:lnTo>
                    <a:lnTo>
                      <a:pt x="316" y="345"/>
                    </a:lnTo>
                    <a:lnTo>
                      <a:pt x="291" y="368"/>
                    </a:lnTo>
                    <a:lnTo>
                      <a:pt x="262" y="386"/>
                    </a:lnTo>
                    <a:lnTo>
                      <a:pt x="232" y="398"/>
                    </a:lnTo>
                    <a:lnTo>
                      <a:pt x="217" y="398"/>
                    </a:lnTo>
                    <a:lnTo>
                      <a:pt x="201" y="398"/>
                    </a:lnTo>
                    <a:lnTo>
                      <a:pt x="186" y="398"/>
                    </a:lnTo>
                    <a:lnTo>
                      <a:pt x="171" y="398"/>
                    </a:lnTo>
                    <a:lnTo>
                      <a:pt x="156" y="397"/>
                    </a:lnTo>
                    <a:lnTo>
                      <a:pt x="141" y="395"/>
                    </a:lnTo>
                    <a:lnTo>
                      <a:pt x="128" y="391"/>
                    </a:lnTo>
                    <a:lnTo>
                      <a:pt x="114" y="384"/>
                    </a:lnTo>
                    <a:lnTo>
                      <a:pt x="105" y="390"/>
                    </a:lnTo>
                    <a:lnTo>
                      <a:pt x="95" y="395"/>
                    </a:lnTo>
                    <a:lnTo>
                      <a:pt x="86" y="401"/>
                    </a:lnTo>
                    <a:lnTo>
                      <a:pt x="75" y="405"/>
                    </a:lnTo>
                    <a:lnTo>
                      <a:pt x="64" y="409"/>
                    </a:lnTo>
                    <a:lnTo>
                      <a:pt x="55" y="409"/>
                    </a:lnTo>
                    <a:lnTo>
                      <a:pt x="44" y="405"/>
                    </a:lnTo>
                    <a:lnTo>
                      <a:pt x="33" y="398"/>
                    </a:lnTo>
                    <a:lnTo>
                      <a:pt x="22" y="393"/>
                    </a:lnTo>
                    <a:lnTo>
                      <a:pt x="18" y="387"/>
                    </a:lnTo>
                    <a:lnTo>
                      <a:pt x="17" y="382"/>
                    </a:lnTo>
                    <a:lnTo>
                      <a:pt x="19" y="376"/>
                    </a:lnTo>
                    <a:lnTo>
                      <a:pt x="21" y="371"/>
                    </a:lnTo>
                    <a:lnTo>
                      <a:pt x="21" y="365"/>
                    </a:lnTo>
                    <a:lnTo>
                      <a:pt x="17" y="361"/>
                    </a:lnTo>
                    <a:lnTo>
                      <a:pt x="6" y="357"/>
                    </a:lnTo>
                    <a:lnTo>
                      <a:pt x="0" y="352"/>
                    </a:lnTo>
                    <a:lnTo>
                      <a:pt x="0" y="345"/>
                    </a:lnTo>
                    <a:lnTo>
                      <a:pt x="3" y="338"/>
                    </a:lnTo>
                    <a:lnTo>
                      <a:pt x="6" y="330"/>
                    </a:lnTo>
                    <a:lnTo>
                      <a:pt x="7" y="325"/>
                    </a:lnTo>
                    <a:lnTo>
                      <a:pt x="11" y="321"/>
                    </a:lnTo>
                    <a:lnTo>
                      <a:pt x="15" y="317"/>
                    </a:lnTo>
                    <a:lnTo>
                      <a:pt x="19" y="314"/>
                    </a:lnTo>
                    <a:lnTo>
                      <a:pt x="33" y="313"/>
                    </a:lnTo>
                    <a:lnTo>
                      <a:pt x="45" y="315"/>
                    </a:lnTo>
                    <a:lnTo>
                      <a:pt x="59" y="321"/>
                    </a:lnTo>
                    <a:lnTo>
                      <a:pt x="71" y="326"/>
                    </a:lnTo>
                    <a:lnTo>
                      <a:pt x="82" y="330"/>
                    </a:lnTo>
                    <a:lnTo>
                      <a:pt x="91" y="330"/>
                    </a:lnTo>
                    <a:lnTo>
                      <a:pt x="99" y="323"/>
                    </a:lnTo>
                    <a:lnTo>
                      <a:pt x="103" y="308"/>
                    </a:lnTo>
                    <a:lnTo>
                      <a:pt x="94" y="296"/>
                    </a:lnTo>
                    <a:lnTo>
                      <a:pt x="83" y="285"/>
                    </a:lnTo>
                    <a:lnTo>
                      <a:pt x="72" y="276"/>
                    </a:lnTo>
                    <a:lnTo>
                      <a:pt x="61" y="265"/>
                    </a:lnTo>
                    <a:lnTo>
                      <a:pt x="51" y="254"/>
                    </a:lnTo>
                    <a:lnTo>
                      <a:pt x="44" y="243"/>
                    </a:lnTo>
                    <a:lnTo>
                      <a:pt x="38" y="231"/>
                    </a:lnTo>
                    <a:lnTo>
                      <a:pt x="38" y="216"/>
                    </a:lnTo>
                    <a:lnTo>
                      <a:pt x="42" y="184"/>
                    </a:lnTo>
                    <a:lnTo>
                      <a:pt x="56" y="156"/>
                    </a:lnTo>
                    <a:lnTo>
                      <a:pt x="75" y="135"/>
                    </a:lnTo>
                    <a:lnTo>
                      <a:pt x="101" y="117"/>
                    </a:lnTo>
                    <a:lnTo>
                      <a:pt x="128" y="102"/>
                    </a:lnTo>
                    <a:lnTo>
                      <a:pt x="155" y="87"/>
                    </a:lnTo>
                    <a:lnTo>
                      <a:pt x="182" y="74"/>
                    </a:lnTo>
                    <a:lnTo>
                      <a:pt x="207" y="57"/>
                    </a:lnTo>
                    <a:lnTo>
                      <a:pt x="293" y="0"/>
                    </a:lnTo>
                    <a:lnTo>
                      <a:pt x="311" y="22"/>
                    </a:lnTo>
                    <a:lnTo>
                      <a:pt x="325" y="47"/>
                    </a:lnTo>
                    <a:lnTo>
                      <a:pt x="337" y="72"/>
                    </a:lnTo>
                    <a:lnTo>
                      <a:pt x="346" y="98"/>
                    </a:lnTo>
                    <a:lnTo>
                      <a:pt x="357" y="124"/>
                    </a:lnTo>
                    <a:lnTo>
                      <a:pt x="369" y="150"/>
                    </a:lnTo>
                    <a:lnTo>
                      <a:pt x="384" y="174"/>
                    </a:lnTo>
                    <a:lnTo>
                      <a:pt x="403" y="19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flipH="1">
                <a:off x="5649480" y="5965920"/>
                <a:ext cx="85320" cy="90360"/>
              </a:xfrm>
              <a:custGeom>
                <a:avLst/>
                <a:gdLst/>
                <a:ahLst/>
                <a:rect l="l" t="t" r="r" b="b"/>
                <a:pathLst>
                  <a:path w="141" h="170">
                    <a:moveTo>
                      <a:pt x="141" y="57"/>
                    </a:moveTo>
                    <a:lnTo>
                      <a:pt x="57" y="170"/>
                    </a:lnTo>
                    <a:lnTo>
                      <a:pt x="50" y="166"/>
                    </a:lnTo>
                    <a:lnTo>
                      <a:pt x="42" y="162"/>
                    </a:lnTo>
                    <a:lnTo>
                      <a:pt x="35" y="158"/>
                    </a:lnTo>
                    <a:lnTo>
                      <a:pt x="29" y="152"/>
                    </a:lnTo>
                    <a:lnTo>
                      <a:pt x="20" y="148"/>
                    </a:lnTo>
                    <a:lnTo>
                      <a:pt x="14" y="143"/>
                    </a:lnTo>
                    <a:lnTo>
                      <a:pt x="7" y="137"/>
                    </a:lnTo>
                    <a:lnTo>
                      <a:pt x="0" y="132"/>
                    </a:lnTo>
                    <a:lnTo>
                      <a:pt x="76" y="0"/>
                    </a:lnTo>
                    <a:lnTo>
                      <a:pt x="84" y="9"/>
                    </a:lnTo>
                    <a:lnTo>
                      <a:pt x="95" y="15"/>
                    </a:lnTo>
                    <a:lnTo>
                      <a:pt x="106" y="21"/>
                    </a:lnTo>
                    <a:lnTo>
                      <a:pt x="117" y="26"/>
                    </a:lnTo>
                    <a:lnTo>
                      <a:pt x="126" y="33"/>
                    </a:lnTo>
                    <a:lnTo>
                      <a:pt x="134" y="40"/>
                    </a:lnTo>
                    <a:lnTo>
                      <a:pt x="140" y="48"/>
                    </a:lnTo>
                    <a:lnTo>
                      <a:pt x="141" y="57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flipH="1">
                <a:off x="5842440" y="5973840"/>
                <a:ext cx="39960" cy="52200"/>
              </a:xfrm>
              <a:custGeom>
                <a:avLst/>
                <a:gdLst/>
                <a:ahLst/>
                <a:rect l="l" t="t" r="r" b="b"/>
                <a:pathLst>
                  <a:path w="65" h="98">
                    <a:moveTo>
                      <a:pt x="65" y="87"/>
                    </a:moveTo>
                    <a:lnTo>
                      <a:pt x="63" y="90"/>
                    </a:lnTo>
                    <a:lnTo>
                      <a:pt x="60" y="93"/>
                    </a:lnTo>
                    <a:lnTo>
                      <a:pt x="57" y="95"/>
                    </a:lnTo>
                    <a:lnTo>
                      <a:pt x="57" y="98"/>
                    </a:lnTo>
                    <a:lnTo>
                      <a:pt x="46" y="98"/>
                    </a:lnTo>
                    <a:lnTo>
                      <a:pt x="42" y="84"/>
                    </a:lnTo>
                    <a:lnTo>
                      <a:pt x="35" y="72"/>
                    </a:lnTo>
                    <a:lnTo>
                      <a:pt x="29" y="60"/>
                    </a:lnTo>
                    <a:lnTo>
                      <a:pt x="21" y="49"/>
                    </a:lnTo>
                    <a:lnTo>
                      <a:pt x="12" y="37"/>
                    </a:lnTo>
                    <a:lnTo>
                      <a:pt x="6" y="25"/>
                    </a:lnTo>
                    <a:lnTo>
                      <a:pt x="2" y="13"/>
                    </a:lnTo>
                    <a:lnTo>
                      <a:pt x="0" y="0"/>
                    </a:lnTo>
                    <a:lnTo>
                      <a:pt x="11" y="7"/>
                    </a:lnTo>
                    <a:lnTo>
                      <a:pt x="22" y="17"/>
                    </a:lnTo>
                    <a:lnTo>
                      <a:pt x="30" y="26"/>
                    </a:lnTo>
                    <a:lnTo>
                      <a:pt x="37" y="38"/>
                    </a:lnTo>
                    <a:lnTo>
                      <a:pt x="45" y="51"/>
                    </a:lnTo>
                    <a:lnTo>
                      <a:pt x="52" y="63"/>
                    </a:lnTo>
                    <a:lnTo>
                      <a:pt x="59" y="75"/>
                    </a:lnTo>
                    <a:lnTo>
                      <a:pt x="65" y="8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flipH="1">
                <a:off x="5759280" y="5973840"/>
                <a:ext cx="19440" cy="30240"/>
              </a:xfrm>
              <a:custGeom>
                <a:avLst/>
                <a:gdLst/>
                <a:ahLst/>
                <a:rect l="l" t="t" r="r" b="b"/>
                <a:pathLst>
                  <a:path w="34" h="57">
                    <a:moveTo>
                      <a:pt x="34" y="23"/>
                    </a:moveTo>
                    <a:lnTo>
                      <a:pt x="31" y="57"/>
                    </a:lnTo>
                    <a:lnTo>
                      <a:pt x="15" y="46"/>
                    </a:lnTo>
                    <a:lnTo>
                      <a:pt x="7" y="32"/>
                    </a:lnTo>
                    <a:lnTo>
                      <a:pt x="3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0" y="7"/>
                    </a:lnTo>
                    <a:lnTo>
                      <a:pt x="29" y="14"/>
                    </a:lnTo>
                    <a:lnTo>
                      <a:pt x="34" y="2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flipH="1">
                <a:off x="5875200" y="5999040"/>
                <a:ext cx="41400" cy="42840"/>
              </a:xfrm>
              <a:custGeom>
                <a:avLst/>
                <a:gdLst/>
                <a:ahLst/>
                <a:rect l="l" t="t" r="r" b="b"/>
                <a:pathLst>
                  <a:path w="69" h="83">
                    <a:moveTo>
                      <a:pt x="69" y="79"/>
                    </a:moveTo>
                    <a:lnTo>
                      <a:pt x="67" y="83"/>
                    </a:lnTo>
                    <a:lnTo>
                      <a:pt x="63" y="83"/>
                    </a:lnTo>
                    <a:lnTo>
                      <a:pt x="59" y="83"/>
                    </a:lnTo>
                    <a:lnTo>
                      <a:pt x="55" y="83"/>
                    </a:lnTo>
                    <a:lnTo>
                      <a:pt x="48" y="72"/>
                    </a:lnTo>
                    <a:lnTo>
                      <a:pt x="40" y="62"/>
                    </a:lnTo>
                    <a:lnTo>
                      <a:pt x="31" y="52"/>
                    </a:lnTo>
                    <a:lnTo>
                      <a:pt x="23" y="44"/>
                    </a:lnTo>
                    <a:lnTo>
                      <a:pt x="15" y="34"/>
                    </a:lnTo>
                    <a:lnTo>
                      <a:pt x="8" y="25"/>
                    </a:lnTo>
                    <a:lnTo>
                      <a:pt x="3" y="13"/>
                    </a:lnTo>
                    <a:lnTo>
                      <a:pt x="0" y="0"/>
                    </a:lnTo>
                    <a:lnTo>
                      <a:pt x="12" y="5"/>
                    </a:lnTo>
                    <a:lnTo>
                      <a:pt x="23" y="11"/>
                    </a:lnTo>
                    <a:lnTo>
                      <a:pt x="33" y="21"/>
                    </a:lnTo>
                    <a:lnTo>
                      <a:pt x="42" y="32"/>
                    </a:lnTo>
                    <a:lnTo>
                      <a:pt x="50" y="44"/>
                    </a:lnTo>
                    <a:lnTo>
                      <a:pt x="57" y="55"/>
                    </a:lnTo>
                    <a:lnTo>
                      <a:pt x="64" y="67"/>
                    </a:lnTo>
                    <a:lnTo>
                      <a:pt x="69" y="7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flipH="1">
                <a:off x="5799240" y="6041880"/>
                <a:ext cx="112320" cy="59040"/>
              </a:xfrm>
              <a:custGeom>
                <a:avLst/>
                <a:gdLst/>
                <a:ahLst/>
                <a:rect l="l" t="t" r="r" b="b"/>
                <a:pathLst>
                  <a:path w="186" h="110">
                    <a:moveTo>
                      <a:pt x="186" y="0"/>
                    </a:moveTo>
                    <a:lnTo>
                      <a:pt x="179" y="14"/>
                    </a:lnTo>
                    <a:lnTo>
                      <a:pt x="173" y="29"/>
                    </a:lnTo>
                    <a:lnTo>
                      <a:pt x="167" y="44"/>
                    </a:lnTo>
                    <a:lnTo>
                      <a:pt x="160" y="59"/>
                    </a:lnTo>
                    <a:lnTo>
                      <a:pt x="154" y="74"/>
                    </a:lnTo>
                    <a:lnTo>
                      <a:pt x="146" y="87"/>
                    </a:lnTo>
                    <a:lnTo>
                      <a:pt x="136" y="99"/>
                    </a:lnTo>
                    <a:lnTo>
                      <a:pt x="125" y="110"/>
                    </a:lnTo>
                    <a:lnTo>
                      <a:pt x="108" y="110"/>
                    </a:lnTo>
                    <a:lnTo>
                      <a:pt x="90" y="110"/>
                    </a:lnTo>
                    <a:lnTo>
                      <a:pt x="72" y="110"/>
                    </a:lnTo>
                    <a:lnTo>
                      <a:pt x="56" y="110"/>
                    </a:lnTo>
                    <a:lnTo>
                      <a:pt x="40" y="107"/>
                    </a:lnTo>
                    <a:lnTo>
                      <a:pt x="25" y="105"/>
                    </a:lnTo>
                    <a:lnTo>
                      <a:pt x="11" y="98"/>
                    </a:lnTo>
                    <a:lnTo>
                      <a:pt x="0" y="88"/>
                    </a:lnTo>
                    <a:lnTo>
                      <a:pt x="18" y="86"/>
                    </a:lnTo>
                    <a:lnTo>
                      <a:pt x="37" y="86"/>
                    </a:lnTo>
                    <a:lnTo>
                      <a:pt x="55" y="88"/>
                    </a:lnTo>
                    <a:lnTo>
                      <a:pt x="74" y="91"/>
                    </a:lnTo>
                    <a:lnTo>
                      <a:pt x="90" y="91"/>
                    </a:lnTo>
                    <a:lnTo>
                      <a:pt x="108" y="90"/>
                    </a:lnTo>
                    <a:lnTo>
                      <a:pt x="122" y="83"/>
                    </a:lnTo>
                    <a:lnTo>
                      <a:pt x="137" y="69"/>
                    </a:lnTo>
                    <a:lnTo>
                      <a:pt x="143" y="59"/>
                    </a:lnTo>
                    <a:lnTo>
                      <a:pt x="147" y="48"/>
                    </a:lnTo>
                    <a:lnTo>
                      <a:pt x="152" y="36"/>
                    </a:lnTo>
                    <a:lnTo>
                      <a:pt x="156" y="23"/>
                    </a:lnTo>
                    <a:lnTo>
                      <a:pt x="162" y="14"/>
                    </a:lnTo>
                    <a:lnTo>
                      <a:pt x="167" y="6"/>
                    </a:lnTo>
                    <a:lnTo>
                      <a:pt x="175" y="0"/>
                    </a:lnTo>
                    <a:lnTo>
                      <a:pt x="1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flipH="1">
                <a:off x="5689440" y="6048360"/>
                <a:ext cx="389160" cy="266760"/>
              </a:xfrm>
              <a:custGeom>
                <a:avLst/>
                <a:gdLst/>
                <a:ahLst/>
                <a:rect l="l" t="t" r="r" b="b"/>
                <a:pathLst>
                  <a:path w="642" h="503">
                    <a:moveTo>
                      <a:pt x="642" y="63"/>
                    </a:moveTo>
                    <a:lnTo>
                      <a:pt x="631" y="89"/>
                    </a:lnTo>
                    <a:lnTo>
                      <a:pt x="619" y="114"/>
                    </a:lnTo>
                    <a:lnTo>
                      <a:pt x="605" y="138"/>
                    </a:lnTo>
                    <a:lnTo>
                      <a:pt x="592" y="162"/>
                    </a:lnTo>
                    <a:lnTo>
                      <a:pt x="577" y="185"/>
                    </a:lnTo>
                    <a:lnTo>
                      <a:pt x="563" y="209"/>
                    </a:lnTo>
                    <a:lnTo>
                      <a:pt x="551" y="233"/>
                    </a:lnTo>
                    <a:lnTo>
                      <a:pt x="539" y="257"/>
                    </a:lnTo>
                    <a:lnTo>
                      <a:pt x="531" y="287"/>
                    </a:lnTo>
                    <a:lnTo>
                      <a:pt x="532" y="319"/>
                    </a:lnTo>
                    <a:lnTo>
                      <a:pt x="538" y="353"/>
                    </a:lnTo>
                    <a:lnTo>
                      <a:pt x="543" y="387"/>
                    </a:lnTo>
                    <a:lnTo>
                      <a:pt x="546" y="418"/>
                    </a:lnTo>
                    <a:lnTo>
                      <a:pt x="539" y="446"/>
                    </a:lnTo>
                    <a:lnTo>
                      <a:pt x="521" y="466"/>
                    </a:lnTo>
                    <a:lnTo>
                      <a:pt x="487" y="479"/>
                    </a:lnTo>
                    <a:lnTo>
                      <a:pt x="462" y="488"/>
                    </a:lnTo>
                    <a:lnTo>
                      <a:pt x="436" y="494"/>
                    </a:lnTo>
                    <a:lnTo>
                      <a:pt x="410" y="498"/>
                    </a:lnTo>
                    <a:lnTo>
                      <a:pt x="383" y="501"/>
                    </a:lnTo>
                    <a:lnTo>
                      <a:pt x="354" y="503"/>
                    </a:lnTo>
                    <a:lnTo>
                      <a:pt x="327" y="503"/>
                    </a:lnTo>
                    <a:lnTo>
                      <a:pt x="300" y="501"/>
                    </a:lnTo>
                    <a:lnTo>
                      <a:pt x="273" y="497"/>
                    </a:lnTo>
                    <a:lnTo>
                      <a:pt x="246" y="492"/>
                    </a:lnTo>
                    <a:lnTo>
                      <a:pt x="219" y="485"/>
                    </a:lnTo>
                    <a:lnTo>
                      <a:pt x="193" y="477"/>
                    </a:lnTo>
                    <a:lnTo>
                      <a:pt x="169" y="467"/>
                    </a:lnTo>
                    <a:lnTo>
                      <a:pt x="144" y="455"/>
                    </a:lnTo>
                    <a:lnTo>
                      <a:pt x="122" y="443"/>
                    </a:lnTo>
                    <a:lnTo>
                      <a:pt x="101" y="428"/>
                    </a:lnTo>
                    <a:lnTo>
                      <a:pt x="82" y="412"/>
                    </a:lnTo>
                    <a:lnTo>
                      <a:pt x="90" y="394"/>
                    </a:lnTo>
                    <a:lnTo>
                      <a:pt x="98" y="378"/>
                    </a:lnTo>
                    <a:lnTo>
                      <a:pt x="105" y="360"/>
                    </a:lnTo>
                    <a:lnTo>
                      <a:pt x="113" y="342"/>
                    </a:lnTo>
                    <a:lnTo>
                      <a:pt x="118" y="323"/>
                    </a:lnTo>
                    <a:lnTo>
                      <a:pt x="124" y="306"/>
                    </a:lnTo>
                    <a:lnTo>
                      <a:pt x="128" y="287"/>
                    </a:lnTo>
                    <a:lnTo>
                      <a:pt x="131" y="269"/>
                    </a:lnTo>
                    <a:lnTo>
                      <a:pt x="122" y="270"/>
                    </a:lnTo>
                    <a:lnTo>
                      <a:pt x="116" y="275"/>
                    </a:lnTo>
                    <a:lnTo>
                      <a:pt x="110" y="281"/>
                    </a:lnTo>
                    <a:lnTo>
                      <a:pt x="106" y="288"/>
                    </a:lnTo>
                    <a:lnTo>
                      <a:pt x="102" y="296"/>
                    </a:lnTo>
                    <a:lnTo>
                      <a:pt x="98" y="303"/>
                    </a:lnTo>
                    <a:lnTo>
                      <a:pt x="94" y="311"/>
                    </a:lnTo>
                    <a:lnTo>
                      <a:pt x="90" y="318"/>
                    </a:lnTo>
                    <a:lnTo>
                      <a:pt x="79" y="319"/>
                    </a:lnTo>
                    <a:lnTo>
                      <a:pt x="67" y="321"/>
                    </a:lnTo>
                    <a:lnTo>
                      <a:pt x="56" y="321"/>
                    </a:lnTo>
                    <a:lnTo>
                      <a:pt x="44" y="319"/>
                    </a:lnTo>
                    <a:lnTo>
                      <a:pt x="34" y="317"/>
                    </a:lnTo>
                    <a:lnTo>
                      <a:pt x="23" y="311"/>
                    </a:lnTo>
                    <a:lnTo>
                      <a:pt x="17" y="304"/>
                    </a:lnTo>
                    <a:lnTo>
                      <a:pt x="10" y="295"/>
                    </a:lnTo>
                    <a:lnTo>
                      <a:pt x="7" y="281"/>
                    </a:lnTo>
                    <a:lnTo>
                      <a:pt x="4" y="265"/>
                    </a:lnTo>
                    <a:lnTo>
                      <a:pt x="2" y="247"/>
                    </a:lnTo>
                    <a:lnTo>
                      <a:pt x="0" y="231"/>
                    </a:lnTo>
                    <a:lnTo>
                      <a:pt x="3" y="216"/>
                    </a:lnTo>
                    <a:lnTo>
                      <a:pt x="11" y="204"/>
                    </a:lnTo>
                    <a:lnTo>
                      <a:pt x="23" y="197"/>
                    </a:lnTo>
                    <a:lnTo>
                      <a:pt x="44" y="196"/>
                    </a:lnTo>
                    <a:lnTo>
                      <a:pt x="61" y="193"/>
                    </a:lnTo>
                    <a:lnTo>
                      <a:pt x="79" y="190"/>
                    </a:lnTo>
                    <a:lnTo>
                      <a:pt x="97" y="189"/>
                    </a:lnTo>
                    <a:lnTo>
                      <a:pt x="114" y="186"/>
                    </a:lnTo>
                    <a:lnTo>
                      <a:pt x="131" y="186"/>
                    </a:lnTo>
                    <a:lnTo>
                      <a:pt x="147" y="189"/>
                    </a:lnTo>
                    <a:lnTo>
                      <a:pt x="163" y="195"/>
                    </a:lnTo>
                    <a:lnTo>
                      <a:pt x="179" y="204"/>
                    </a:lnTo>
                    <a:lnTo>
                      <a:pt x="186" y="204"/>
                    </a:lnTo>
                    <a:lnTo>
                      <a:pt x="192" y="204"/>
                    </a:lnTo>
                    <a:lnTo>
                      <a:pt x="197" y="203"/>
                    </a:lnTo>
                    <a:lnTo>
                      <a:pt x="203" y="200"/>
                    </a:lnTo>
                    <a:lnTo>
                      <a:pt x="208" y="197"/>
                    </a:lnTo>
                    <a:lnTo>
                      <a:pt x="213" y="195"/>
                    </a:lnTo>
                    <a:lnTo>
                      <a:pt x="217" y="190"/>
                    </a:lnTo>
                    <a:lnTo>
                      <a:pt x="223" y="185"/>
                    </a:lnTo>
                    <a:lnTo>
                      <a:pt x="245" y="188"/>
                    </a:lnTo>
                    <a:lnTo>
                      <a:pt x="268" y="192"/>
                    </a:lnTo>
                    <a:lnTo>
                      <a:pt x="292" y="193"/>
                    </a:lnTo>
                    <a:lnTo>
                      <a:pt x="316" y="195"/>
                    </a:lnTo>
                    <a:lnTo>
                      <a:pt x="341" y="193"/>
                    </a:lnTo>
                    <a:lnTo>
                      <a:pt x="364" y="190"/>
                    </a:lnTo>
                    <a:lnTo>
                      <a:pt x="387" y="184"/>
                    </a:lnTo>
                    <a:lnTo>
                      <a:pt x="407" y="174"/>
                    </a:lnTo>
                    <a:lnTo>
                      <a:pt x="429" y="155"/>
                    </a:lnTo>
                    <a:lnTo>
                      <a:pt x="448" y="135"/>
                    </a:lnTo>
                    <a:lnTo>
                      <a:pt x="467" y="114"/>
                    </a:lnTo>
                    <a:lnTo>
                      <a:pt x="483" y="93"/>
                    </a:lnTo>
                    <a:lnTo>
                      <a:pt x="500" y="70"/>
                    </a:lnTo>
                    <a:lnTo>
                      <a:pt x="513" y="47"/>
                    </a:lnTo>
                    <a:lnTo>
                      <a:pt x="527" y="24"/>
                    </a:lnTo>
                    <a:lnTo>
                      <a:pt x="539" y="0"/>
                    </a:lnTo>
                    <a:lnTo>
                      <a:pt x="642" y="63"/>
                    </a:lnTo>
                    <a:close/>
                  </a:path>
                </a:pathLst>
              </a:custGeom>
              <a:solidFill>
                <a:srgbClr val="ff00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5955480" y="6111720"/>
                <a:ext cx="32400" cy="11160"/>
              </a:xfrm>
              <a:custGeom>
                <a:avLst/>
                <a:gdLst/>
                <a:ahLst/>
                <a:rect l="l" t="t" r="r" b="b"/>
                <a:pathLst>
                  <a:path w="54" h="20">
                    <a:moveTo>
                      <a:pt x="54" y="16"/>
                    </a:moveTo>
                    <a:lnTo>
                      <a:pt x="46" y="19"/>
                    </a:lnTo>
                    <a:lnTo>
                      <a:pt x="38" y="20"/>
                    </a:lnTo>
                    <a:lnTo>
                      <a:pt x="28" y="20"/>
                    </a:lnTo>
                    <a:lnTo>
                      <a:pt x="19" y="19"/>
                    </a:lnTo>
                    <a:lnTo>
                      <a:pt x="10" y="18"/>
                    </a:lnTo>
                    <a:lnTo>
                      <a:pt x="4" y="13"/>
                    </a:lnTo>
                    <a:lnTo>
                      <a:pt x="1" y="8"/>
                    </a:lnTo>
                    <a:lnTo>
                      <a:pt x="0" y="0"/>
                    </a:lnTo>
                    <a:lnTo>
                      <a:pt x="8" y="1"/>
                    </a:lnTo>
                    <a:lnTo>
                      <a:pt x="17" y="1"/>
                    </a:lnTo>
                    <a:lnTo>
                      <a:pt x="25" y="0"/>
                    </a:lnTo>
                    <a:lnTo>
                      <a:pt x="34" y="0"/>
                    </a:lnTo>
                    <a:lnTo>
                      <a:pt x="40" y="0"/>
                    </a:lnTo>
                    <a:lnTo>
                      <a:pt x="47" y="3"/>
                    </a:lnTo>
                    <a:lnTo>
                      <a:pt x="51" y="8"/>
                    </a:lnTo>
                    <a:lnTo>
                      <a:pt x="54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>
                <a:off x="6087960" y="6154560"/>
                <a:ext cx="123480" cy="84240"/>
              </a:xfrm>
              <a:custGeom>
                <a:avLst/>
                <a:gdLst/>
                <a:ahLst/>
                <a:rect l="l" t="t" r="r" b="b"/>
                <a:pathLst>
                  <a:path w="202" h="159">
                    <a:moveTo>
                      <a:pt x="195" y="45"/>
                    </a:moveTo>
                    <a:lnTo>
                      <a:pt x="202" y="90"/>
                    </a:lnTo>
                    <a:lnTo>
                      <a:pt x="185" y="95"/>
                    </a:lnTo>
                    <a:lnTo>
                      <a:pt x="168" y="99"/>
                    </a:lnTo>
                    <a:lnTo>
                      <a:pt x="152" y="103"/>
                    </a:lnTo>
                    <a:lnTo>
                      <a:pt x="135" y="107"/>
                    </a:lnTo>
                    <a:lnTo>
                      <a:pt x="120" y="114"/>
                    </a:lnTo>
                    <a:lnTo>
                      <a:pt x="107" y="124"/>
                    </a:lnTo>
                    <a:lnTo>
                      <a:pt x="96" y="137"/>
                    </a:lnTo>
                    <a:lnTo>
                      <a:pt x="88" y="155"/>
                    </a:lnTo>
                    <a:lnTo>
                      <a:pt x="77" y="159"/>
                    </a:lnTo>
                    <a:lnTo>
                      <a:pt x="73" y="143"/>
                    </a:lnTo>
                    <a:lnTo>
                      <a:pt x="76" y="124"/>
                    </a:lnTo>
                    <a:lnTo>
                      <a:pt x="74" y="105"/>
                    </a:lnTo>
                    <a:lnTo>
                      <a:pt x="58" y="90"/>
                    </a:lnTo>
                    <a:lnTo>
                      <a:pt x="47" y="82"/>
                    </a:lnTo>
                    <a:lnTo>
                      <a:pt x="35" y="74"/>
                    </a:lnTo>
                    <a:lnTo>
                      <a:pt x="24" y="64"/>
                    </a:lnTo>
                    <a:lnTo>
                      <a:pt x="15" y="53"/>
                    </a:lnTo>
                    <a:lnTo>
                      <a:pt x="6" y="42"/>
                    </a:lnTo>
                    <a:lnTo>
                      <a:pt x="2" y="29"/>
                    </a:lnTo>
                    <a:lnTo>
                      <a:pt x="0" y="15"/>
                    </a:lnTo>
                    <a:lnTo>
                      <a:pt x="1" y="0"/>
                    </a:lnTo>
                    <a:lnTo>
                      <a:pt x="25" y="7"/>
                    </a:lnTo>
                    <a:lnTo>
                      <a:pt x="49" y="17"/>
                    </a:lnTo>
                    <a:lnTo>
                      <a:pt x="70" y="29"/>
                    </a:lnTo>
                    <a:lnTo>
                      <a:pt x="93" y="41"/>
                    </a:lnTo>
                    <a:lnTo>
                      <a:pt x="116" y="51"/>
                    </a:lnTo>
                    <a:lnTo>
                      <a:pt x="141" y="56"/>
                    </a:lnTo>
                    <a:lnTo>
                      <a:pt x="167" y="55"/>
                    </a:lnTo>
                    <a:lnTo>
                      <a:pt x="195" y="4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flipH="1">
                <a:off x="5775120" y="6292800"/>
                <a:ext cx="307440" cy="111240"/>
              </a:xfrm>
              <a:custGeom>
                <a:avLst/>
                <a:gdLst/>
                <a:ahLst/>
                <a:rect l="l" t="t" r="r" b="b"/>
                <a:pathLst>
                  <a:path w="507" h="211">
                    <a:moveTo>
                      <a:pt x="507" y="47"/>
                    </a:moveTo>
                    <a:lnTo>
                      <a:pt x="499" y="82"/>
                    </a:lnTo>
                    <a:lnTo>
                      <a:pt x="491" y="114"/>
                    </a:lnTo>
                    <a:lnTo>
                      <a:pt x="481" y="146"/>
                    </a:lnTo>
                    <a:lnTo>
                      <a:pt x="470" y="180"/>
                    </a:lnTo>
                    <a:lnTo>
                      <a:pt x="457" y="186"/>
                    </a:lnTo>
                    <a:lnTo>
                      <a:pt x="443" y="195"/>
                    </a:lnTo>
                    <a:lnTo>
                      <a:pt x="430" y="200"/>
                    </a:lnTo>
                    <a:lnTo>
                      <a:pt x="415" y="205"/>
                    </a:lnTo>
                    <a:lnTo>
                      <a:pt x="400" y="209"/>
                    </a:lnTo>
                    <a:lnTo>
                      <a:pt x="383" y="211"/>
                    </a:lnTo>
                    <a:lnTo>
                      <a:pt x="369" y="208"/>
                    </a:lnTo>
                    <a:lnTo>
                      <a:pt x="352" y="203"/>
                    </a:lnTo>
                    <a:lnTo>
                      <a:pt x="347" y="193"/>
                    </a:lnTo>
                    <a:lnTo>
                      <a:pt x="340" y="189"/>
                    </a:lnTo>
                    <a:lnTo>
                      <a:pt x="332" y="186"/>
                    </a:lnTo>
                    <a:lnTo>
                      <a:pt x="324" y="186"/>
                    </a:lnTo>
                    <a:lnTo>
                      <a:pt x="314" y="186"/>
                    </a:lnTo>
                    <a:lnTo>
                      <a:pt x="306" y="186"/>
                    </a:lnTo>
                    <a:lnTo>
                      <a:pt x="297" y="185"/>
                    </a:lnTo>
                    <a:lnTo>
                      <a:pt x="289" y="180"/>
                    </a:lnTo>
                    <a:lnTo>
                      <a:pt x="289" y="173"/>
                    </a:lnTo>
                    <a:lnTo>
                      <a:pt x="293" y="169"/>
                    </a:lnTo>
                    <a:lnTo>
                      <a:pt x="297" y="163"/>
                    </a:lnTo>
                    <a:lnTo>
                      <a:pt x="291" y="158"/>
                    </a:lnTo>
                    <a:lnTo>
                      <a:pt x="301" y="150"/>
                    </a:lnTo>
                    <a:lnTo>
                      <a:pt x="313" y="151"/>
                    </a:lnTo>
                    <a:lnTo>
                      <a:pt x="324" y="150"/>
                    </a:lnTo>
                    <a:lnTo>
                      <a:pt x="327" y="133"/>
                    </a:lnTo>
                    <a:lnTo>
                      <a:pt x="317" y="131"/>
                    </a:lnTo>
                    <a:lnTo>
                      <a:pt x="308" y="129"/>
                    </a:lnTo>
                    <a:lnTo>
                      <a:pt x="298" y="131"/>
                    </a:lnTo>
                    <a:lnTo>
                      <a:pt x="289" y="133"/>
                    </a:lnTo>
                    <a:lnTo>
                      <a:pt x="279" y="138"/>
                    </a:lnTo>
                    <a:lnTo>
                      <a:pt x="271" y="142"/>
                    </a:lnTo>
                    <a:lnTo>
                      <a:pt x="261" y="146"/>
                    </a:lnTo>
                    <a:lnTo>
                      <a:pt x="253" y="150"/>
                    </a:lnTo>
                    <a:lnTo>
                      <a:pt x="245" y="159"/>
                    </a:lnTo>
                    <a:lnTo>
                      <a:pt x="240" y="171"/>
                    </a:lnTo>
                    <a:lnTo>
                      <a:pt x="234" y="181"/>
                    </a:lnTo>
                    <a:lnTo>
                      <a:pt x="223" y="188"/>
                    </a:lnTo>
                    <a:lnTo>
                      <a:pt x="217" y="188"/>
                    </a:lnTo>
                    <a:lnTo>
                      <a:pt x="210" y="188"/>
                    </a:lnTo>
                    <a:lnTo>
                      <a:pt x="202" y="188"/>
                    </a:lnTo>
                    <a:lnTo>
                      <a:pt x="195" y="188"/>
                    </a:lnTo>
                    <a:lnTo>
                      <a:pt x="190" y="189"/>
                    </a:lnTo>
                    <a:lnTo>
                      <a:pt x="183" y="192"/>
                    </a:lnTo>
                    <a:lnTo>
                      <a:pt x="179" y="197"/>
                    </a:lnTo>
                    <a:lnTo>
                      <a:pt x="175" y="203"/>
                    </a:lnTo>
                    <a:lnTo>
                      <a:pt x="158" y="200"/>
                    </a:lnTo>
                    <a:lnTo>
                      <a:pt x="142" y="197"/>
                    </a:lnTo>
                    <a:lnTo>
                      <a:pt x="124" y="196"/>
                    </a:lnTo>
                    <a:lnTo>
                      <a:pt x="108" y="193"/>
                    </a:lnTo>
                    <a:lnTo>
                      <a:pt x="92" y="189"/>
                    </a:lnTo>
                    <a:lnTo>
                      <a:pt x="78" y="182"/>
                    </a:lnTo>
                    <a:lnTo>
                      <a:pt x="66" y="174"/>
                    </a:lnTo>
                    <a:lnTo>
                      <a:pt x="58" y="161"/>
                    </a:lnTo>
                    <a:lnTo>
                      <a:pt x="48" y="154"/>
                    </a:lnTo>
                    <a:lnTo>
                      <a:pt x="36" y="147"/>
                    </a:lnTo>
                    <a:lnTo>
                      <a:pt x="24" y="140"/>
                    </a:lnTo>
                    <a:lnTo>
                      <a:pt x="12" y="132"/>
                    </a:lnTo>
                    <a:lnTo>
                      <a:pt x="2" y="124"/>
                    </a:lnTo>
                    <a:lnTo>
                      <a:pt x="0" y="114"/>
                    </a:lnTo>
                    <a:lnTo>
                      <a:pt x="2" y="102"/>
                    </a:lnTo>
                    <a:lnTo>
                      <a:pt x="16" y="90"/>
                    </a:lnTo>
                    <a:lnTo>
                      <a:pt x="103" y="0"/>
                    </a:lnTo>
                    <a:lnTo>
                      <a:pt x="126" y="10"/>
                    </a:lnTo>
                    <a:lnTo>
                      <a:pt x="149" y="21"/>
                    </a:lnTo>
                    <a:lnTo>
                      <a:pt x="173" y="30"/>
                    </a:lnTo>
                    <a:lnTo>
                      <a:pt x="198" y="40"/>
                    </a:lnTo>
                    <a:lnTo>
                      <a:pt x="223" y="48"/>
                    </a:lnTo>
                    <a:lnTo>
                      <a:pt x="249" y="56"/>
                    </a:lnTo>
                    <a:lnTo>
                      <a:pt x="275" y="63"/>
                    </a:lnTo>
                    <a:lnTo>
                      <a:pt x="301" y="70"/>
                    </a:lnTo>
                    <a:lnTo>
                      <a:pt x="327" y="74"/>
                    </a:lnTo>
                    <a:lnTo>
                      <a:pt x="354" y="76"/>
                    </a:lnTo>
                    <a:lnTo>
                      <a:pt x="379" y="78"/>
                    </a:lnTo>
                    <a:lnTo>
                      <a:pt x="405" y="76"/>
                    </a:lnTo>
                    <a:lnTo>
                      <a:pt x="431" y="72"/>
                    </a:lnTo>
                    <a:lnTo>
                      <a:pt x="457" y="67"/>
                    </a:lnTo>
                    <a:lnTo>
                      <a:pt x="482" y="59"/>
                    </a:lnTo>
                    <a:lnTo>
                      <a:pt x="507" y="47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flipH="1">
                <a:off x="5344200" y="6302520"/>
                <a:ext cx="48960" cy="99720"/>
              </a:xfrm>
              <a:custGeom>
                <a:avLst/>
                <a:gdLst/>
                <a:ahLst/>
                <a:rect l="l" t="t" r="r" b="b"/>
                <a:pathLst>
                  <a:path w="82" h="191">
                    <a:moveTo>
                      <a:pt x="80" y="10"/>
                    </a:moveTo>
                    <a:lnTo>
                      <a:pt x="82" y="37"/>
                    </a:lnTo>
                    <a:lnTo>
                      <a:pt x="78" y="63"/>
                    </a:lnTo>
                    <a:lnTo>
                      <a:pt x="69" y="86"/>
                    </a:lnTo>
                    <a:lnTo>
                      <a:pt x="59" y="107"/>
                    </a:lnTo>
                    <a:lnTo>
                      <a:pt x="46" y="128"/>
                    </a:lnTo>
                    <a:lnTo>
                      <a:pt x="34" y="149"/>
                    </a:lnTo>
                    <a:lnTo>
                      <a:pt x="22" y="170"/>
                    </a:lnTo>
                    <a:lnTo>
                      <a:pt x="12" y="191"/>
                    </a:lnTo>
                    <a:lnTo>
                      <a:pt x="6" y="147"/>
                    </a:lnTo>
                    <a:lnTo>
                      <a:pt x="0" y="101"/>
                    </a:lnTo>
                    <a:lnTo>
                      <a:pt x="2" y="54"/>
                    </a:lnTo>
                    <a:lnTo>
                      <a:pt x="12" y="10"/>
                    </a:lnTo>
                    <a:lnTo>
                      <a:pt x="21" y="10"/>
                    </a:lnTo>
                    <a:lnTo>
                      <a:pt x="29" y="7"/>
                    </a:lnTo>
                    <a:lnTo>
                      <a:pt x="38" y="4"/>
                    </a:lnTo>
                    <a:lnTo>
                      <a:pt x="48" y="1"/>
                    </a:lnTo>
                    <a:lnTo>
                      <a:pt x="57" y="0"/>
                    </a:lnTo>
                    <a:lnTo>
                      <a:pt x="65" y="0"/>
                    </a:lnTo>
                    <a:lnTo>
                      <a:pt x="74" y="3"/>
                    </a:lnTo>
                    <a:lnTo>
                      <a:pt x="80" y="10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flipH="1">
                <a:off x="5365440" y="6305400"/>
                <a:ext cx="116280" cy="263520"/>
              </a:xfrm>
              <a:custGeom>
                <a:avLst/>
                <a:gdLst/>
                <a:ahLst/>
                <a:rect l="l" t="t" r="r" b="b"/>
                <a:pathLst>
                  <a:path w="193" h="500">
                    <a:moveTo>
                      <a:pt x="125" y="1"/>
                    </a:moveTo>
                    <a:lnTo>
                      <a:pt x="124" y="62"/>
                    </a:lnTo>
                    <a:lnTo>
                      <a:pt x="124" y="123"/>
                    </a:lnTo>
                    <a:lnTo>
                      <a:pt x="127" y="185"/>
                    </a:lnTo>
                    <a:lnTo>
                      <a:pt x="132" y="249"/>
                    </a:lnTo>
                    <a:lnTo>
                      <a:pt x="140" y="310"/>
                    </a:lnTo>
                    <a:lnTo>
                      <a:pt x="154" y="371"/>
                    </a:lnTo>
                    <a:lnTo>
                      <a:pt x="170" y="430"/>
                    </a:lnTo>
                    <a:lnTo>
                      <a:pt x="193" y="485"/>
                    </a:lnTo>
                    <a:lnTo>
                      <a:pt x="190" y="491"/>
                    </a:lnTo>
                    <a:lnTo>
                      <a:pt x="186" y="495"/>
                    </a:lnTo>
                    <a:lnTo>
                      <a:pt x="179" y="498"/>
                    </a:lnTo>
                    <a:lnTo>
                      <a:pt x="173" y="500"/>
                    </a:lnTo>
                    <a:lnTo>
                      <a:pt x="166" y="500"/>
                    </a:lnTo>
                    <a:lnTo>
                      <a:pt x="158" y="500"/>
                    </a:lnTo>
                    <a:lnTo>
                      <a:pt x="151" y="499"/>
                    </a:lnTo>
                    <a:lnTo>
                      <a:pt x="144" y="496"/>
                    </a:lnTo>
                    <a:lnTo>
                      <a:pt x="74" y="464"/>
                    </a:lnTo>
                    <a:lnTo>
                      <a:pt x="70" y="434"/>
                    </a:lnTo>
                    <a:lnTo>
                      <a:pt x="70" y="403"/>
                    </a:lnTo>
                    <a:lnTo>
                      <a:pt x="75" y="373"/>
                    </a:lnTo>
                    <a:lnTo>
                      <a:pt x="85" y="344"/>
                    </a:lnTo>
                    <a:lnTo>
                      <a:pt x="68" y="304"/>
                    </a:lnTo>
                    <a:lnTo>
                      <a:pt x="55" y="263"/>
                    </a:lnTo>
                    <a:lnTo>
                      <a:pt x="42" y="222"/>
                    </a:lnTo>
                    <a:lnTo>
                      <a:pt x="34" y="180"/>
                    </a:lnTo>
                    <a:lnTo>
                      <a:pt x="26" y="138"/>
                    </a:lnTo>
                    <a:lnTo>
                      <a:pt x="18" y="96"/>
                    </a:lnTo>
                    <a:lnTo>
                      <a:pt x="10" y="52"/>
                    </a:lnTo>
                    <a:lnTo>
                      <a:pt x="0" y="9"/>
                    </a:lnTo>
                    <a:lnTo>
                      <a:pt x="13" y="4"/>
                    </a:lnTo>
                    <a:lnTo>
                      <a:pt x="28" y="1"/>
                    </a:lnTo>
                    <a:lnTo>
                      <a:pt x="42" y="0"/>
                    </a:lnTo>
                    <a:lnTo>
                      <a:pt x="59" y="0"/>
                    </a:lnTo>
                    <a:lnTo>
                      <a:pt x="76" y="1"/>
                    </a:lnTo>
                    <a:lnTo>
                      <a:pt x="93" y="1"/>
                    </a:lnTo>
                    <a:lnTo>
                      <a:pt x="109" y="1"/>
                    </a:lnTo>
                    <a:lnTo>
                      <a:pt x="125" y="1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flipH="1">
                <a:off x="5996880" y="6402240"/>
                <a:ext cx="145440" cy="1047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40" y="19"/>
                    </a:moveTo>
                    <a:lnTo>
                      <a:pt x="228" y="35"/>
                    </a:lnTo>
                    <a:lnTo>
                      <a:pt x="215" y="51"/>
                    </a:lnTo>
                    <a:lnTo>
                      <a:pt x="201" y="66"/>
                    </a:lnTo>
                    <a:lnTo>
                      <a:pt x="187" y="83"/>
                    </a:lnTo>
                    <a:lnTo>
                      <a:pt x="171" y="97"/>
                    </a:lnTo>
                    <a:lnTo>
                      <a:pt x="155" y="111"/>
                    </a:lnTo>
                    <a:lnTo>
                      <a:pt x="139" y="125"/>
                    </a:lnTo>
                    <a:lnTo>
                      <a:pt x="121" y="135"/>
                    </a:lnTo>
                    <a:lnTo>
                      <a:pt x="117" y="145"/>
                    </a:lnTo>
                    <a:lnTo>
                      <a:pt x="113" y="156"/>
                    </a:lnTo>
                    <a:lnTo>
                      <a:pt x="107" y="165"/>
                    </a:lnTo>
                    <a:lnTo>
                      <a:pt x="101" y="175"/>
                    </a:lnTo>
                    <a:lnTo>
                      <a:pt x="94" y="184"/>
                    </a:lnTo>
                    <a:lnTo>
                      <a:pt x="86" y="191"/>
                    </a:lnTo>
                    <a:lnTo>
                      <a:pt x="78" y="197"/>
                    </a:lnTo>
                    <a:lnTo>
                      <a:pt x="68" y="199"/>
                    </a:lnTo>
                    <a:lnTo>
                      <a:pt x="60" y="198"/>
                    </a:lnTo>
                    <a:lnTo>
                      <a:pt x="50" y="197"/>
                    </a:lnTo>
                    <a:lnTo>
                      <a:pt x="42" y="197"/>
                    </a:lnTo>
                    <a:lnTo>
                      <a:pt x="33" y="195"/>
                    </a:lnTo>
                    <a:lnTo>
                      <a:pt x="25" y="192"/>
                    </a:lnTo>
                    <a:lnTo>
                      <a:pt x="17" y="190"/>
                    </a:lnTo>
                    <a:lnTo>
                      <a:pt x="10" y="184"/>
                    </a:lnTo>
                    <a:lnTo>
                      <a:pt x="3" y="178"/>
                    </a:lnTo>
                    <a:lnTo>
                      <a:pt x="0" y="163"/>
                    </a:lnTo>
                    <a:lnTo>
                      <a:pt x="3" y="153"/>
                    </a:lnTo>
                    <a:lnTo>
                      <a:pt x="8" y="145"/>
                    </a:lnTo>
                    <a:lnTo>
                      <a:pt x="18" y="141"/>
                    </a:lnTo>
                    <a:lnTo>
                      <a:pt x="27" y="137"/>
                    </a:lnTo>
                    <a:lnTo>
                      <a:pt x="40" y="134"/>
                    </a:lnTo>
                    <a:lnTo>
                      <a:pt x="50" y="131"/>
                    </a:lnTo>
                    <a:lnTo>
                      <a:pt x="60" y="129"/>
                    </a:lnTo>
                    <a:lnTo>
                      <a:pt x="159" y="0"/>
                    </a:lnTo>
                    <a:lnTo>
                      <a:pt x="240" y="19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flipH="1">
                <a:off x="5838480" y="6413400"/>
                <a:ext cx="54360" cy="96840"/>
              </a:xfrm>
              <a:custGeom>
                <a:avLst/>
                <a:gdLst/>
                <a:ahLst/>
                <a:rect l="l" t="t" r="r" b="b"/>
                <a:pathLst>
                  <a:path w="92" h="184">
                    <a:moveTo>
                      <a:pt x="92" y="5"/>
                    </a:moveTo>
                    <a:lnTo>
                      <a:pt x="90" y="19"/>
                    </a:lnTo>
                    <a:lnTo>
                      <a:pt x="87" y="34"/>
                    </a:lnTo>
                    <a:lnTo>
                      <a:pt x="83" y="49"/>
                    </a:lnTo>
                    <a:lnTo>
                      <a:pt x="78" y="64"/>
                    </a:lnTo>
                    <a:lnTo>
                      <a:pt x="71" y="79"/>
                    </a:lnTo>
                    <a:lnTo>
                      <a:pt x="64" y="94"/>
                    </a:lnTo>
                    <a:lnTo>
                      <a:pt x="57" y="108"/>
                    </a:lnTo>
                    <a:lnTo>
                      <a:pt x="50" y="121"/>
                    </a:lnTo>
                    <a:lnTo>
                      <a:pt x="53" y="140"/>
                    </a:lnTo>
                    <a:lnTo>
                      <a:pt x="61" y="157"/>
                    </a:lnTo>
                    <a:lnTo>
                      <a:pt x="73" y="171"/>
                    </a:lnTo>
                    <a:lnTo>
                      <a:pt x="84" y="184"/>
                    </a:lnTo>
                    <a:lnTo>
                      <a:pt x="73" y="182"/>
                    </a:lnTo>
                    <a:lnTo>
                      <a:pt x="63" y="180"/>
                    </a:lnTo>
                    <a:lnTo>
                      <a:pt x="52" y="174"/>
                    </a:lnTo>
                    <a:lnTo>
                      <a:pt x="41" y="169"/>
                    </a:lnTo>
                    <a:lnTo>
                      <a:pt x="30" y="162"/>
                    </a:lnTo>
                    <a:lnTo>
                      <a:pt x="21" y="154"/>
                    </a:lnTo>
                    <a:lnTo>
                      <a:pt x="10" y="146"/>
                    </a:lnTo>
                    <a:lnTo>
                      <a:pt x="0" y="138"/>
                    </a:lnTo>
                    <a:lnTo>
                      <a:pt x="31" y="0"/>
                    </a:lnTo>
                    <a:lnTo>
                      <a:pt x="40" y="0"/>
                    </a:lnTo>
                    <a:lnTo>
                      <a:pt x="46" y="2"/>
                    </a:lnTo>
                    <a:lnTo>
                      <a:pt x="53" y="3"/>
                    </a:lnTo>
                    <a:lnTo>
                      <a:pt x="61" y="5"/>
                    </a:lnTo>
                    <a:lnTo>
                      <a:pt x="68" y="5"/>
                    </a:lnTo>
                    <a:lnTo>
                      <a:pt x="76" y="6"/>
                    </a:lnTo>
                    <a:lnTo>
                      <a:pt x="84" y="6"/>
                    </a:lnTo>
                    <a:lnTo>
                      <a:pt x="92" y="5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H="1">
                <a:off x="5451480" y="6453360"/>
                <a:ext cx="38160" cy="72720"/>
              </a:xfrm>
              <a:custGeom>
                <a:avLst/>
                <a:gdLst/>
                <a:ahLst/>
                <a:rect l="l" t="t" r="r" b="b"/>
                <a:pathLst>
                  <a:path w="62" h="138">
                    <a:moveTo>
                      <a:pt x="48" y="113"/>
                    </a:moveTo>
                    <a:lnTo>
                      <a:pt x="48" y="120"/>
                    </a:lnTo>
                    <a:lnTo>
                      <a:pt x="48" y="125"/>
                    </a:lnTo>
                    <a:lnTo>
                      <a:pt x="48" y="132"/>
                    </a:lnTo>
                    <a:lnTo>
                      <a:pt x="46" y="138"/>
                    </a:lnTo>
                    <a:lnTo>
                      <a:pt x="36" y="132"/>
                    </a:lnTo>
                    <a:lnTo>
                      <a:pt x="29" y="125"/>
                    </a:lnTo>
                    <a:lnTo>
                      <a:pt x="23" y="117"/>
                    </a:lnTo>
                    <a:lnTo>
                      <a:pt x="17" y="109"/>
                    </a:lnTo>
                    <a:lnTo>
                      <a:pt x="12" y="101"/>
                    </a:lnTo>
                    <a:lnTo>
                      <a:pt x="8" y="93"/>
                    </a:lnTo>
                    <a:lnTo>
                      <a:pt x="4" y="85"/>
                    </a:lnTo>
                    <a:lnTo>
                      <a:pt x="0" y="76"/>
                    </a:lnTo>
                    <a:lnTo>
                      <a:pt x="32" y="0"/>
                    </a:lnTo>
                    <a:lnTo>
                      <a:pt x="40" y="13"/>
                    </a:lnTo>
                    <a:lnTo>
                      <a:pt x="48" y="26"/>
                    </a:lnTo>
                    <a:lnTo>
                      <a:pt x="54" y="40"/>
                    </a:lnTo>
                    <a:lnTo>
                      <a:pt x="59" y="55"/>
                    </a:lnTo>
                    <a:lnTo>
                      <a:pt x="62" y="70"/>
                    </a:lnTo>
                    <a:lnTo>
                      <a:pt x="61" y="85"/>
                    </a:lnTo>
                    <a:lnTo>
                      <a:pt x="57" y="100"/>
                    </a:lnTo>
                    <a:lnTo>
                      <a:pt x="48" y="113"/>
                    </a:lnTo>
                    <a:close/>
                  </a:path>
                </a:pathLst>
              </a:custGeom>
              <a:solidFill>
                <a:srgbClr val="f2bf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flipH="1">
                <a:off x="6071400" y="6481800"/>
                <a:ext cx="158040" cy="65160"/>
              </a:xfrm>
              <a:custGeom>
                <a:avLst/>
                <a:gdLst/>
                <a:ahLst/>
                <a:rect l="l" t="t" r="r" b="b"/>
                <a:pathLst>
                  <a:path w="261" h="125">
                    <a:moveTo>
                      <a:pt x="158" y="66"/>
                    </a:moveTo>
                    <a:lnTo>
                      <a:pt x="173" y="70"/>
                    </a:lnTo>
                    <a:lnTo>
                      <a:pt x="186" y="72"/>
                    </a:lnTo>
                    <a:lnTo>
                      <a:pt x="201" y="72"/>
                    </a:lnTo>
                    <a:lnTo>
                      <a:pt x="215" y="72"/>
                    </a:lnTo>
                    <a:lnTo>
                      <a:pt x="227" y="70"/>
                    </a:lnTo>
                    <a:lnTo>
                      <a:pt x="239" y="67"/>
                    </a:lnTo>
                    <a:lnTo>
                      <a:pt x="251" y="61"/>
                    </a:lnTo>
                    <a:lnTo>
                      <a:pt x="261" y="55"/>
                    </a:lnTo>
                    <a:lnTo>
                      <a:pt x="239" y="74"/>
                    </a:lnTo>
                    <a:lnTo>
                      <a:pt x="216" y="89"/>
                    </a:lnTo>
                    <a:lnTo>
                      <a:pt x="192" y="99"/>
                    </a:lnTo>
                    <a:lnTo>
                      <a:pt x="165" y="106"/>
                    </a:lnTo>
                    <a:lnTo>
                      <a:pt x="137" y="113"/>
                    </a:lnTo>
                    <a:lnTo>
                      <a:pt x="109" y="117"/>
                    </a:lnTo>
                    <a:lnTo>
                      <a:pt x="81" y="121"/>
                    </a:lnTo>
                    <a:lnTo>
                      <a:pt x="52" y="125"/>
                    </a:lnTo>
                    <a:lnTo>
                      <a:pt x="47" y="124"/>
                    </a:lnTo>
                    <a:lnTo>
                      <a:pt x="40" y="123"/>
                    </a:lnTo>
                    <a:lnTo>
                      <a:pt x="33" y="121"/>
                    </a:lnTo>
                    <a:lnTo>
                      <a:pt x="26" y="120"/>
                    </a:lnTo>
                    <a:lnTo>
                      <a:pt x="18" y="117"/>
                    </a:lnTo>
                    <a:lnTo>
                      <a:pt x="11" y="114"/>
                    </a:lnTo>
                    <a:lnTo>
                      <a:pt x="6" y="109"/>
                    </a:lnTo>
                    <a:lnTo>
                      <a:pt x="0" y="104"/>
                    </a:lnTo>
                    <a:lnTo>
                      <a:pt x="3" y="91"/>
                    </a:lnTo>
                    <a:lnTo>
                      <a:pt x="7" y="82"/>
                    </a:lnTo>
                    <a:lnTo>
                      <a:pt x="14" y="72"/>
                    </a:lnTo>
                    <a:lnTo>
                      <a:pt x="22" y="64"/>
                    </a:lnTo>
                    <a:lnTo>
                      <a:pt x="32" y="57"/>
                    </a:lnTo>
                    <a:lnTo>
                      <a:pt x="43" y="51"/>
                    </a:lnTo>
                    <a:lnTo>
                      <a:pt x="52" y="45"/>
                    </a:lnTo>
                    <a:lnTo>
                      <a:pt x="60" y="38"/>
                    </a:lnTo>
                    <a:lnTo>
                      <a:pt x="125" y="0"/>
                    </a:lnTo>
                    <a:lnTo>
                      <a:pt x="124" y="18"/>
                    </a:lnTo>
                    <a:lnTo>
                      <a:pt x="128" y="37"/>
                    </a:lnTo>
                    <a:lnTo>
                      <a:pt x="140" y="55"/>
                    </a:lnTo>
                    <a:lnTo>
                      <a:pt x="158" y="6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flipH="1">
                <a:off x="5796720" y="6496200"/>
                <a:ext cx="112680" cy="87120"/>
              </a:xfrm>
              <a:custGeom>
                <a:avLst/>
                <a:gdLst/>
                <a:ahLst/>
                <a:rect l="l" t="t" r="r" b="b"/>
                <a:pathLst>
                  <a:path w="186" h="164">
                    <a:moveTo>
                      <a:pt x="102" y="56"/>
                    </a:moveTo>
                    <a:lnTo>
                      <a:pt x="120" y="53"/>
                    </a:lnTo>
                    <a:lnTo>
                      <a:pt x="132" y="57"/>
                    </a:lnTo>
                    <a:lnTo>
                      <a:pt x="143" y="66"/>
                    </a:lnTo>
                    <a:lnTo>
                      <a:pt x="151" y="79"/>
                    </a:lnTo>
                    <a:lnTo>
                      <a:pt x="159" y="94"/>
                    </a:lnTo>
                    <a:lnTo>
                      <a:pt x="167" y="108"/>
                    </a:lnTo>
                    <a:lnTo>
                      <a:pt x="175" y="123"/>
                    </a:lnTo>
                    <a:lnTo>
                      <a:pt x="186" y="134"/>
                    </a:lnTo>
                    <a:lnTo>
                      <a:pt x="182" y="164"/>
                    </a:lnTo>
                    <a:lnTo>
                      <a:pt x="156" y="151"/>
                    </a:lnTo>
                    <a:lnTo>
                      <a:pt x="129" y="136"/>
                    </a:lnTo>
                    <a:lnTo>
                      <a:pt x="105" y="119"/>
                    </a:lnTo>
                    <a:lnTo>
                      <a:pt x="80" y="100"/>
                    </a:lnTo>
                    <a:lnTo>
                      <a:pt x="57" y="81"/>
                    </a:lnTo>
                    <a:lnTo>
                      <a:pt x="37" y="60"/>
                    </a:lnTo>
                    <a:lnTo>
                      <a:pt x="18" y="37"/>
                    </a:lnTo>
                    <a:lnTo>
                      <a:pt x="0" y="12"/>
                    </a:lnTo>
                    <a:lnTo>
                      <a:pt x="7" y="3"/>
                    </a:lnTo>
                    <a:lnTo>
                      <a:pt x="17" y="0"/>
                    </a:lnTo>
                    <a:lnTo>
                      <a:pt x="28" y="4"/>
                    </a:lnTo>
                    <a:lnTo>
                      <a:pt x="38" y="9"/>
                    </a:lnTo>
                    <a:lnTo>
                      <a:pt x="43" y="19"/>
                    </a:lnTo>
                    <a:lnTo>
                      <a:pt x="48" y="27"/>
                    </a:lnTo>
                    <a:lnTo>
                      <a:pt x="56" y="34"/>
                    </a:lnTo>
                    <a:lnTo>
                      <a:pt x="64" y="39"/>
                    </a:lnTo>
                    <a:lnTo>
                      <a:pt x="74" y="45"/>
                    </a:lnTo>
                    <a:lnTo>
                      <a:pt x="83" y="47"/>
                    </a:lnTo>
                    <a:lnTo>
                      <a:pt x="93" y="51"/>
                    </a:lnTo>
                    <a:lnTo>
                      <a:pt x="102" y="56"/>
                    </a:lnTo>
                    <a:close/>
                  </a:path>
                </a:pathLst>
              </a:custGeom>
              <a:solidFill>
                <a:srgbClr val="3ff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flipH="1">
                <a:off x="5321880" y="6580080"/>
                <a:ext cx="88920" cy="52560"/>
              </a:xfrm>
              <a:custGeom>
                <a:avLst/>
                <a:gdLst/>
                <a:ahLst/>
                <a:rect l="l" t="t" r="r" b="b"/>
                <a:pathLst>
                  <a:path w="148" h="99">
                    <a:moveTo>
                      <a:pt x="88" y="0"/>
                    </a:moveTo>
                    <a:lnTo>
                      <a:pt x="96" y="10"/>
                    </a:lnTo>
                    <a:lnTo>
                      <a:pt x="103" y="22"/>
                    </a:lnTo>
                    <a:lnTo>
                      <a:pt x="109" y="34"/>
                    </a:lnTo>
                    <a:lnTo>
                      <a:pt x="114" y="46"/>
                    </a:lnTo>
                    <a:lnTo>
                      <a:pt x="119" y="57"/>
                    </a:lnTo>
                    <a:lnTo>
                      <a:pt x="128" y="67"/>
                    </a:lnTo>
                    <a:lnTo>
                      <a:pt x="136" y="75"/>
                    </a:lnTo>
                    <a:lnTo>
                      <a:pt x="148" y="80"/>
                    </a:lnTo>
                    <a:lnTo>
                      <a:pt x="145" y="99"/>
                    </a:lnTo>
                    <a:lnTo>
                      <a:pt x="125" y="93"/>
                    </a:lnTo>
                    <a:lnTo>
                      <a:pt x="105" y="83"/>
                    </a:lnTo>
                    <a:lnTo>
                      <a:pt x="86" y="72"/>
                    </a:lnTo>
                    <a:lnTo>
                      <a:pt x="68" y="59"/>
                    </a:lnTo>
                    <a:lnTo>
                      <a:pt x="50" y="45"/>
                    </a:lnTo>
                    <a:lnTo>
                      <a:pt x="33" y="30"/>
                    </a:lnTo>
                    <a:lnTo>
                      <a:pt x="16" y="15"/>
                    </a:lnTo>
                    <a:lnTo>
                      <a:pt x="0" y="0"/>
                    </a:lnTo>
                    <a:lnTo>
                      <a:pt x="11" y="3"/>
                    </a:lnTo>
                    <a:lnTo>
                      <a:pt x="22" y="6"/>
                    </a:lnTo>
                    <a:lnTo>
                      <a:pt x="34" y="8"/>
                    </a:lnTo>
                    <a:lnTo>
                      <a:pt x="46" y="11"/>
                    </a:lnTo>
                    <a:lnTo>
                      <a:pt x="57" y="11"/>
                    </a:lnTo>
                    <a:lnTo>
                      <a:pt x="68" y="10"/>
                    </a:lnTo>
                    <a:lnTo>
                      <a:pt x="79" y="7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f3f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ccec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5B3B7-07E3-45F3-BA95-74CE2C98CAB9}" type="slidenum">
              <a:t>18</a:t>
            </a:fld>
          </a:p>
        </p:txBody>
      </p:sp>
    </p:spTree>
  </p:cSld>
  <p:transition>
    <p:split dir="in" orient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419360" y="762120"/>
            <a:ext cx="4724280" cy="457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Нет ничего более убедительного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действенности веры,     чем чувство умиротворённост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 удовлетворённост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испытываемое теми,</a:t>
            </a:r>
            <a:r>
              <a:rPr b="0" lang="en-US" sz="32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кто вверил свои жизни </a:t>
            </a:r>
            <a:br>
              <a:rPr sz="3200"/>
            </a:br>
            <a:r>
              <a:rPr b="0" lang="ru-RU" sz="3200" spc="-1" strike="noStrike">
                <a:solidFill>
                  <a:srgbClr val="ffff00"/>
                </a:solidFill>
                <a:latin typeface="Arial Narrow"/>
              </a:rPr>
              <a:t>в руки любящего их Бога</a:t>
            </a:r>
            <a:endParaRPr b="1" lang="en-US" sz="3200" spc="-1" strike="noStrike">
              <a:solidFill>
                <a:srgbClr val="ffff00"/>
              </a:solidFill>
              <a:latin typeface="Tahoma"/>
            </a:endParaRPr>
          </a:p>
        </p:txBody>
      </p:sp>
      <p:grpSp>
        <p:nvGrpSpPr>
          <p:cNvPr id="639" name=""/>
          <p:cNvGrpSpPr/>
          <p:nvPr/>
        </p:nvGrpSpPr>
        <p:grpSpPr>
          <a:xfrm>
            <a:off x="152280" y="762120"/>
            <a:ext cx="4343040" cy="4647600"/>
            <a:chOff x="152280" y="762120"/>
            <a:chExt cx="4343040" cy="4647600"/>
          </a:xfrm>
        </p:grpSpPr>
        <p:sp>
          <p:nvSpPr>
            <p:cNvPr id="640" name=""/>
            <p:cNvSpPr/>
            <p:nvPr/>
          </p:nvSpPr>
          <p:spPr>
            <a:xfrm>
              <a:off x="233280" y="825480"/>
              <a:ext cx="4262040" cy="4584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pic>
          <p:nvPicPr>
            <p:cNvPr id="641" name="" descr=""/>
            <p:cNvPicPr/>
            <p:nvPr/>
          </p:nvPicPr>
          <p:blipFill>
            <a:blip r:embed="rId1"/>
            <a:stretch/>
          </p:blipFill>
          <p:spPr>
            <a:xfrm>
              <a:off x="152280" y="762120"/>
              <a:ext cx="4271040" cy="458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42" name=""/>
          <p:cNvGrpSpPr/>
          <p:nvPr/>
        </p:nvGrpSpPr>
        <p:grpSpPr>
          <a:xfrm>
            <a:off x="5791320" y="6400800"/>
            <a:ext cx="3352680" cy="457200"/>
            <a:chOff x="5791320" y="6400800"/>
            <a:chExt cx="3352680" cy="457200"/>
          </a:xfrm>
        </p:grpSpPr>
        <p:sp>
          <p:nvSpPr>
            <p:cNvPr id="643" name=""/>
            <p:cNvSpPr/>
            <p:nvPr/>
          </p:nvSpPr>
          <p:spPr>
            <a:xfrm>
              <a:off x="57913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2388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32A33FE0-4071-47F4-AA36-2B348359A2FF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645" name="" descr=""/>
          <p:cNvPicPr/>
          <p:nvPr/>
        </p:nvPicPr>
        <p:blipFill>
          <a:blip r:embed="rId2"/>
          <a:stretch/>
        </p:blipFill>
        <p:spPr>
          <a:xfrm>
            <a:off x="5867280" y="5867280"/>
            <a:ext cx="2938680" cy="990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44494-1FCF-4470-BB7D-4C0D000E4DA8}" type="slidenum">
              <a:t>2</a:t>
            </a:fld>
          </a:p>
        </p:txBody>
      </p:sp>
    </p:spTree>
  </p:cSld>
  <p:transition>
    <p:split dir="in" orient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15328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Твёрдого духом Ты хранишь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в совершенном мире, </a:t>
            </a:r>
            <a:br>
              <a:rPr sz="4400"/>
            </a:b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ибо на Тебя уповает он</a:t>
            </a:r>
            <a:r>
              <a:rPr b="1" lang="en-US" sz="4400" spc="-1" strike="noStrike">
                <a:solidFill>
                  <a:srgbClr val="ffff00"/>
                </a:solidFill>
                <a:latin typeface="Arial Narrow"/>
              </a:rPr>
              <a:t>  </a:t>
            </a:r>
            <a:br>
              <a:rPr sz="4400"/>
            </a:br>
            <a:br>
              <a:rPr sz="4400"/>
            </a:br>
            <a:r>
              <a:rPr b="1" i="1" lang="ru-RU" sz="4000" spc="-1" strike="noStrike">
                <a:solidFill>
                  <a:srgbClr val="ffff00"/>
                </a:solidFill>
                <a:latin typeface="Arial Narrow"/>
              </a:rPr>
              <a:t>Исаия</a:t>
            </a:r>
            <a:r>
              <a:rPr b="1" i="1" lang="en-US" sz="4000" spc="-1" strike="noStrike">
                <a:solidFill>
                  <a:srgbClr val="ffff00"/>
                </a:solidFill>
                <a:latin typeface="Arial Narrow"/>
              </a:rPr>
              <a:t> 26:3</a:t>
            </a: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47" name=""/>
          <p:cNvSpPr/>
          <p:nvPr/>
        </p:nvSpPr>
        <p:spPr>
          <a:xfrm>
            <a:off x="588636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9746D7-35ED-4BAF-8509-C746C89D330F}" type="slidenum">
              <a:rPr b="1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57200" y="533520"/>
            <a:ext cx="8229600" cy="579096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304920" y="3276720"/>
            <a:ext cx="3886200" cy="3581280"/>
          </a:xfrm>
          <a:prstGeom prst="rect">
            <a:avLst/>
          </a:prstGeom>
          <a:ln w="0">
            <a:noFill/>
          </a:ln>
        </p:spPr>
      </p:pic>
      <p:pic>
        <p:nvPicPr>
          <p:cNvPr id="651" name="" descr=""/>
          <p:cNvPicPr/>
          <p:nvPr/>
        </p:nvPicPr>
        <p:blipFill>
          <a:blip r:embed="rId2"/>
          <a:stretch/>
        </p:blipFill>
        <p:spPr>
          <a:xfrm>
            <a:off x="597708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E45B-F6FC-45B2-B8A7-DBFB0C9180D6}" type="slidenum">
              <a:t>20</a:t>
            </a:fld>
          </a:p>
        </p:txBody>
      </p:sp>
    </p:spTree>
  </p:cSld>
  <p:transition>
    <p:split dir="in" orient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5" name=""/>
          <p:cNvSpPr/>
          <p:nvPr/>
        </p:nvSpPr>
        <p:spPr>
          <a:xfrm>
            <a:off x="0" y="2743200"/>
            <a:ext cx="9144000" cy="24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66"/>
                </a:solidFill>
                <a:latin typeface="Times New Roman"/>
              </a:rPr>
              <a:t>Полное доверие Богу позволит Ему</a:t>
            </a:r>
            <a:br>
              <a:rPr sz="3200"/>
            </a:br>
            <a:r>
              <a:rPr b="1" lang="ru-RU" sz="2800" spc="-1" strike="noStrike">
                <a:solidFill>
                  <a:srgbClr val="ccecff"/>
                </a:solidFill>
                <a:latin typeface="Times New Roman"/>
              </a:rPr>
              <a:t> </a:t>
            </a:r>
            <a:r>
              <a:rPr b="1" i="1" lang="ru-RU" sz="3600" spc="-1" strike="noStrike">
                <a:solidFill>
                  <a:srgbClr val="000066"/>
                </a:solidFill>
                <a:latin typeface="Times New Roman"/>
              </a:rPr>
              <a:t>наполнить нашу жизнь </a:t>
            </a:r>
            <a:br>
              <a:rPr sz="3600"/>
            </a:br>
            <a:r>
              <a:rPr b="1" i="1" lang="ru-RU" sz="4400" spc="-1" strike="noStrike">
                <a:solidFill>
                  <a:srgbClr val="000066"/>
                </a:solidFill>
                <a:latin typeface="Times New Roman"/>
              </a:rPr>
              <a:t>ПРАЗДНИКОМ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656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1371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37E013-9978-4F2F-A727-F58957C8E8C1}" type="slidenum">
              <a:t>21</a:t>
            </a:fld>
          </a:p>
        </p:txBody>
      </p:sp>
    </p:spTree>
  </p:cSld>
  <p:transition>
    <p:split dir="in" orient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ahoma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63200A-81A3-4359-978C-331C276A1E34}" type="slidenum">
              <a:t>22</a:t>
            </a:fld>
          </a:p>
        </p:txBody>
      </p:sp>
    </p:spTree>
  </p:cSld>
  <p:transition>
    <p:split dir="in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4648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143000"/>
            <a:ext cx="44956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0000"/>
          </a:bodyPr>
          <a:p>
            <a:pPr marL="137160" indent="-13716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Больной считал, </a:t>
            </a:r>
            <a:br>
              <a:rPr sz="6000"/>
            </a:br>
            <a:r>
              <a:rPr b="1" lang="ru-RU" sz="6000" spc="-1" strike="noStrike">
                <a:solidFill>
                  <a:srgbClr val="ffffff"/>
                </a:solidFill>
                <a:latin typeface="Arial Narrow"/>
              </a:rPr>
              <a:t>что его сглазили</a:t>
            </a:r>
            <a:endParaRPr b="0" lang="en-US" sz="60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>
            <a:lum bright="12000"/>
          </a:blip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5562720" y="639144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281640" y="59310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DFF491-66BA-4A3D-88DB-EAF099EDCCD1}" type="slidenum">
              <a:t>3</a:t>
            </a:fld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5867280"/>
            <a:ext cx="52578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610480" y="457200"/>
            <a:ext cx="0" cy="579132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429000" y="2548080"/>
          <a:ext cx="5181480" cy="327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29000" y="2548080"/>
                    <a:ext cx="5181480" cy="327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914400"/>
            <a:ext cx="8381880" cy="266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 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…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.Это должно вам помочь!</a:t>
            </a:r>
            <a:endParaRPr b="0" lang="en-US" sz="4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457200"/>
            <a:ext cx="83055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04920" y="457200"/>
            <a:ext cx="0" cy="54100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64771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12936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618B1-A8F4-4123-BDD0-ADFEB3AE7560}" type="slidenum">
              <a:t>4</a:t>
            </a:fld>
          </a:p>
        </p:txBody>
      </p:sp>
    </p:spTree>
  </p:cSld>
  <p:transition>
    <p:split dir="in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Колдовство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разрушено, </a:t>
            </a:r>
            <a:br>
              <a:rPr sz="4400"/>
            </a:br>
            <a:r>
              <a:rPr b="0" lang="ru-RU" sz="4400" spc="-1" strike="noStrike">
                <a:solidFill>
                  <a:srgbClr val="ffff00"/>
                </a:solidFill>
                <a:latin typeface="Arial Narrow"/>
              </a:rPr>
              <a:t>заклинание снято</a:t>
            </a:r>
            <a:r>
              <a:rPr b="0" lang="en-US" sz="4400" spc="-1" strike="noStrike">
                <a:solidFill>
                  <a:srgbClr val="ffff00"/>
                </a:solidFill>
                <a:latin typeface="Arial Narrow"/>
              </a:rPr>
              <a:t>!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205680" y="5702400"/>
            <a:ext cx="2938320" cy="1155600"/>
          </a:xfrm>
          <a:prstGeom prst="rect">
            <a:avLst/>
          </a:prstGeom>
          <a:ln w="0">
            <a:noFill/>
          </a:ln>
        </p:spPr>
      </p:pic>
      <p:grpSp>
        <p:nvGrpSpPr>
          <p:cNvPr id="106" name=""/>
          <p:cNvGrpSpPr/>
          <p:nvPr/>
        </p:nvGrpSpPr>
        <p:grpSpPr>
          <a:xfrm>
            <a:off x="5334120" y="6400800"/>
            <a:ext cx="3352680" cy="457200"/>
            <a:chOff x="5334120" y="6400800"/>
            <a:chExt cx="3352680" cy="457200"/>
          </a:xfrm>
        </p:grpSpPr>
        <p:sp>
          <p:nvSpPr>
            <p:cNvPr id="107" name=""/>
            <p:cNvSpPr/>
            <p:nvPr/>
          </p:nvSpPr>
          <p:spPr>
            <a:xfrm>
              <a:off x="5334120" y="644508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781680" y="640080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0136AFB4-431F-4C5C-8516-F1D22814B2E2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aphicFrame>
        <p:nvGraphicFramePr>
          <p:cNvPr id="109" name=""/>
          <p:cNvGraphicFramePr/>
          <p:nvPr/>
        </p:nvGraphicFramePr>
        <p:xfrm>
          <a:off x="3886200" y="2371680"/>
          <a:ext cx="5257800" cy="3735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86200" y="2371680"/>
                    <a:ext cx="5257800" cy="373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544CEC-C4A3-435B-8120-F5EC6C79839A}" type="slidenum">
              <a:t>5</a:t>
            </a:fld>
          </a:p>
        </p:txBody>
      </p:sp>
    </p:spTree>
  </p:cSld>
  <p:transition>
    <p:split dir="in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495680" y="533520"/>
            <a:ext cx="4114800" cy="270828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-304920" y="3200400"/>
            <a:ext cx="8229600" cy="317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      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Плацебо!!!</a:t>
            </a:r>
            <a:endParaRPr b="0" lang="en-US" sz="54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В  этом исцелении 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главной оказалась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	</a:t>
            </a:r>
            <a:r>
              <a:rPr b="1" lang="ru-RU" sz="5400" spc="-1" strike="noStrike">
                <a:solidFill>
                  <a:srgbClr val="ffff00"/>
                </a:solidFill>
                <a:latin typeface="Tahoma"/>
              </a:rPr>
              <a:t>вера</a:t>
            </a:r>
            <a:r>
              <a:rPr b="1" lang="ru-RU" sz="40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1" lang="ru-RU" sz="4000" spc="-1" strike="noStrike">
                <a:solidFill>
                  <a:srgbClr val="ffff00"/>
                </a:solidFill>
                <a:latin typeface="Tahoma"/>
              </a:rPr>
              <a:t>пациента</a:t>
            </a:r>
            <a:r>
              <a:rPr b="1" lang="en-US" sz="4000" spc="-1" strike="noStrike">
                <a:solidFill>
                  <a:srgbClr val="ffff00"/>
                </a:solidFill>
                <a:latin typeface="Tahoma"/>
              </a:rPr>
              <a:t>!</a:t>
            </a:r>
            <a:endParaRPr b="0" lang="en-US" sz="4000" spc="-1" strike="noStrike">
              <a:solidFill>
                <a:srgbClr val="ccecff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5791320" y="6477120"/>
            <a:ext cx="3352680" cy="457200"/>
            <a:chOff x="5791320" y="6477120"/>
            <a:chExt cx="3352680" cy="457200"/>
          </a:xfrm>
        </p:grpSpPr>
        <p:sp>
          <p:nvSpPr>
            <p:cNvPr id="114" name=""/>
            <p:cNvSpPr/>
            <p:nvPr/>
          </p:nvSpPr>
          <p:spPr>
            <a:xfrm>
              <a:off x="5791320" y="652140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38880" y="647712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97E118A-F06B-4468-99C8-780135451B7D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6205680" y="579132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931EF4-F8A7-48B8-B43C-9820EE355386}" type="slidenum">
              <a:t>6</a:t>
            </a:fld>
          </a:p>
        </p:txBody>
      </p:sp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2286000" y="2590920"/>
          <a:ext cx="4800600" cy="32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2590920"/>
                    <a:ext cx="4800600" cy="32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9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0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CD9B16B2-C574-4AC9-9786-1C8F395CC5B3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 txBox="1"/>
          <p:nvPr/>
        </p:nvSpPr>
        <p:spPr>
          <a:xfrm>
            <a:off x="990720" y="228600"/>
            <a:ext cx="74674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99cc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 следующий день...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99cc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6053040" y="5702400"/>
            <a:ext cx="293868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CFE2E0-A2C0-4299-A200-DDB8C6AF1CF2}" type="slidenum">
              <a:t>7</a:t>
            </a:fld>
          </a:p>
        </p:txBody>
      </p:sp>
    </p:spTree>
  </p:cSld>
  <p:transition>
    <p:split dir="in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3048120" y="914400"/>
          <a:ext cx="6095880" cy="55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914400"/>
                    <a:ext cx="6095880" cy="556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2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2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6D589DBF-462F-4A27-9DFB-4A2F3096DC94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04920" y="533520"/>
            <a:ext cx="5105160" cy="2057400"/>
            <a:chOff x="304920" y="533520"/>
            <a:chExt cx="5105160" cy="2057400"/>
          </a:xfrm>
        </p:grpSpPr>
        <p:sp>
          <p:nvSpPr>
            <p:cNvPr id="130" name=""/>
            <p:cNvSpPr/>
            <p:nvPr/>
          </p:nvSpPr>
          <p:spPr>
            <a:xfrm>
              <a:off x="304920" y="533520"/>
              <a:ext cx="5105160" cy="2057400"/>
            </a:xfrm>
            <a:prstGeom prst="wedgeRoundRectCallout">
              <a:avLst>
                <a:gd name="adj1" fmla="val 67879"/>
                <a:gd name="adj2" fmla="val 69754"/>
                <a:gd name="adj3" fmla="val 16667"/>
              </a:avLst>
            </a:prstGeom>
            <a:solidFill>
              <a:srgbClr val="000000"/>
            </a:solidFill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762120"/>
              <a:ext cx="48006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ahoma"/>
                </a:rPr>
                <a:t>Они все узнали о том, как  вы замечательно снимаете порчу, и хотят, чтобы вы  их тоже исцелили</a:t>
              </a:r>
              <a:r>
                <a:rPr b="1" lang="en-US" sz="2400" spc="-1" strike="noStrike">
                  <a:solidFill>
                    <a:srgbClr val="ffffff"/>
                  </a:solidFill>
                  <a:latin typeface="Tahoma"/>
                </a:rPr>
                <a:t>!</a:t>
              </a: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5943600" y="57150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856F91-52E0-4CF5-BA62-1EFD6A9A63FD}" type="slidenum">
              <a:t>8</a:t>
            </a:fld>
          </a:p>
        </p:txBody>
      </p:sp>
    </p:spTree>
  </p:cSld>
  <p:transition>
    <p:split dir="in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00"/>
            </a:gs>
            <a:gs pos="100000">
              <a:srgbClr val="8c3d9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3" name=""/>
          <p:cNvGraphicFramePr/>
          <p:nvPr/>
        </p:nvGraphicFramePr>
        <p:xfrm>
          <a:off x="6164280" y="1905120"/>
          <a:ext cx="2979720" cy="4698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64280" y="1905120"/>
                    <a:ext cx="2979720" cy="469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685800" y="3352320"/>
            <a:ext cx="6019920" cy="2210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 fontScale="87000"/>
          </a:bodyPr>
          <a:p>
            <a:pPr marL="29844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  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Это ещё и обильный источник доходов</a:t>
            </a: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 </a:t>
            </a:r>
            <a:br>
              <a:rPr sz="4000"/>
            </a:br>
            <a:r>
              <a:rPr b="1" lang="ru-RU" sz="4000" spc="-1" strike="noStrike">
                <a:solidFill>
                  <a:srgbClr val="ffff00"/>
                </a:solidFill>
                <a:latin typeface="Arial Narrow"/>
              </a:rPr>
              <a:t>для </a:t>
            </a:r>
            <a:r>
              <a:rPr b="1" lang="ru-RU" sz="4400" spc="-1" strike="noStrike">
                <a:solidFill>
                  <a:srgbClr val="ffff00"/>
                </a:solidFill>
                <a:latin typeface="Arial Narrow"/>
              </a:rPr>
              <a:t>недобросовестных торговцев</a:t>
            </a:r>
            <a:endParaRPr b="1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36" name=""/>
          <p:cNvGrpSpPr/>
          <p:nvPr/>
        </p:nvGrpSpPr>
        <p:grpSpPr>
          <a:xfrm>
            <a:off x="5638680" y="6391440"/>
            <a:ext cx="3352680" cy="457200"/>
            <a:chOff x="5638680" y="6391440"/>
            <a:chExt cx="3352680" cy="457200"/>
          </a:xfrm>
        </p:grpSpPr>
        <p:sp>
          <p:nvSpPr>
            <p:cNvPr id="137" name=""/>
            <p:cNvSpPr/>
            <p:nvPr/>
          </p:nvSpPr>
          <p:spPr>
            <a:xfrm>
              <a:off x="5638680" y="6435720"/>
              <a:ext cx="1839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086240" y="6391440"/>
              <a:ext cx="1905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fld id="{2742816E-59C7-4D88-B249-EC639DD9C6AC}" type="slidenum">
                <a:rPr b="1" lang="en-US" sz="1400" spc="-1" strike="noStrike">
                  <a:solidFill>
                    <a:srgbClr val="000000"/>
                  </a:solidFill>
                  <a:latin typeface="Tahoma"/>
                </a:rPr>
                <a:t>&lt;number&gt;</a:t>
              </a:fld>
              <a:endParaRPr b="0" lang="en-US" sz="1400" spc="-1" strike="noStrike">
                <a:solidFill>
                  <a:srgbClr val="ccecff"/>
                </a:solidFill>
                <a:latin typeface="Times New Roman"/>
              </a:endParaRPr>
            </a:p>
          </p:txBody>
        </p:sp>
      </p:grpSp>
      <p:sp>
        <p:nvSpPr>
          <p:cNvPr id="139" name=""/>
          <p:cNvSpPr txBox="1"/>
          <p:nvPr/>
        </p:nvSpPr>
        <p:spPr>
          <a:xfrm>
            <a:off x="457200" y="609480"/>
            <a:ext cx="815328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трясающая 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cc99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ла ВЕРЫ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cc99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5943600" y="5702400"/>
            <a:ext cx="2938320" cy="1155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35F9B-091B-44C1-BB43-23F2A8F50D47}" type="slidenum">
              <a:t>9</a:t>
            </a:fld>
          </a:p>
        </p:txBody>
      </p:sp>
    </p:spTree>
  </p:cSld>
  <p:transition>
    <p:split dir="in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4T17:07:32Z</dcterms:created>
  <dc:creator>Cariolinfa Knight</dc:creator>
  <dc:description/>
  <dc:language>en-US</dc:language>
  <cp:lastModifiedBy>naivanova</cp:lastModifiedBy>
  <cp:lastPrinted>2001-01-25T21:38:34Z</cp:lastPrinted>
  <dcterms:modified xsi:type="dcterms:W3CDTF">2005-03-21T10:56:55Z</dcterms:modified>
  <cp:revision>549</cp:revision>
  <dc:subject/>
  <dc:title>CELEBRATIONS</dc:title>
</cp:coreProperties>
</file>